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29.gif" ContentType="image/gif"/>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 id="284" r:id="rId63"/>
    <p:sldId id="285" r:id="rId6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slide" Target="slides/slide29.xml"/><Relationship Id="rId64" Type="http://schemas.openxmlformats.org/officeDocument/2006/relationships/slide" Target="slides/slide30.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6EDE0-410A-45EB-B6C7-89810C7FB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A00F9-76F6-4A0C-AFB1-CC06F5C40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43B5C-5979-45B2-BA11-D81BD58AB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0BE29-6D51-4DDB-869F-BB74314B7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B2517-0079-4B2C-B358-DEEA97F25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5DF86-6417-4036-A335-7CE31D847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E9A8B-F973-4632-93ED-C22CACCA6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69007-D2FC-42D8-9A5C-45FB0BF0D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9DF93-DD95-4A54-B3EB-47F9BB5AB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BC040-C5A4-4AA1-AF21-5FB565D53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6A79E-1869-40E1-B1F9-9423748CA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871A3-6454-414D-9975-4E96FC356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3B6A-C4F5-4570-BC7E-2BBAE2102AA9}" type="slidenum">
              <a:rPr b="0" lang="en-US" sz="1200" spc="-1" strike="noStrike">
                <a:solidFill>
                  <a:srgbClr val="898989"/>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6"/>
          <p:cNvSpPr/>
          <p:nvPr/>
        </p:nvSpPr>
        <p:spPr>
          <a:xfrm>
            <a:off x="0" y="0"/>
            <a:ext cx="8278920" cy="6858000"/>
          </a:xfrm>
          <a:prstGeom prst="rect">
            <a:avLst/>
          </a:prstGeom>
          <a:solidFill>
            <a:srgbClr val="fdfdf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8" name="Group 6"/>
          <p:cNvGrpSpPr/>
          <p:nvPr/>
        </p:nvGrpSpPr>
        <p:grpSpPr>
          <a:xfrm>
            <a:off x="550800" y="579600"/>
            <a:ext cx="5554800" cy="5729040"/>
            <a:chOff x="550800" y="579600"/>
            <a:chExt cx="5554800" cy="5729040"/>
          </a:xfrm>
        </p:grpSpPr>
        <p:sp>
          <p:nvSpPr>
            <p:cNvPr id="499" name="Rectangle 7"/>
            <p:cNvSpPr/>
            <p:nvPr/>
          </p:nvSpPr>
          <p:spPr>
            <a:xfrm>
              <a:off x="550800" y="579600"/>
              <a:ext cx="2461320" cy="5729040"/>
            </a:xfrm>
            <a:prstGeom prst="rect">
              <a:avLst/>
            </a:prstGeom>
            <a:noFill/>
            <a:ln w="38160">
              <a:solidFill>
                <a:srgbClr val="d5b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Rectangle 8"/>
            <p:cNvSpPr/>
            <p:nvPr/>
          </p:nvSpPr>
          <p:spPr>
            <a:xfrm>
              <a:off x="1095120" y="1015200"/>
              <a:ext cx="5010480" cy="485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1" name="Rectangle 9"/>
          <p:cNvSpPr/>
          <p:nvPr/>
        </p:nvSpPr>
        <p:spPr>
          <a:xfrm>
            <a:off x="8772480" y="0"/>
            <a:ext cx="3419640" cy="6858000"/>
          </a:xfrm>
          <a:prstGeom prst="rect">
            <a:avLst/>
          </a:prstGeom>
          <a:solidFill>
            <a:srgbClr val="d5b6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0" y="0"/>
            <a:ext cx="5700600" cy="6858000"/>
          </a:xfrm>
          <a:prstGeom prst="rect">
            <a:avLst/>
          </a:prstGeom>
          <a:solidFill>
            <a:srgbClr val="fbfb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Graphic 6"/>
          <p:cNvSpPr/>
          <p:nvPr/>
        </p:nvSpPr>
        <p:spPr>
          <a:xfrm>
            <a:off x="0" y="4191120"/>
            <a:ext cx="12192120" cy="2666880"/>
          </a:xfrm>
          <a:prstGeom prst="rect">
            <a:avLst/>
          </a:prstGeom>
          <a:solidFill>
            <a:srgbClr val="fbf8e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Freeform: Shape 6"/>
          <p:cNvSpPr/>
          <p:nvPr/>
        </p:nvSpPr>
        <p:spPr>
          <a:xfrm>
            <a:off x="0" y="0"/>
            <a:ext cx="4724280" cy="6858000"/>
          </a:xfrm>
          <a:custGeom>
            <a:avLst/>
            <a:gdLst/>
            <a:ahLst/>
            <a:rect l="l" t="t" r="r" b="b"/>
            <a:pathLst>
              <a:path w="4724400" h="6858000">
                <a:moveTo>
                  <a:pt x="0" y="0"/>
                </a:moveTo>
                <a:lnTo>
                  <a:pt x="2837779" y="0"/>
                </a:lnTo>
                <a:lnTo>
                  <a:pt x="2934021" y="61700"/>
                </a:lnTo>
                <a:cubicBezTo>
                  <a:pt x="4014208" y="791460"/>
                  <a:pt x="4724400" y="2027293"/>
                  <a:pt x="4724400" y="3429000"/>
                </a:cubicBezTo>
                <a:cubicBezTo>
                  <a:pt x="4724400" y="4830708"/>
                  <a:pt x="4014208" y="6066541"/>
                  <a:pt x="2934021" y="6796300"/>
                </a:cubicBezTo>
                <a:lnTo>
                  <a:pt x="2837779" y="6858000"/>
                </a:lnTo>
                <a:lnTo>
                  <a:pt x="0" y="6858000"/>
                </a:lnTo>
                <a:lnTo>
                  <a:pt x="0" y="0"/>
                </a:lnTo>
                <a:close/>
              </a:path>
            </a:pathLst>
          </a:custGeom>
          <a:solidFill>
            <a:srgbClr val="d5b66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09" name="Freeform: Shape 7"/>
          <p:cNvSpPr/>
          <p:nvPr/>
        </p:nvSpPr>
        <p:spPr>
          <a:xfrm>
            <a:off x="0" y="0"/>
            <a:ext cx="4332240" cy="6858000"/>
          </a:xfrm>
          <a:custGeom>
            <a:avLst/>
            <a:gdLst/>
            <a:ahLst/>
            <a:rect l="l" t="t" r="r" b="b"/>
            <a:pathLst>
              <a:path w="4332289" h="6858000">
                <a:moveTo>
                  <a:pt x="0" y="0"/>
                </a:moveTo>
                <a:lnTo>
                  <a:pt x="1968361" y="0"/>
                </a:lnTo>
                <a:lnTo>
                  <a:pt x="2091605" y="48594"/>
                </a:lnTo>
                <a:cubicBezTo>
                  <a:pt x="3408361" y="605535"/>
                  <a:pt x="4332289" y="1909371"/>
                  <a:pt x="4332289" y="3429001"/>
                </a:cubicBezTo>
                <a:cubicBezTo>
                  <a:pt x="4332289" y="4948632"/>
                  <a:pt x="3408361" y="6252468"/>
                  <a:pt x="2091605" y="6809409"/>
                </a:cubicBezTo>
                <a:lnTo>
                  <a:pt x="1968366"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6" name="Group 6"/>
          <p:cNvGrpSpPr/>
          <p:nvPr/>
        </p:nvGrpSpPr>
        <p:grpSpPr>
          <a:xfrm>
            <a:off x="-360" y="3633840"/>
            <a:ext cx="12192480" cy="3224160"/>
            <a:chOff x="-360" y="3633840"/>
            <a:chExt cx="12192480" cy="3224160"/>
          </a:xfrm>
        </p:grpSpPr>
        <p:sp>
          <p:nvSpPr>
            <p:cNvPr id="1077" name="Graphic 6"/>
            <p:cNvSpPr/>
            <p:nvPr/>
          </p:nvSpPr>
          <p:spPr>
            <a:xfrm flipH="1">
              <a:off x="-720" y="3633840"/>
              <a:ext cx="12192120" cy="3224160"/>
            </a:xfrm>
            <a:custGeom>
              <a:avLst/>
              <a:gdLst/>
              <a:ahLst/>
              <a:rect l="l" t="t" r="r" b="b"/>
              <a:pathLst>
                <a:path w="9144000" h="2826804">
                  <a:moveTo>
                    <a:pt x="9144000" y="1062775"/>
                  </a:moveTo>
                  <a:cubicBezTo>
                    <a:pt x="8398193" y="1478065"/>
                    <a:pt x="7286625" y="-123087"/>
                    <a:pt x="6176963" y="556998"/>
                  </a:cubicBezTo>
                  <a:cubicBezTo>
                    <a:pt x="4572000" y="1541883"/>
                    <a:pt x="3792855" y="502705"/>
                    <a:pt x="2366010" y="78843"/>
                  </a:cubicBezTo>
                  <a:cubicBezTo>
                    <a:pt x="1286828" y="-242150"/>
                    <a:pt x="379095" y="505563"/>
                    <a:pt x="0" y="737973"/>
                  </a:cubicBezTo>
                  <a:lnTo>
                    <a:pt x="0" y="2826805"/>
                  </a:lnTo>
                  <a:lnTo>
                    <a:pt x="9144000" y="2826805"/>
                  </a:lnTo>
                  <a:lnTo>
                    <a:pt x="9144000" y="1062775"/>
                  </a:lnTo>
                  <a:close/>
                </a:path>
              </a:pathLst>
            </a:custGeom>
            <a:gradFill rotWithShape="0">
              <a:gsLst>
                <a:gs pos="0">
                  <a:srgbClr val="fbf8ef"/>
                </a:gs>
                <a:gs pos="100000">
                  <a:srgbClr val="d5b665"/>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8" name="Graphic 6"/>
            <p:cNvSpPr/>
            <p:nvPr/>
          </p:nvSpPr>
          <p:spPr>
            <a:xfrm>
              <a:off x="0" y="3633840"/>
              <a:ext cx="12192120" cy="3224160"/>
            </a:xfrm>
            <a:custGeom>
              <a:avLst/>
              <a:gdLst/>
              <a:ahLst/>
              <a:rect l="l" t="t" r="r" b="b"/>
              <a:pathLst>
                <a:path w="9144000" h="2826804">
                  <a:moveTo>
                    <a:pt x="9144000" y="1062775"/>
                  </a:moveTo>
                  <a:cubicBezTo>
                    <a:pt x="8398193" y="1478065"/>
                    <a:pt x="7286625" y="-123087"/>
                    <a:pt x="6176963" y="556998"/>
                  </a:cubicBezTo>
                  <a:cubicBezTo>
                    <a:pt x="4572000" y="1541883"/>
                    <a:pt x="3792855" y="502705"/>
                    <a:pt x="2366010" y="78843"/>
                  </a:cubicBezTo>
                  <a:cubicBezTo>
                    <a:pt x="1286828" y="-242150"/>
                    <a:pt x="379095" y="505563"/>
                    <a:pt x="0" y="737973"/>
                  </a:cubicBezTo>
                  <a:lnTo>
                    <a:pt x="0" y="2826805"/>
                  </a:lnTo>
                  <a:lnTo>
                    <a:pt x="9144000" y="2826805"/>
                  </a:lnTo>
                  <a:lnTo>
                    <a:pt x="9144000" y="1062775"/>
                  </a:lnTo>
                  <a:close/>
                </a:path>
              </a:pathLst>
            </a:custGeom>
            <a:solidFill>
              <a:srgbClr val="d5b66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Graphic 6"/>
          <p:cNvSpPr/>
          <p:nvPr/>
        </p:nvSpPr>
        <p:spPr>
          <a:xfrm>
            <a:off x="0" y="3773520"/>
            <a:ext cx="12192120" cy="3084480"/>
          </a:xfrm>
          <a:prstGeom prst="rect">
            <a:avLst/>
          </a:prstGeom>
          <a:solidFill>
            <a:srgbClr val="d5b66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Oval 6"/>
          <p:cNvSpPr/>
          <p:nvPr/>
        </p:nvSpPr>
        <p:spPr>
          <a:xfrm>
            <a:off x="4199040" y="1531800"/>
            <a:ext cx="3794040" cy="3794400"/>
          </a:xfrm>
          <a:prstGeom prst="ellipse">
            <a:avLst/>
          </a:prstGeom>
          <a:gradFill rotWithShape="0">
            <a:gsLst>
              <a:gs pos="0">
                <a:srgbClr val="fbf8ef"/>
              </a:gs>
              <a:gs pos="100000">
                <a:srgbClr val="d5b66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8e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1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29.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4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7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gif"/><Relationship Id="rId14" Type="http://schemas.openxmlformats.org/officeDocument/2006/relationships/image" Target="../media/image29.gif"/><Relationship Id="rId15" Type="http://schemas.openxmlformats.org/officeDocument/2006/relationships/image" Target="../media/image29.gif"/><Relationship Id="rId16" Type="http://schemas.openxmlformats.org/officeDocument/2006/relationships/image" Target="../media/image29.gif"/><Relationship Id="rId17" Type="http://schemas.openxmlformats.org/officeDocument/2006/relationships/image" Target="../media/image29.gif"/><Relationship Id="rId18" Type="http://schemas.openxmlformats.org/officeDocument/2006/relationships/image" Target="../media/image29.gif"/><Relationship Id="rId19" Type="http://schemas.openxmlformats.org/officeDocument/2006/relationships/image" Target="../media/image29.gif"/><Relationship Id="rId20" Type="http://schemas.openxmlformats.org/officeDocument/2006/relationships/image" Target="../media/image29.gif"/><Relationship Id="rId21" Type="http://schemas.openxmlformats.org/officeDocument/2006/relationships/image" Target="../media/image29.gif"/><Relationship Id="rId22" Type="http://schemas.openxmlformats.org/officeDocument/2006/relationships/image" Target="../media/image29.gif"/><Relationship Id="rId23" Type="http://schemas.openxmlformats.org/officeDocument/2006/relationships/image" Target="../media/image29.gif"/><Relationship Id="rId24" Type="http://schemas.openxmlformats.org/officeDocument/2006/relationships/image" Target="../media/image29.gif"/><Relationship Id="rId25" Type="http://schemas.openxmlformats.org/officeDocument/2006/relationships/slideLayout" Target="../slideLayouts/slideLayout3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37.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349.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TextBox 32"/>
          <p:cNvSpPr/>
          <p:nvPr/>
        </p:nvSpPr>
        <p:spPr>
          <a:xfrm>
            <a:off x="844560" y="2998800"/>
            <a:ext cx="41068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5b665"/>
                </a:solidFill>
                <a:latin typeface="Montserrat ExtraBold"/>
                <a:ea typeface="Poppins"/>
              </a:rPr>
              <a:t>GOLF</a:t>
            </a:r>
            <a:r>
              <a:rPr b="0" lang="en-US" sz="5000" spc="-1" strike="noStrike">
                <a:solidFill>
                  <a:srgbClr val="152d32"/>
                </a:solidFill>
                <a:latin typeface="Montserrat ExtraBold"/>
                <a:ea typeface="Poppins"/>
              </a:rPr>
              <a:t>ERINA</a:t>
            </a:r>
            <a:endParaRPr b="0" lang="en-US" sz="5000" spc="-1" strike="noStrike">
              <a:solidFill>
                <a:srgbClr val="000000"/>
              </a:solidFill>
              <a:latin typeface="Calibri"/>
            </a:endParaRPr>
          </a:p>
        </p:txBody>
      </p:sp>
      <p:sp>
        <p:nvSpPr>
          <p:cNvPr id="1272" name="TextBox 33"/>
          <p:cNvSpPr/>
          <p:nvPr/>
        </p:nvSpPr>
        <p:spPr>
          <a:xfrm>
            <a:off x="871560" y="3838680"/>
            <a:ext cx="4051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62626"/>
                </a:solidFill>
                <a:latin typeface="Poppins"/>
                <a:ea typeface="Poppins"/>
              </a:rPr>
              <a:t>Golf Club and Course Presentation Template</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TextBox 1"/>
          <p:cNvSpPr/>
          <p:nvPr/>
        </p:nvSpPr>
        <p:spPr>
          <a:xfrm>
            <a:off x="3857760" y="866880"/>
            <a:ext cx="4476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Meet Our Coaches</a:t>
            </a:r>
            <a:endParaRPr b="0" lang="en-US" sz="2600" spc="-1" strike="noStrike">
              <a:solidFill>
                <a:srgbClr val="000000"/>
              </a:solidFill>
              <a:latin typeface="Calibri"/>
            </a:endParaRPr>
          </a:p>
        </p:txBody>
      </p:sp>
      <p:grpSp>
        <p:nvGrpSpPr>
          <p:cNvPr id="1355" name="Group 26"/>
          <p:cNvGrpSpPr/>
          <p:nvPr/>
        </p:nvGrpSpPr>
        <p:grpSpPr>
          <a:xfrm>
            <a:off x="2673360" y="3576600"/>
            <a:ext cx="2203560" cy="2203560"/>
            <a:chOff x="2673360" y="3576600"/>
            <a:chExt cx="2203560" cy="2203560"/>
          </a:xfrm>
        </p:grpSpPr>
        <p:sp>
          <p:nvSpPr>
            <p:cNvPr id="1356" name="Rectangle 4"/>
            <p:cNvSpPr/>
            <p:nvPr/>
          </p:nvSpPr>
          <p:spPr>
            <a:xfrm>
              <a:off x="2673360" y="4678200"/>
              <a:ext cx="1101960" cy="1101960"/>
            </a:xfrm>
            <a:prstGeom prst="rect">
              <a:avLst/>
            </a:prstGeom>
            <a:solidFill>
              <a:srgbClr val="d5b6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Rectangle 6"/>
            <p:cNvSpPr/>
            <p:nvPr/>
          </p:nvSpPr>
          <p:spPr>
            <a:xfrm>
              <a:off x="3774960" y="3576600"/>
              <a:ext cx="1101960" cy="1101960"/>
            </a:xfrm>
            <a:prstGeom prst="rect">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58" name="Group 27"/>
          <p:cNvGrpSpPr/>
          <p:nvPr/>
        </p:nvGrpSpPr>
        <p:grpSpPr>
          <a:xfrm>
            <a:off x="7130880" y="1932120"/>
            <a:ext cx="2201760" cy="2203200"/>
            <a:chOff x="7130880" y="1932120"/>
            <a:chExt cx="2201760" cy="2203200"/>
          </a:xfrm>
        </p:grpSpPr>
        <p:sp>
          <p:nvSpPr>
            <p:cNvPr id="1359" name="Rectangle 10"/>
            <p:cNvSpPr/>
            <p:nvPr/>
          </p:nvSpPr>
          <p:spPr>
            <a:xfrm rot="10800000">
              <a:off x="8231760" y="1932120"/>
              <a:ext cx="1100880" cy="1101600"/>
            </a:xfrm>
            <a:prstGeom prst="rect">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0" name="Rectangle 11"/>
            <p:cNvSpPr/>
            <p:nvPr/>
          </p:nvSpPr>
          <p:spPr>
            <a:xfrm rot="10800000">
              <a:off x="7130880" y="3033720"/>
              <a:ext cx="1100880" cy="1101600"/>
            </a:xfrm>
            <a:prstGeom prst="rect">
              <a:avLst/>
            </a:prstGeom>
            <a:solidFill>
              <a:srgbClr val="d5b6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1" name="TextBox 13"/>
          <p:cNvSpPr/>
          <p:nvPr/>
        </p:nvSpPr>
        <p:spPr>
          <a:xfrm>
            <a:off x="4024440" y="1957320"/>
            <a:ext cx="170316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Senior Coach</a:t>
            </a:r>
            <a:endParaRPr b="0" lang="en-US" sz="1100" spc="-1" strike="noStrike">
              <a:solidFill>
                <a:srgbClr val="000000"/>
              </a:solidFill>
              <a:latin typeface="Calibri"/>
            </a:endParaRPr>
          </a:p>
        </p:txBody>
      </p:sp>
      <p:sp>
        <p:nvSpPr>
          <p:cNvPr id="1362" name="TextBox 14"/>
          <p:cNvSpPr/>
          <p:nvPr/>
        </p:nvSpPr>
        <p:spPr>
          <a:xfrm>
            <a:off x="4024440" y="2209680"/>
            <a:ext cx="20667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oppins SemiBold"/>
                <a:ea typeface="Poppins SemiBold"/>
              </a:rPr>
              <a:t>Dan West</a:t>
            </a:r>
            <a:endParaRPr b="0" lang="en-US" sz="1500" spc="-1" strike="noStrike">
              <a:solidFill>
                <a:srgbClr val="000000"/>
              </a:solidFill>
              <a:latin typeface="Calibri"/>
            </a:endParaRPr>
          </a:p>
        </p:txBody>
      </p:sp>
      <p:sp>
        <p:nvSpPr>
          <p:cNvPr id="1363" name="TextBox 15"/>
          <p:cNvSpPr/>
          <p:nvPr/>
        </p:nvSpPr>
        <p:spPr>
          <a:xfrm>
            <a:off x="4024440" y="2523960"/>
            <a:ext cx="2066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rep rehendderit voluptate esse cillum dolore eu fugiat</a:t>
            </a:r>
            <a:endParaRPr b="0" lang="en-US" sz="1100" spc="-1" strike="noStrike">
              <a:solidFill>
                <a:srgbClr val="000000"/>
              </a:solidFill>
              <a:latin typeface="Calibri"/>
            </a:endParaRPr>
          </a:p>
        </p:txBody>
      </p:sp>
      <p:sp>
        <p:nvSpPr>
          <p:cNvPr id="1364" name="TextBox 16"/>
          <p:cNvSpPr/>
          <p:nvPr/>
        </p:nvSpPr>
        <p:spPr>
          <a:xfrm>
            <a:off x="6278400" y="4389480"/>
            <a:ext cx="1703520" cy="2779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Senior Coach</a:t>
            </a:r>
            <a:endParaRPr b="0" lang="en-US" sz="1100" spc="-1" strike="noStrike">
              <a:solidFill>
                <a:srgbClr val="000000"/>
              </a:solidFill>
              <a:latin typeface="Calibri"/>
            </a:endParaRPr>
          </a:p>
        </p:txBody>
      </p:sp>
      <p:sp>
        <p:nvSpPr>
          <p:cNvPr id="1365" name="TextBox 17"/>
          <p:cNvSpPr/>
          <p:nvPr/>
        </p:nvSpPr>
        <p:spPr>
          <a:xfrm>
            <a:off x="5915160" y="4640400"/>
            <a:ext cx="20667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oppins SemiBold"/>
                <a:ea typeface="Poppins SemiBold"/>
              </a:rPr>
              <a:t>Amanda Merry</a:t>
            </a:r>
            <a:endParaRPr b="0" lang="en-US" sz="1500" spc="-1" strike="noStrike">
              <a:solidFill>
                <a:srgbClr val="000000"/>
              </a:solidFill>
              <a:latin typeface="Calibri"/>
            </a:endParaRPr>
          </a:p>
        </p:txBody>
      </p:sp>
      <p:sp>
        <p:nvSpPr>
          <p:cNvPr id="1366" name="TextBox 18"/>
          <p:cNvSpPr/>
          <p:nvPr/>
        </p:nvSpPr>
        <p:spPr>
          <a:xfrm>
            <a:off x="5915160" y="4956120"/>
            <a:ext cx="206676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rep rehendderit voluptate esse cillum dolore eu fugi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TextBox 1"/>
          <p:cNvSpPr/>
          <p:nvPr/>
        </p:nvSpPr>
        <p:spPr>
          <a:xfrm>
            <a:off x="3857760" y="776160"/>
            <a:ext cx="4476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Meet Our Team</a:t>
            </a:r>
            <a:endParaRPr b="0" lang="en-US" sz="2600" spc="-1" strike="noStrike">
              <a:solidFill>
                <a:srgbClr val="000000"/>
              </a:solidFill>
              <a:latin typeface="Calibri"/>
            </a:endParaRPr>
          </a:p>
        </p:txBody>
      </p:sp>
      <p:sp>
        <p:nvSpPr>
          <p:cNvPr id="1368" name="Rectangle 24"/>
          <p:cNvSpPr/>
          <p:nvPr/>
        </p:nvSpPr>
        <p:spPr>
          <a:xfrm>
            <a:off x="568440" y="3046320"/>
            <a:ext cx="3449520" cy="3035520"/>
          </a:xfrm>
          <a:prstGeom prst="rect">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TextBox 5"/>
          <p:cNvSpPr/>
          <p:nvPr/>
        </p:nvSpPr>
        <p:spPr>
          <a:xfrm>
            <a:off x="1441440" y="4313160"/>
            <a:ext cx="1703520" cy="277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Senior Coach</a:t>
            </a:r>
            <a:endParaRPr b="0" lang="en-US" sz="1100" spc="-1" strike="noStrike">
              <a:solidFill>
                <a:srgbClr val="000000"/>
              </a:solidFill>
              <a:latin typeface="Calibri"/>
            </a:endParaRPr>
          </a:p>
        </p:txBody>
      </p:sp>
      <p:sp>
        <p:nvSpPr>
          <p:cNvPr id="1370" name="TextBox 6"/>
          <p:cNvSpPr/>
          <p:nvPr/>
        </p:nvSpPr>
        <p:spPr>
          <a:xfrm>
            <a:off x="1258920" y="4551480"/>
            <a:ext cx="20685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oppins SemiBold"/>
                <a:ea typeface="Poppins SemiBold"/>
              </a:rPr>
              <a:t>Robert Davis</a:t>
            </a:r>
            <a:endParaRPr b="0" lang="en-US" sz="1500" spc="-1" strike="noStrike">
              <a:solidFill>
                <a:srgbClr val="000000"/>
              </a:solidFill>
              <a:latin typeface="Calibri"/>
            </a:endParaRPr>
          </a:p>
        </p:txBody>
      </p:sp>
      <p:sp>
        <p:nvSpPr>
          <p:cNvPr id="1371" name="TextBox 7"/>
          <p:cNvSpPr/>
          <p:nvPr/>
        </p:nvSpPr>
        <p:spPr>
          <a:xfrm>
            <a:off x="1258920" y="4851360"/>
            <a:ext cx="20685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rep rehendderit voluptate esse cillum dolore eu fugiat</a:t>
            </a:r>
            <a:endParaRPr b="0" lang="en-US" sz="1100" spc="-1" strike="noStrike">
              <a:solidFill>
                <a:srgbClr val="000000"/>
              </a:solidFill>
              <a:latin typeface="Calibri"/>
            </a:endParaRPr>
          </a:p>
        </p:txBody>
      </p:sp>
      <p:sp>
        <p:nvSpPr>
          <p:cNvPr id="1372" name="Rectangle 25"/>
          <p:cNvSpPr/>
          <p:nvPr/>
        </p:nvSpPr>
        <p:spPr>
          <a:xfrm>
            <a:off x="568440" y="6013440"/>
            <a:ext cx="3449520" cy="68400"/>
          </a:xfrm>
          <a:prstGeom prst="rect">
            <a:avLst/>
          </a:prstGeom>
          <a:gradFill rotWithShape="0">
            <a:gsLst>
              <a:gs pos="0">
                <a:srgbClr val="ba9c4c"/>
              </a:gs>
              <a:gs pos="100000">
                <a:srgbClr val="ddba5d"/>
              </a:gs>
            </a:gsLst>
            <a:lin ang="18900000"/>
          </a:grad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Rectangle 28"/>
          <p:cNvSpPr/>
          <p:nvPr/>
        </p:nvSpPr>
        <p:spPr>
          <a:xfrm>
            <a:off x="4371840" y="3046320"/>
            <a:ext cx="3448080" cy="3035520"/>
          </a:xfrm>
          <a:prstGeom prst="rect">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4" name="TextBox 30"/>
          <p:cNvSpPr/>
          <p:nvPr/>
        </p:nvSpPr>
        <p:spPr>
          <a:xfrm>
            <a:off x="5243400" y="4313160"/>
            <a:ext cx="1704960" cy="277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Senior Coach</a:t>
            </a:r>
            <a:endParaRPr b="0" lang="en-US" sz="1100" spc="-1" strike="noStrike">
              <a:solidFill>
                <a:srgbClr val="000000"/>
              </a:solidFill>
              <a:latin typeface="Calibri"/>
            </a:endParaRPr>
          </a:p>
        </p:txBody>
      </p:sp>
      <p:sp>
        <p:nvSpPr>
          <p:cNvPr id="1375" name="TextBox 31"/>
          <p:cNvSpPr/>
          <p:nvPr/>
        </p:nvSpPr>
        <p:spPr>
          <a:xfrm>
            <a:off x="5062680" y="4551480"/>
            <a:ext cx="20667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oppins SemiBold"/>
                <a:ea typeface="Poppins SemiBold"/>
              </a:rPr>
              <a:t>Jhon Michale</a:t>
            </a:r>
            <a:endParaRPr b="0" lang="en-US" sz="1500" spc="-1" strike="noStrike">
              <a:solidFill>
                <a:srgbClr val="000000"/>
              </a:solidFill>
              <a:latin typeface="Calibri"/>
            </a:endParaRPr>
          </a:p>
        </p:txBody>
      </p:sp>
      <p:sp>
        <p:nvSpPr>
          <p:cNvPr id="1376" name="TextBox 32"/>
          <p:cNvSpPr/>
          <p:nvPr/>
        </p:nvSpPr>
        <p:spPr>
          <a:xfrm>
            <a:off x="5062680" y="4851360"/>
            <a:ext cx="20667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rep rehendderit voluptate esse cillum dolore eu fugiat</a:t>
            </a:r>
            <a:endParaRPr b="0" lang="en-US" sz="1100" spc="-1" strike="noStrike">
              <a:solidFill>
                <a:srgbClr val="000000"/>
              </a:solidFill>
              <a:latin typeface="Calibri"/>
            </a:endParaRPr>
          </a:p>
        </p:txBody>
      </p:sp>
      <p:sp>
        <p:nvSpPr>
          <p:cNvPr id="1377" name="Rectangle 33"/>
          <p:cNvSpPr/>
          <p:nvPr/>
        </p:nvSpPr>
        <p:spPr>
          <a:xfrm>
            <a:off x="4371840" y="6013440"/>
            <a:ext cx="3448080" cy="68400"/>
          </a:xfrm>
          <a:prstGeom prst="rect">
            <a:avLst/>
          </a:prstGeom>
          <a:gradFill rotWithShape="0">
            <a:gsLst>
              <a:gs pos="0">
                <a:srgbClr val="ba9c4c"/>
              </a:gs>
              <a:gs pos="100000">
                <a:srgbClr val="ddba5d"/>
              </a:gs>
            </a:gsLst>
            <a:lin ang="18900000"/>
          </a:grad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8" name="Rectangle 37"/>
          <p:cNvSpPr/>
          <p:nvPr/>
        </p:nvSpPr>
        <p:spPr>
          <a:xfrm>
            <a:off x="8174160" y="3046320"/>
            <a:ext cx="3449520" cy="3035520"/>
          </a:xfrm>
          <a:prstGeom prst="rect">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9" name="TextBox 39"/>
          <p:cNvSpPr/>
          <p:nvPr/>
        </p:nvSpPr>
        <p:spPr>
          <a:xfrm>
            <a:off x="9047160" y="4313160"/>
            <a:ext cx="1703520" cy="277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Manager</a:t>
            </a:r>
            <a:endParaRPr b="0" lang="en-US" sz="1100" spc="-1" strike="noStrike">
              <a:solidFill>
                <a:srgbClr val="000000"/>
              </a:solidFill>
              <a:latin typeface="Calibri"/>
            </a:endParaRPr>
          </a:p>
        </p:txBody>
      </p:sp>
      <p:sp>
        <p:nvSpPr>
          <p:cNvPr id="1380" name="TextBox 40"/>
          <p:cNvSpPr/>
          <p:nvPr/>
        </p:nvSpPr>
        <p:spPr>
          <a:xfrm>
            <a:off x="8864640" y="4551480"/>
            <a:ext cx="20685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oppins SemiBold"/>
                <a:ea typeface="Poppins SemiBold"/>
              </a:rPr>
              <a:t>Kevin Taylor</a:t>
            </a:r>
            <a:endParaRPr b="0" lang="en-US" sz="1500" spc="-1" strike="noStrike">
              <a:solidFill>
                <a:srgbClr val="000000"/>
              </a:solidFill>
              <a:latin typeface="Calibri"/>
            </a:endParaRPr>
          </a:p>
        </p:txBody>
      </p:sp>
      <p:sp>
        <p:nvSpPr>
          <p:cNvPr id="1381" name="TextBox 41"/>
          <p:cNvSpPr/>
          <p:nvPr/>
        </p:nvSpPr>
        <p:spPr>
          <a:xfrm>
            <a:off x="8864640" y="4851360"/>
            <a:ext cx="20685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rep rehendderit voluptate esse cillum dolore eu fugiat</a:t>
            </a:r>
            <a:endParaRPr b="0" lang="en-US" sz="1100" spc="-1" strike="noStrike">
              <a:solidFill>
                <a:srgbClr val="000000"/>
              </a:solidFill>
              <a:latin typeface="Calibri"/>
            </a:endParaRPr>
          </a:p>
        </p:txBody>
      </p:sp>
      <p:sp>
        <p:nvSpPr>
          <p:cNvPr id="1382" name="Rectangle 42"/>
          <p:cNvSpPr/>
          <p:nvPr/>
        </p:nvSpPr>
        <p:spPr>
          <a:xfrm>
            <a:off x="8174160" y="6013440"/>
            <a:ext cx="3449520" cy="68400"/>
          </a:xfrm>
          <a:prstGeom prst="rect">
            <a:avLst/>
          </a:prstGeom>
          <a:gradFill rotWithShape="0">
            <a:gsLst>
              <a:gs pos="0">
                <a:srgbClr val="ba9c4c"/>
              </a:gs>
              <a:gs pos="100000">
                <a:srgbClr val="ddba5d"/>
              </a:gs>
            </a:gsLst>
            <a:lin ang="18900000"/>
          </a:gradFill>
          <a:ln w="0">
            <a:noFill/>
          </a:ln>
        </p:spPr>
        <p:style>
          <a:lnRef idx="0"/>
          <a:fillRef idx="0"/>
          <a:effectRef idx="0"/>
          <a:fontRef idx="minor"/>
        </p:style>
        <p:txBody>
          <a:bodyPr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3" name="TextBox 46"/>
          <p:cNvSpPr/>
          <p:nvPr/>
        </p:nvSpPr>
        <p:spPr>
          <a:xfrm>
            <a:off x="3618000" y="1203480"/>
            <a:ext cx="49561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Muli"/>
                <a:ea typeface="Poppins Medium"/>
              </a:rPr>
              <a:t>Lorem ipsum dolor sit amet consectetur adipiscing elit sed do eiusmod tempor incididunt ut labore et dolore magna aliqua.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Group 71"/>
          <p:cNvGrpSpPr/>
          <p:nvPr/>
        </p:nvGrpSpPr>
        <p:grpSpPr>
          <a:xfrm>
            <a:off x="914400" y="639360"/>
            <a:ext cx="3449520" cy="5578920"/>
            <a:chOff x="914400" y="639360"/>
            <a:chExt cx="3449520" cy="5578920"/>
          </a:xfrm>
        </p:grpSpPr>
        <p:grpSp>
          <p:nvGrpSpPr>
            <p:cNvPr id="1385" name="Group 69"/>
            <p:cNvGrpSpPr/>
            <p:nvPr/>
          </p:nvGrpSpPr>
          <p:grpSpPr>
            <a:xfrm>
              <a:off x="914400" y="639360"/>
              <a:ext cx="3449520" cy="5578920"/>
              <a:chOff x="914400" y="639360"/>
              <a:chExt cx="3449520" cy="5578920"/>
            </a:xfrm>
          </p:grpSpPr>
          <p:sp>
            <p:nvSpPr>
              <p:cNvPr id="1386" name="Rectangle: Rounded Corners 26"/>
              <p:cNvSpPr/>
              <p:nvPr/>
            </p:nvSpPr>
            <p:spPr>
              <a:xfrm>
                <a:off x="914400" y="639720"/>
                <a:ext cx="3449520" cy="5578560"/>
              </a:xfrm>
              <a:custGeom>
                <a:avLst/>
                <a:gdLst>
                  <a:gd name="textAreaLeft" fmla="*/ 23040 w 3449520"/>
                  <a:gd name="textAreaRight" fmla="*/ 3426480 w 3449520"/>
                  <a:gd name="textAreaTop" fmla="*/ 23040 h 5578560"/>
                  <a:gd name="textAreaBottom" fmla="*/ 5555520 h 5578560"/>
                </a:gdLst>
                <a:ahLst/>
                <a:rect l="textAreaLeft" t="textAreaTop" r="textAreaRight" b="textAreaBottom"/>
                <a:pathLst>
                  <a:path w="21600" h="34930">
                    <a:moveTo>
                      <a:pt x="498" y="0"/>
                    </a:moveTo>
                    <a:arcTo wR="498" hR="498" stAng="16200000" swAng="-5400000"/>
                    <a:lnTo>
                      <a:pt x="0" y="34432"/>
                    </a:lnTo>
                    <a:arcTo wR="498" hR="498" stAng="10800000" swAng="-5400000"/>
                    <a:lnTo>
                      <a:pt x="21102" y="34930"/>
                    </a:lnTo>
                    <a:arcTo wR="498" hR="498" stAng="5400000" swAng="-5400000"/>
                    <a:lnTo>
                      <a:pt x="21600" y="498"/>
                    </a:lnTo>
                    <a:arcTo wR="498" hR="498" stAng="0" swAng="-5400000"/>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7" name="Rectangle: Top Corners Rounded 66"/>
              <p:cNvSpPr/>
              <p:nvPr/>
            </p:nvSpPr>
            <p:spPr>
              <a:xfrm>
                <a:off x="914400" y="639720"/>
                <a:ext cx="3449520" cy="1125000"/>
              </a:xfrm>
              <a:custGeom>
                <a:avLst/>
                <a:gdLst/>
                <a:ahLst/>
                <a:rect l="l" t="t" r="r" b="b"/>
                <a:pathLst>
                  <a:path w="3449052" h="1125520">
                    <a:moveTo>
                      <a:pt x="73294" y="0"/>
                    </a:moveTo>
                    <a:lnTo>
                      <a:pt x="3375758" y="0"/>
                    </a:lnTo>
                    <a:cubicBezTo>
                      <a:pt x="3416237" y="0"/>
                      <a:pt x="3449052" y="32815"/>
                      <a:pt x="3449052" y="73294"/>
                    </a:cubicBezTo>
                    <a:lnTo>
                      <a:pt x="3449052" y="1125520"/>
                    </a:lnTo>
                    <a:lnTo>
                      <a:pt x="3449052" y="1125520"/>
                    </a:lnTo>
                    <a:lnTo>
                      <a:pt x="0" y="1125520"/>
                    </a:lnTo>
                    <a:lnTo>
                      <a:pt x="0" y="1125520"/>
                    </a:lnTo>
                    <a:lnTo>
                      <a:pt x="0" y="73294"/>
                    </a:lnTo>
                    <a:cubicBezTo>
                      <a:pt x="0" y="32815"/>
                      <a:pt x="32815" y="0"/>
                      <a:pt x="73294" y="0"/>
                    </a:cubicBezTo>
                    <a:close/>
                  </a:path>
                </a:pathLst>
              </a:custGeom>
              <a:gradFill rotWithShape="0">
                <a:gsLst>
                  <a:gs pos="0">
                    <a:srgbClr val="032932"/>
                  </a:gs>
                  <a:gs pos="100000">
                    <a:srgbClr val="0e4d5b"/>
                  </a:gs>
                </a:gsLst>
                <a:lin ang="18900000"/>
              </a:gra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388" name="Freeform: Shape 65"/>
              <p:cNvSpPr/>
              <p:nvPr/>
            </p:nvSpPr>
            <p:spPr>
              <a:xfrm rot="10800000">
                <a:off x="914400" y="639000"/>
                <a:ext cx="3449520" cy="646200"/>
              </a:xfrm>
              <a:custGeom>
                <a:avLst/>
                <a:gdLst/>
                <a:ahLst/>
                <a:rect l="l" t="t" r="r" b="b"/>
                <a:pathLst>
                  <a:path w="3449052" h="646675">
                    <a:moveTo>
                      <a:pt x="3375758" y="646675"/>
                    </a:moveTo>
                    <a:lnTo>
                      <a:pt x="73294" y="646675"/>
                    </a:lnTo>
                    <a:cubicBezTo>
                      <a:pt x="32815" y="646675"/>
                      <a:pt x="0" y="613860"/>
                      <a:pt x="0" y="573381"/>
                    </a:cubicBezTo>
                    <a:lnTo>
                      <a:pt x="0" y="390373"/>
                    </a:lnTo>
                    <a:cubicBezTo>
                      <a:pt x="234423" y="267432"/>
                      <a:pt x="795743" y="-128093"/>
                      <a:pt x="1463082" y="41707"/>
                    </a:cubicBezTo>
                    <a:cubicBezTo>
                      <a:pt x="2179972" y="223880"/>
                      <a:pt x="2632455" y="620928"/>
                      <a:pt x="3309270" y="483972"/>
                    </a:cubicBezTo>
                    <a:lnTo>
                      <a:pt x="3449052" y="447870"/>
                    </a:lnTo>
                    <a:lnTo>
                      <a:pt x="3449052" y="573381"/>
                    </a:lnTo>
                    <a:cubicBezTo>
                      <a:pt x="3449052" y="613860"/>
                      <a:pt x="3416237" y="646675"/>
                      <a:pt x="3375758" y="646675"/>
                    </a:cubicBezTo>
                    <a:close/>
                  </a:path>
                </a:pathLst>
              </a:custGeom>
              <a:solidFill>
                <a:srgbClr val="134a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389" name="Rectangle: Rounded Corners 42"/>
            <p:cNvSpPr/>
            <p:nvPr/>
          </p:nvSpPr>
          <p:spPr>
            <a:xfrm>
              <a:off x="2968920" y="1087560"/>
              <a:ext cx="951120" cy="950760"/>
            </a:xfrm>
            <a:prstGeom prst="roundRect">
              <a:avLst>
                <a:gd name="adj" fmla="val 50000"/>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90" name="Group 68"/>
          <p:cNvGrpSpPr/>
          <p:nvPr/>
        </p:nvGrpSpPr>
        <p:grpSpPr>
          <a:xfrm>
            <a:off x="7754760" y="1658880"/>
            <a:ext cx="3571920" cy="3540240"/>
            <a:chOff x="7754760" y="1658880"/>
            <a:chExt cx="3571920" cy="3540240"/>
          </a:xfrm>
        </p:grpSpPr>
        <p:sp>
          <p:nvSpPr>
            <p:cNvPr id="1391" name="Rectangle: Rounded Corners 7"/>
            <p:cNvSpPr/>
            <p:nvPr/>
          </p:nvSpPr>
          <p:spPr>
            <a:xfrm>
              <a:off x="7830720" y="3759480"/>
              <a:ext cx="3495960" cy="75960"/>
            </a:xfrm>
            <a:prstGeom prst="roundRect">
              <a:avLst>
                <a:gd name="adj" fmla="val 50000"/>
              </a:avLst>
            </a:prstGeom>
            <a:solidFill>
              <a:srgbClr val="a6a6a6">
                <a:alpha val="25000"/>
              </a:srgbClr>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2" name="Rectangle: Rounded Corners 8"/>
            <p:cNvSpPr/>
            <p:nvPr/>
          </p:nvSpPr>
          <p:spPr>
            <a:xfrm>
              <a:off x="7830720" y="3759480"/>
              <a:ext cx="2928240" cy="75960"/>
            </a:xfrm>
            <a:prstGeom prst="roundRect">
              <a:avLst>
                <a:gd name="adj" fmla="val 50000"/>
              </a:avLst>
            </a:prstGeom>
            <a:solidFill>
              <a:srgbClr val="d5b665"/>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3" name="TextBox 5"/>
            <p:cNvSpPr/>
            <p:nvPr/>
          </p:nvSpPr>
          <p:spPr>
            <a:xfrm>
              <a:off x="7754760" y="3458520"/>
              <a:ext cx="1510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Poppins SemiBold"/>
                  <a:ea typeface="Open Sans SemiBold"/>
                </a:rPr>
                <a:t>Driving Range</a:t>
              </a:r>
              <a:endParaRPr b="0" lang="en-US" sz="1100" spc="-1" strike="noStrike">
                <a:solidFill>
                  <a:srgbClr val="000000"/>
                </a:solidFill>
                <a:latin typeface="Calibri"/>
              </a:endParaRPr>
            </a:p>
          </p:txBody>
        </p:sp>
        <p:sp>
          <p:nvSpPr>
            <p:cNvPr id="1394" name="TextBox 6"/>
            <p:cNvSpPr/>
            <p:nvPr/>
          </p:nvSpPr>
          <p:spPr>
            <a:xfrm>
              <a:off x="10193040" y="3458520"/>
              <a:ext cx="749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Poppins SemiBold"/>
                  <a:ea typeface="Open Sans SemiBold"/>
                </a:rPr>
                <a:t>75%</a:t>
              </a:r>
              <a:endParaRPr b="0" lang="en-US" sz="1100" spc="-1" strike="noStrike">
                <a:solidFill>
                  <a:srgbClr val="000000"/>
                </a:solidFill>
                <a:latin typeface="Calibri"/>
              </a:endParaRPr>
            </a:p>
          </p:txBody>
        </p:sp>
        <p:sp>
          <p:nvSpPr>
            <p:cNvPr id="1395" name="Rectangle: Rounded Corners 13"/>
            <p:cNvSpPr/>
            <p:nvPr/>
          </p:nvSpPr>
          <p:spPr>
            <a:xfrm>
              <a:off x="7830720" y="4437360"/>
              <a:ext cx="3495960" cy="75960"/>
            </a:xfrm>
            <a:prstGeom prst="roundRect">
              <a:avLst>
                <a:gd name="adj" fmla="val 50000"/>
              </a:avLst>
            </a:prstGeom>
            <a:solidFill>
              <a:srgbClr val="a6a6a6">
                <a:alpha val="25000"/>
              </a:srgbClr>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6" name="Rectangle: Rounded Corners 14"/>
            <p:cNvSpPr/>
            <p:nvPr/>
          </p:nvSpPr>
          <p:spPr>
            <a:xfrm>
              <a:off x="7830720" y="4437360"/>
              <a:ext cx="1828440" cy="75960"/>
            </a:xfrm>
            <a:prstGeom prst="roundRect">
              <a:avLst>
                <a:gd name="adj" fmla="val 50000"/>
              </a:avLst>
            </a:prstGeom>
            <a:solidFill>
              <a:srgbClr val="d5b665"/>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7" name="TextBox 11"/>
            <p:cNvSpPr/>
            <p:nvPr/>
          </p:nvSpPr>
          <p:spPr>
            <a:xfrm>
              <a:off x="7754760" y="4136400"/>
              <a:ext cx="1510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Poppins SemiBold"/>
                  <a:ea typeface="Open Sans SemiBold"/>
                </a:rPr>
                <a:t>Short Game</a:t>
              </a:r>
              <a:endParaRPr b="0" lang="en-US" sz="1100" spc="-1" strike="noStrike">
                <a:solidFill>
                  <a:srgbClr val="000000"/>
                </a:solidFill>
                <a:latin typeface="Calibri"/>
              </a:endParaRPr>
            </a:p>
          </p:txBody>
        </p:sp>
        <p:sp>
          <p:nvSpPr>
            <p:cNvPr id="1398" name="TextBox 12"/>
            <p:cNvSpPr/>
            <p:nvPr/>
          </p:nvSpPr>
          <p:spPr>
            <a:xfrm>
              <a:off x="9126000" y="4136400"/>
              <a:ext cx="7491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Poppins SemiBold"/>
                  <a:ea typeface="Open Sans SemiBold"/>
                </a:rPr>
                <a:t>50%</a:t>
              </a:r>
              <a:endParaRPr b="0" lang="en-US" sz="1100" spc="-1" strike="noStrike">
                <a:solidFill>
                  <a:srgbClr val="000000"/>
                </a:solidFill>
                <a:latin typeface="Calibri"/>
              </a:endParaRPr>
            </a:p>
          </p:txBody>
        </p:sp>
        <p:grpSp>
          <p:nvGrpSpPr>
            <p:cNvPr id="1399" name="Group 16"/>
            <p:cNvGrpSpPr/>
            <p:nvPr/>
          </p:nvGrpSpPr>
          <p:grpSpPr>
            <a:xfrm>
              <a:off x="7830720" y="5123160"/>
              <a:ext cx="3495960" cy="75960"/>
              <a:chOff x="7830720" y="5123160"/>
              <a:chExt cx="3495960" cy="75960"/>
            </a:xfrm>
          </p:grpSpPr>
          <p:sp>
            <p:nvSpPr>
              <p:cNvPr id="1400" name="Rectangle: Rounded Corners 19"/>
              <p:cNvSpPr/>
              <p:nvPr/>
            </p:nvSpPr>
            <p:spPr>
              <a:xfrm>
                <a:off x="7830720" y="5123160"/>
                <a:ext cx="3495960" cy="75960"/>
              </a:xfrm>
              <a:prstGeom prst="roundRect">
                <a:avLst>
                  <a:gd name="adj" fmla="val 50000"/>
                </a:avLst>
              </a:prstGeom>
              <a:solidFill>
                <a:srgbClr val="a6a6a6">
                  <a:alpha val="25000"/>
                </a:srgbClr>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Rectangle: Rounded Corners 20"/>
              <p:cNvSpPr/>
              <p:nvPr/>
            </p:nvSpPr>
            <p:spPr>
              <a:xfrm>
                <a:off x="7830720" y="5123160"/>
                <a:ext cx="3299760" cy="75960"/>
              </a:xfrm>
              <a:prstGeom prst="roundRect">
                <a:avLst>
                  <a:gd name="adj" fmla="val 50000"/>
                </a:avLst>
              </a:prstGeom>
              <a:solidFill>
                <a:srgbClr val="d5b665"/>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02" name="TextBox 17"/>
            <p:cNvSpPr/>
            <p:nvPr/>
          </p:nvSpPr>
          <p:spPr>
            <a:xfrm>
              <a:off x="7754760" y="4822200"/>
              <a:ext cx="1510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Poppins SemiBold"/>
                  <a:ea typeface="Open Sans SemiBold"/>
                </a:rPr>
                <a:t>Putting</a:t>
              </a:r>
              <a:endParaRPr b="0" lang="en-US" sz="1100" spc="-1" strike="noStrike">
                <a:solidFill>
                  <a:srgbClr val="000000"/>
                </a:solidFill>
                <a:latin typeface="Calibri"/>
              </a:endParaRPr>
            </a:p>
          </p:txBody>
        </p:sp>
        <p:sp>
          <p:nvSpPr>
            <p:cNvPr id="1403" name="TextBox 18"/>
            <p:cNvSpPr/>
            <p:nvPr/>
          </p:nvSpPr>
          <p:spPr>
            <a:xfrm>
              <a:off x="10726920" y="4822200"/>
              <a:ext cx="5997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Poppins SemiBold"/>
                  <a:ea typeface="Open Sans SemiBold"/>
                </a:rPr>
                <a:t>98%</a:t>
              </a:r>
              <a:endParaRPr b="0" lang="en-US" sz="1100" spc="-1" strike="noStrike">
                <a:solidFill>
                  <a:srgbClr val="000000"/>
                </a:solidFill>
                <a:latin typeface="Calibri"/>
              </a:endParaRPr>
            </a:p>
          </p:txBody>
        </p:sp>
        <p:sp>
          <p:nvSpPr>
            <p:cNvPr id="1404" name="TextBox 21"/>
            <p:cNvSpPr/>
            <p:nvPr/>
          </p:nvSpPr>
          <p:spPr>
            <a:xfrm>
              <a:off x="7754760" y="1959480"/>
              <a:ext cx="3366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Robert Green </a:t>
              </a:r>
              <a:endParaRPr b="0" lang="en-US" sz="2600" spc="-1" strike="noStrike">
                <a:solidFill>
                  <a:srgbClr val="000000"/>
                </a:solidFill>
                <a:latin typeface="Calibri"/>
              </a:endParaRPr>
            </a:p>
          </p:txBody>
        </p:sp>
        <p:sp>
          <p:nvSpPr>
            <p:cNvPr id="1405" name="TextBox 22"/>
            <p:cNvSpPr/>
            <p:nvPr/>
          </p:nvSpPr>
          <p:spPr>
            <a:xfrm>
              <a:off x="7754760" y="2427840"/>
              <a:ext cx="34959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Muli"/>
                  <a:ea typeface="Poppins Medium"/>
                </a:rPr>
                <a:t>Lorem ipsum dolor sit amet consectetur adipiscing elit sed do eiusmod tempor incididunt ut labore et dolore magna aliqua. </a:t>
              </a:r>
              <a:endParaRPr b="0" lang="en-US" sz="1100" spc="-1" strike="noStrike">
                <a:solidFill>
                  <a:srgbClr val="000000"/>
                </a:solidFill>
                <a:latin typeface="Calibri"/>
              </a:endParaRPr>
            </a:p>
          </p:txBody>
        </p:sp>
        <p:sp>
          <p:nvSpPr>
            <p:cNvPr id="1406" name="TextBox 23"/>
            <p:cNvSpPr/>
            <p:nvPr/>
          </p:nvSpPr>
          <p:spPr>
            <a:xfrm>
              <a:off x="7754760" y="1658880"/>
              <a:ext cx="170424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Golferina Pro Player</a:t>
              </a:r>
              <a:endParaRPr b="0" lang="en-US" sz="1100" spc="-1" strike="noStrike">
                <a:solidFill>
                  <a:srgbClr val="000000"/>
                </a:solidFill>
                <a:latin typeface="Calibri"/>
              </a:endParaRPr>
            </a:p>
          </p:txBody>
        </p:sp>
      </p:grpSp>
      <p:sp>
        <p:nvSpPr>
          <p:cNvPr id="1407" name="TextBox 27"/>
          <p:cNvSpPr/>
          <p:nvPr/>
        </p:nvSpPr>
        <p:spPr>
          <a:xfrm>
            <a:off x="1460520" y="2390760"/>
            <a:ext cx="2357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PERFOMANCE</a:t>
            </a:r>
            <a:endParaRPr b="0" lang="en-US" sz="1100" spc="-1" strike="noStrike">
              <a:solidFill>
                <a:srgbClr val="000000"/>
              </a:solidFill>
              <a:latin typeface="Calibri"/>
            </a:endParaRPr>
          </a:p>
        </p:txBody>
      </p:sp>
      <p:grpSp>
        <p:nvGrpSpPr>
          <p:cNvPr id="1408" name="Group 47"/>
          <p:cNvGrpSpPr/>
          <p:nvPr/>
        </p:nvGrpSpPr>
        <p:grpSpPr>
          <a:xfrm>
            <a:off x="1403280" y="2916360"/>
            <a:ext cx="2960640" cy="876240"/>
            <a:chOff x="1403280" y="2916360"/>
            <a:chExt cx="2960640" cy="876240"/>
          </a:xfrm>
        </p:grpSpPr>
        <p:sp>
          <p:nvSpPr>
            <p:cNvPr id="1409" name="Rectangle: Rounded Corners 29"/>
            <p:cNvSpPr/>
            <p:nvPr/>
          </p:nvSpPr>
          <p:spPr>
            <a:xfrm>
              <a:off x="1403280" y="2916360"/>
              <a:ext cx="875160" cy="876240"/>
            </a:xfrm>
            <a:custGeom>
              <a:avLst/>
              <a:gdLst>
                <a:gd name="textAreaLeft" fmla="*/ 42480 w 875160"/>
                <a:gd name="textAreaRight" fmla="*/ 832680 w 875160"/>
                <a:gd name="textAreaTop" fmla="*/ 42480 h 876240"/>
                <a:gd name="textAreaBottom" fmla="*/ 833760 h 876240"/>
              </a:gdLst>
              <a:ahLst/>
              <a:rect l="textAreaLeft" t="textAreaTop" r="textAreaRight" b="textAreaBottom"/>
              <a:pathLst>
                <a:path w="21600" h="21627">
                  <a:moveTo>
                    <a:pt x="3600" y="0"/>
                  </a:moveTo>
                  <a:arcTo wR="3600" hR="3600" stAng="16200000" swAng="-5400000"/>
                  <a:lnTo>
                    <a:pt x="0" y="18027"/>
                  </a:lnTo>
                  <a:arcTo wR="3600" hR="3600" stAng="10800000" swAng="-5400000"/>
                  <a:lnTo>
                    <a:pt x="18000" y="21627"/>
                  </a:lnTo>
                  <a:arcTo wR="3600" hR="3600" stAng="5400000" swAng="-5400000"/>
                  <a:lnTo>
                    <a:pt x="21600" y="3600"/>
                  </a:lnTo>
                  <a:arcTo wR="3600" hR="3600" stAng="0" swAng="-5400000"/>
                  <a:close/>
                </a:path>
              </a:pathLst>
            </a:custGeom>
            <a:gradFill rotWithShape="0">
              <a:gsLst>
                <a:gs pos="0">
                  <a:srgbClr val="032932"/>
                </a:gs>
                <a:gs pos="100000">
                  <a:srgbClr val="0e4d5b"/>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TextBox 33"/>
            <p:cNvSpPr/>
            <p:nvPr/>
          </p:nvSpPr>
          <p:spPr>
            <a:xfrm>
              <a:off x="1403280" y="3130920"/>
              <a:ext cx="87516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Poppins SemiBold"/>
                  <a:ea typeface="Poppins SemiBold"/>
                </a:rPr>
                <a:t>68.4</a:t>
              </a:r>
              <a:endParaRPr b="0" lang="en-US" sz="2300" spc="-1" strike="noStrike">
                <a:solidFill>
                  <a:srgbClr val="000000"/>
                </a:solidFill>
                <a:latin typeface="Calibri"/>
              </a:endParaRPr>
            </a:p>
          </p:txBody>
        </p:sp>
        <p:grpSp>
          <p:nvGrpSpPr>
            <p:cNvPr id="1411" name="Group 46"/>
            <p:cNvGrpSpPr/>
            <p:nvPr/>
          </p:nvGrpSpPr>
          <p:grpSpPr>
            <a:xfrm>
              <a:off x="2431800" y="2966400"/>
              <a:ext cx="1932120" cy="800280"/>
              <a:chOff x="2431800" y="2966400"/>
              <a:chExt cx="1932120" cy="800280"/>
            </a:xfrm>
          </p:grpSpPr>
          <p:sp>
            <p:nvSpPr>
              <p:cNvPr id="1412" name="TextBox 32"/>
              <p:cNvSpPr/>
              <p:nvPr/>
            </p:nvSpPr>
            <p:spPr>
              <a:xfrm>
                <a:off x="2431800" y="2966400"/>
                <a:ext cx="1932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Poppins SemiBold"/>
                    <a:ea typeface="Open Sans SemiBold"/>
                  </a:rPr>
                  <a:t>SCORING AVERAGE  </a:t>
                </a:r>
                <a:endParaRPr b="0" lang="en-US" sz="1100" spc="-1" strike="noStrike">
                  <a:solidFill>
                    <a:srgbClr val="000000"/>
                  </a:solidFill>
                  <a:latin typeface="Calibri"/>
                </a:endParaRPr>
              </a:p>
            </p:txBody>
          </p:sp>
          <p:sp>
            <p:nvSpPr>
              <p:cNvPr id="1413" name="TextBox 38"/>
              <p:cNvSpPr/>
              <p:nvPr/>
            </p:nvSpPr>
            <p:spPr>
              <a:xfrm>
                <a:off x="2431800" y="3170880"/>
                <a:ext cx="16650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Muli"/>
                    <a:ea typeface="Poppins Medium"/>
                  </a:rPr>
                  <a:t>Lorem ipsum dolor sit</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Muli"/>
                    <a:ea typeface="Poppins Medium"/>
                  </a:rPr>
                  <a:t>amet adipiscing elit </a:t>
                </a:r>
                <a:endParaRPr b="0" lang="en-US" sz="1100" spc="-1" strike="noStrike">
                  <a:solidFill>
                    <a:srgbClr val="000000"/>
                  </a:solidFill>
                  <a:latin typeface="Calibri"/>
                </a:endParaRPr>
              </a:p>
            </p:txBody>
          </p:sp>
        </p:grpSp>
      </p:grpSp>
      <p:grpSp>
        <p:nvGrpSpPr>
          <p:cNvPr id="1414" name="Group 48"/>
          <p:cNvGrpSpPr/>
          <p:nvPr/>
        </p:nvGrpSpPr>
        <p:grpSpPr>
          <a:xfrm>
            <a:off x="1403280" y="3952800"/>
            <a:ext cx="2705040" cy="874800"/>
            <a:chOff x="1403280" y="3952800"/>
            <a:chExt cx="2705040" cy="874800"/>
          </a:xfrm>
        </p:grpSpPr>
        <p:sp>
          <p:nvSpPr>
            <p:cNvPr id="1415" name="Rectangle: Rounded Corners 30"/>
            <p:cNvSpPr/>
            <p:nvPr/>
          </p:nvSpPr>
          <p:spPr>
            <a:xfrm>
              <a:off x="1403280" y="3952800"/>
              <a:ext cx="875160" cy="874800"/>
            </a:xfrm>
            <a:prstGeom prst="roundRect">
              <a:avLst>
                <a:gd name="adj" fmla="val 16667"/>
              </a:avLst>
            </a:prstGeom>
            <a:solidFill>
              <a:srgbClr val="ffffff"/>
            </a:solidFill>
            <a:ln w="12600">
              <a:solidFill>
                <a:srgbClr val="d0ce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TextBox 36"/>
            <p:cNvSpPr/>
            <p:nvPr/>
          </p:nvSpPr>
          <p:spPr>
            <a:xfrm>
              <a:off x="1403280" y="4167000"/>
              <a:ext cx="87516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4a56"/>
                  </a:solidFill>
                  <a:latin typeface="Poppins SemiBold"/>
                  <a:ea typeface="Poppins SemiBold"/>
                </a:rPr>
                <a:t>321</a:t>
              </a:r>
              <a:endParaRPr b="0" lang="en-US" sz="2300" spc="-1" strike="noStrike">
                <a:solidFill>
                  <a:srgbClr val="000000"/>
                </a:solidFill>
                <a:latin typeface="Calibri"/>
              </a:endParaRPr>
            </a:p>
          </p:txBody>
        </p:sp>
        <p:grpSp>
          <p:nvGrpSpPr>
            <p:cNvPr id="1417" name="Group 45"/>
            <p:cNvGrpSpPr/>
            <p:nvPr/>
          </p:nvGrpSpPr>
          <p:grpSpPr>
            <a:xfrm>
              <a:off x="2431440" y="4042440"/>
              <a:ext cx="1676880" cy="778320"/>
              <a:chOff x="2431440" y="4042440"/>
              <a:chExt cx="1676880" cy="778320"/>
            </a:xfrm>
          </p:grpSpPr>
          <p:sp>
            <p:nvSpPr>
              <p:cNvPr id="1418" name="TextBox 34"/>
              <p:cNvSpPr/>
              <p:nvPr/>
            </p:nvSpPr>
            <p:spPr>
              <a:xfrm>
                <a:off x="2431440" y="4042440"/>
                <a:ext cx="1676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Poppins SemiBold"/>
                    <a:ea typeface="Open Sans SemiBold"/>
                  </a:rPr>
                  <a:t>DRIVING DISTANCE</a:t>
                </a:r>
                <a:endParaRPr b="0" lang="en-US" sz="1100" spc="-1" strike="noStrike">
                  <a:solidFill>
                    <a:srgbClr val="000000"/>
                  </a:solidFill>
                  <a:latin typeface="Calibri"/>
                </a:endParaRPr>
              </a:p>
            </p:txBody>
          </p:sp>
          <p:sp>
            <p:nvSpPr>
              <p:cNvPr id="1419" name="TextBox 39"/>
              <p:cNvSpPr/>
              <p:nvPr/>
            </p:nvSpPr>
            <p:spPr>
              <a:xfrm>
                <a:off x="2431440" y="4224960"/>
                <a:ext cx="16646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Muli"/>
                    <a:ea typeface="Poppins Medium"/>
                  </a:rPr>
                  <a:t>Lorem ipsum dolor sit amet adipiscing elit</a:t>
                </a:r>
                <a:endParaRPr b="0" lang="en-US" sz="1100" spc="-1" strike="noStrike">
                  <a:solidFill>
                    <a:srgbClr val="000000"/>
                  </a:solidFill>
                  <a:latin typeface="Calibri"/>
                </a:endParaRPr>
              </a:p>
            </p:txBody>
          </p:sp>
        </p:grpSp>
      </p:grpSp>
      <p:grpSp>
        <p:nvGrpSpPr>
          <p:cNvPr id="1420" name="Group 49"/>
          <p:cNvGrpSpPr/>
          <p:nvPr/>
        </p:nvGrpSpPr>
        <p:grpSpPr>
          <a:xfrm>
            <a:off x="1403280" y="4987800"/>
            <a:ext cx="2692440" cy="874800"/>
            <a:chOff x="1403280" y="4987800"/>
            <a:chExt cx="2692440" cy="874800"/>
          </a:xfrm>
        </p:grpSpPr>
        <p:sp>
          <p:nvSpPr>
            <p:cNvPr id="1421" name="Rectangle: Rounded Corners 31"/>
            <p:cNvSpPr/>
            <p:nvPr/>
          </p:nvSpPr>
          <p:spPr>
            <a:xfrm>
              <a:off x="1403280" y="4987800"/>
              <a:ext cx="875160" cy="874800"/>
            </a:xfrm>
            <a:prstGeom prst="roundRect">
              <a:avLst>
                <a:gd name="adj" fmla="val 16667"/>
              </a:avLst>
            </a:prstGeom>
            <a:solidFill>
              <a:srgbClr val="ffffff"/>
            </a:solidFill>
            <a:ln w="12600">
              <a:solidFill>
                <a:srgbClr val="d0ce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2" name="TextBox 37"/>
            <p:cNvSpPr/>
            <p:nvPr/>
          </p:nvSpPr>
          <p:spPr>
            <a:xfrm>
              <a:off x="1403280" y="5202000"/>
              <a:ext cx="87516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34a56"/>
                  </a:solidFill>
                  <a:latin typeface="Poppins SemiBold"/>
                  <a:ea typeface="Poppins SemiBold"/>
                </a:rPr>
                <a:t>70.4</a:t>
              </a:r>
              <a:endParaRPr b="0" lang="en-US" sz="2300" spc="-1" strike="noStrike">
                <a:solidFill>
                  <a:srgbClr val="000000"/>
                </a:solidFill>
                <a:latin typeface="Calibri"/>
              </a:endParaRPr>
            </a:p>
          </p:txBody>
        </p:sp>
        <p:grpSp>
          <p:nvGrpSpPr>
            <p:cNvPr id="1423" name="Group 41"/>
            <p:cNvGrpSpPr/>
            <p:nvPr/>
          </p:nvGrpSpPr>
          <p:grpSpPr>
            <a:xfrm>
              <a:off x="2431440" y="5035680"/>
              <a:ext cx="1664280" cy="804240"/>
              <a:chOff x="2431440" y="5035680"/>
              <a:chExt cx="1664280" cy="804240"/>
            </a:xfrm>
          </p:grpSpPr>
          <p:sp>
            <p:nvSpPr>
              <p:cNvPr id="1424" name="TextBox 35"/>
              <p:cNvSpPr/>
              <p:nvPr/>
            </p:nvSpPr>
            <p:spPr>
              <a:xfrm>
                <a:off x="2431440" y="5035680"/>
                <a:ext cx="1511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Poppins SemiBold"/>
                    <a:ea typeface="Open Sans SemiBold"/>
                  </a:rPr>
                  <a:t>SCRAMBLING</a:t>
                </a:r>
                <a:endParaRPr b="0" lang="en-US" sz="1100" spc="-1" strike="noStrike">
                  <a:solidFill>
                    <a:srgbClr val="000000"/>
                  </a:solidFill>
                  <a:latin typeface="Calibri"/>
                </a:endParaRPr>
              </a:p>
            </p:txBody>
          </p:sp>
          <p:sp>
            <p:nvSpPr>
              <p:cNvPr id="1425" name="TextBox 40"/>
              <p:cNvSpPr/>
              <p:nvPr/>
            </p:nvSpPr>
            <p:spPr>
              <a:xfrm>
                <a:off x="2431440" y="5244120"/>
                <a:ext cx="16642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Muli"/>
                    <a:ea typeface="Poppins Medium"/>
                  </a:rPr>
                  <a:t>Lorem ipsum dolor sit amet adipiscing elit</a:t>
                </a:r>
                <a:endParaRPr b="0" lang="en-US" sz="1100" spc="-1" strike="noStrike">
                  <a:solidFill>
                    <a:srgbClr val="000000"/>
                  </a:solidFill>
                  <a:latin typeface="Calibri"/>
                </a:endParaRPr>
              </a:p>
            </p:txBody>
          </p:sp>
        </p:grpSp>
      </p:grpSp>
      <p:sp>
        <p:nvSpPr>
          <p:cNvPr id="1426" name="TextBox 43"/>
          <p:cNvSpPr/>
          <p:nvPr/>
        </p:nvSpPr>
        <p:spPr>
          <a:xfrm>
            <a:off x="1403280" y="1025640"/>
            <a:ext cx="139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Robert Green </a:t>
            </a:r>
            <a:endParaRPr b="0" lang="en-US" sz="1100" spc="-1" strike="noStrike">
              <a:solidFill>
                <a:srgbClr val="000000"/>
              </a:solidFill>
              <a:latin typeface="Calibri"/>
            </a:endParaRPr>
          </a:p>
        </p:txBody>
      </p:sp>
      <p:sp>
        <p:nvSpPr>
          <p:cNvPr id="1427" name="TextBox 59"/>
          <p:cNvSpPr/>
          <p:nvPr/>
        </p:nvSpPr>
        <p:spPr>
          <a:xfrm>
            <a:off x="1403280" y="1208160"/>
            <a:ext cx="139392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Poppins Medium"/>
              </a:rPr>
              <a:t>35, United States</a:t>
            </a:r>
            <a:endParaRPr b="0" lang="en-US" sz="1100" spc="-1" strike="noStrike">
              <a:solidFill>
                <a:srgbClr val="000000"/>
              </a:solidFill>
              <a:latin typeface="Calibri"/>
            </a:endParaRPr>
          </a:p>
        </p:txBody>
      </p:sp>
      <p:sp>
        <p:nvSpPr>
          <p:cNvPr id="1428" name="Star: 5 Points 79"/>
          <p:cNvSpPr/>
          <p:nvPr/>
        </p:nvSpPr>
        <p:spPr>
          <a:xfrm flipH="1">
            <a:off x="3608280" y="1811160"/>
            <a:ext cx="247680" cy="247680"/>
          </a:xfrm>
          <a:custGeom>
            <a:avLst/>
            <a:gdLst/>
            <a:ahLst/>
            <a:rect l="l" t="t" r="r" b="b"/>
            <a:pathLst>
              <a:path w="248295" h="248295">
                <a:moveTo>
                  <a:pt x="0" y="94840"/>
                </a:moveTo>
                <a:lnTo>
                  <a:pt x="94841" y="94841"/>
                </a:lnTo>
                <a:lnTo>
                  <a:pt x="124148" y="0"/>
                </a:lnTo>
                <a:lnTo>
                  <a:pt x="153454" y="94841"/>
                </a:lnTo>
                <a:lnTo>
                  <a:pt x="248295" y="94840"/>
                </a:lnTo>
                <a:lnTo>
                  <a:pt x="171567" y="153454"/>
                </a:lnTo>
                <a:lnTo>
                  <a:pt x="200875" y="248294"/>
                </a:lnTo>
                <a:lnTo>
                  <a:pt x="124148" y="189679"/>
                </a:lnTo>
                <a:lnTo>
                  <a:pt x="47420" y="248294"/>
                </a:lnTo>
                <a:lnTo>
                  <a:pt x="76728" y="153454"/>
                </a:lnTo>
                <a:lnTo>
                  <a:pt x="0" y="94840"/>
                </a:lnTo>
                <a:close/>
              </a:path>
            </a:pathLst>
          </a:custGeom>
          <a:solidFill>
            <a:srgbClr val="d5b665"/>
          </a:solidFill>
          <a:ln cap="rnd"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1"/>
          <p:cNvSpPr/>
          <p:nvPr/>
        </p:nvSpPr>
        <p:spPr>
          <a:xfrm>
            <a:off x="0" y="0"/>
            <a:ext cx="2425680" cy="6858000"/>
          </a:xfrm>
          <a:prstGeom prst="rect">
            <a:avLst/>
          </a:prstGeom>
          <a:solidFill>
            <a:srgbClr val="d5b6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0" name="TextBox 5"/>
          <p:cNvSpPr/>
          <p:nvPr/>
        </p:nvSpPr>
        <p:spPr>
          <a:xfrm>
            <a:off x="4191120" y="4368960"/>
            <a:ext cx="2066760" cy="277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Senior Coach</a:t>
            </a:r>
            <a:endParaRPr b="0" lang="en-US" sz="1100" spc="-1" strike="noStrike">
              <a:solidFill>
                <a:srgbClr val="000000"/>
              </a:solidFill>
              <a:latin typeface="Calibri"/>
            </a:endParaRPr>
          </a:p>
        </p:txBody>
      </p:sp>
      <p:sp>
        <p:nvSpPr>
          <p:cNvPr id="1431" name="TextBox 6"/>
          <p:cNvSpPr/>
          <p:nvPr/>
        </p:nvSpPr>
        <p:spPr>
          <a:xfrm>
            <a:off x="4191120" y="4044960"/>
            <a:ext cx="20667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oppins SemiBold"/>
                <a:ea typeface="Poppins SemiBold"/>
              </a:rPr>
              <a:t>Dan Western</a:t>
            </a:r>
            <a:endParaRPr b="0" lang="en-US" sz="1500" spc="-1" strike="noStrike">
              <a:solidFill>
                <a:srgbClr val="000000"/>
              </a:solidFill>
              <a:latin typeface="Calibri"/>
            </a:endParaRPr>
          </a:p>
        </p:txBody>
      </p:sp>
      <p:sp>
        <p:nvSpPr>
          <p:cNvPr id="1432" name="TextBox 7"/>
          <p:cNvSpPr/>
          <p:nvPr/>
        </p:nvSpPr>
        <p:spPr>
          <a:xfrm>
            <a:off x="4191120" y="4691160"/>
            <a:ext cx="20667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rep rehendderit voluptate esse cillum dolore eu fugiat</a:t>
            </a:r>
            <a:endParaRPr b="0" lang="en-US" sz="1100" spc="-1" strike="noStrike">
              <a:solidFill>
                <a:srgbClr val="000000"/>
              </a:solidFill>
              <a:latin typeface="Calibri"/>
            </a:endParaRPr>
          </a:p>
        </p:txBody>
      </p:sp>
      <p:sp>
        <p:nvSpPr>
          <p:cNvPr id="1433" name="Straight Connector 8"/>
          <p:cNvSpPr/>
          <p:nvPr/>
        </p:nvSpPr>
        <p:spPr>
          <a:xfrm>
            <a:off x="5213520" y="5695920"/>
            <a:ext cx="0" cy="1162080"/>
          </a:xfrm>
          <a:prstGeom prst="line">
            <a:avLst/>
          </a:prstGeom>
          <a:ln w="12600">
            <a:solidFill>
              <a:srgbClr val="d5b6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4" name="TextBox 10"/>
          <p:cNvSpPr/>
          <p:nvPr/>
        </p:nvSpPr>
        <p:spPr>
          <a:xfrm>
            <a:off x="8244000" y="1882800"/>
            <a:ext cx="2066760" cy="277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Manager</a:t>
            </a:r>
            <a:endParaRPr b="0" lang="en-US" sz="1100" spc="-1" strike="noStrike">
              <a:solidFill>
                <a:srgbClr val="000000"/>
              </a:solidFill>
              <a:latin typeface="Calibri"/>
            </a:endParaRPr>
          </a:p>
        </p:txBody>
      </p:sp>
      <p:sp>
        <p:nvSpPr>
          <p:cNvPr id="1435" name="TextBox 11"/>
          <p:cNvSpPr/>
          <p:nvPr/>
        </p:nvSpPr>
        <p:spPr>
          <a:xfrm>
            <a:off x="8244000" y="1560600"/>
            <a:ext cx="20667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oppins SemiBold"/>
                <a:ea typeface="Poppins SemiBold"/>
              </a:rPr>
              <a:t>Kevin Taylor</a:t>
            </a:r>
            <a:endParaRPr b="0" lang="en-US" sz="1500" spc="-1" strike="noStrike">
              <a:solidFill>
                <a:srgbClr val="000000"/>
              </a:solidFill>
              <a:latin typeface="Calibri"/>
            </a:endParaRPr>
          </a:p>
        </p:txBody>
      </p:sp>
      <p:sp>
        <p:nvSpPr>
          <p:cNvPr id="1436" name="TextBox 12"/>
          <p:cNvSpPr/>
          <p:nvPr/>
        </p:nvSpPr>
        <p:spPr>
          <a:xfrm>
            <a:off x="8244000" y="2206800"/>
            <a:ext cx="20667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rep rehendderit voluptate esse cillum dolore eu fugiat</a:t>
            </a:r>
            <a:endParaRPr b="0" lang="en-US" sz="1100" spc="-1" strike="noStrike">
              <a:solidFill>
                <a:srgbClr val="000000"/>
              </a:solidFill>
              <a:latin typeface="Calibri"/>
            </a:endParaRPr>
          </a:p>
        </p:txBody>
      </p:sp>
      <p:sp>
        <p:nvSpPr>
          <p:cNvPr id="1437" name="Straight Connector 13"/>
          <p:cNvSpPr/>
          <p:nvPr/>
        </p:nvSpPr>
        <p:spPr>
          <a:xfrm>
            <a:off x="9277200" y="0"/>
            <a:ext cx="0" cy="1162080"/>
          </a:xfrm>
          <a:prstGeom prst="line">
            <a:avLst/>
          </a:prstGeom>
          <a:ln w="12600">
            <a:solidFill>
              <a:srgbClr val="d5b6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38" name="Group 17"/>
          <p:cNvGrpSpPr/>
          <p:nvPr/>
        </p:nvGrpSpPr>
        <p:grpSpPr>
          <a:xfrm>
            <a:off x="808200" y="1606680"/>
            <a:ext cx="809640" cy="3644640"/>
            <a:chOff x="808200" y="1606680"/>
            <a:chExt cx="809640" cy="3644640"/>
          </a:xfrm>
        </p:grpSpPr>
        <p:pic>
          <p:nvPicPr>
            <p:cNvPr id="1439" name="TextBox 15" descr=""/>
            <p:cNvPicPr/>
            <p:nvPr/>
          </p:nvPicPr>
          <p:blipFill>
            <a:blip r:embed="rId1"/>
            <a:stretch/>
          </p:blipFill>
          <p:spPr>
            <a:xfrm>
              <a:off x="999360" y="1606680"/>
              <a:ext cx="618480" cy="3644640"/>
            </a:xfrm>
            <a:prstGeom prst="rect">
              <a:avLst/>
            </a:prstGeom>
            <a:ln w="0">
              <a:noFill/>
            </a:ln>
          </p:spPr>
        </p:pic>
        <p:pic>
          <p:nvPicPr>
            <p:cNvPr id="1440" name="TextBox 16" descr=""/>
            <p:cNvPicPr/>
            <p:nvPr/>
          </p:nvPicPr>
          <p:blipFill>
            <a:blip r:embed="rId2"/>
            <a:stretch/>
          </p:blipFill>
          <p:spPr>
            <a:xfrm>
              <a:off x="808200" y="1895040"/>
              <a:ext cx="314640" cy="3067560"/>
            </a:xfrm>
            <a:prstGeom prst="rect">
              <a:avLst/>
            </a:prstGeom>
            <a:ln w="0">
              <a:noFill/>
            </a:ln>
          </p:spPr>
        </p:pic>
      </p:grpSp>
      <p:grpSp>
        <p:nvGrpSpPr>
          <p:cNvPr id="1441" name="Group 40"/>
          <p:cNvGrpSpPr/>
          <p:nvPr/>
        </p:nvGrpSpPr>
        <p:grpSpPr>
          <a:xfrm>
            <a:off x="2127240" y="3130560"/>
            <a:ext cx="596880" cy="596880"/>
            <a:chOff x="2127240" y="3130560"/>
            <a:chExt cx="596880" cy="596880"/>
          </a:xfrm>
        </p:grpSpPr>
        <p:sp>
          <p:nvSpPr>
            <p:cNvPr id="1442" name="Oval 29"/>
            <p:cNvSpPr/>
            <p:nvPr/>
          </p:nvSpPr>
          <p:spPr>
            <a:xfrm>
              <a:off x="2127240" y="3130560"/>
              <a:ext cx="596880" cy="596880"/>
            </a:xfrm>
            <a:prstGeom prst="ellipse">
              <a:avLst/>
            </a:prstGeom>
            <a:solidFill>
              <a:srgbClr val="ffffff"/>
            </a:solidFill>
            <a:ln w="0">
              <a:noFill/>
            </a:ln>
            <a:effectLst>
              <a:outerShdw dist="10152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3" name="Group 31"/>
            <p:cNvGrpSpPr/>
            <p:nvPr/>
          </p:nvGrpSpPr>
          <p:grpSpPr>
            <a:xfrm>
              <a:off x="2321280" y="3324600"/>
              <a:ext cx="208800" cy="208800"/>
              <a:chOff x="2321280" y="3324600"/>
              <a:chExt cx="208800" cy="208800"/>
            </a:xfrm>
          </p:grpSpPr>
          <p:sp>
            <p:nvSpPr>
              <p:cNvPr id="1444" name="Freeform: Shape 32"/>
              <p:cNvSpPr/>
              <p:nvPr/>
            </p:nvSpPr>
            <p:spPr>
              <a:xfrm>
                <a:off x="2321280" y="3324600"/>
                <a:ext cx="208800" cy="208800"/>
              </a:xfrm>
              <a:custGeom>
                <a:avLst/>
                <a:gdLst/>
                <a:ahLst/>
                <a:rect l="l" t="t" r="r" b="b"/>
                <a:pathLst>
                  <a:path w="773429" h="772477">
                    <a:moveTo>
                      <a:pt x="647700" y="772478"/>
                    </a:moveTo>
                    <a:lnTo>
                      <a:pt x="125730" y="772478"/>
                    </a:lnTo>
                    <a:cubicBezTo>
                      <a:pt x="56198" y="772478"/>
                      <a:pt x="0" y="716280"/>
                      <a:pt x="0" y="646748"/>
                    </a:cubicBezTo>
                    <a:lnTo>
                      <a:pt x="0" y="125730"/>
                    </a:lnTo>
                    <a:cubicBezTo>
                      <a:pt x="0" y="56198"/>
                      <a:pt x="56198" y="0"/>
                      <a:pt x="125730" y="0"/>
                    </a:cubicBezTo>
                    <a:lnTo>
                      <a:pt x="647700" y="0"/>
                    </a:lnTo>
                    <a:cubicBezTo>
                      <a:pt x="717233" y="0"/>
                      <a:pt x="773430" y="56198"/>
                      <a:pt x="773430" y="125730"/>
                    </a:cubicBezTo>
                    <a:lnTo>
                      <a:pt x="773430" y="647700"/>
                    </a:lnTo>
                    <a:cubicBezTo>
                      <a:pt x="772478" y="716280"/>
                      <a:pt x="716280" y="772478"/>
                      <a:pt x="647700" y="772478"/>
                    </a:cubicBezTo>
                    <a:close/>
                  </a:path>
                </a:pathLst>
              </a:custGeom>
              <a:solidFill>
                <a:srgbClr val="d5b66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5" name="Freeform: Shape 33"/>
              <p:cNvSpPr/>
              <p:nvPr/>
            </p:nvSpPr>
            <p:spPr>
              <a:xfrm>
                <a:off x="2330640" y="3358080"/>
                <a:ext cx="199440" cy="175320"/>
              </a:xfrm>
              <a:custGeom>
                <a:avLst/>
                <a:gdLst/>
                <a:ahLst/>
                <a:rect l="l" t="t" r="r" b="b"/>
                <a:pathLst>
                  <a:path w="738187" h="647699">
                    <a:moveTo>
                      <a:pt x="726758" y="113348"/>
                    </a:moveTo>
                    <a:cubicBezTo>
                      <a:pt x="725805" y="114300"/>
                      <a:pt x="724853" y="115252"/>
                      <a:pt x="723900" y="116205"/>
                    </a:cubicBezTo>
                    <a:cubicBezTo>
                      <a:pt x="722948" y="115252"/>
                      <a:pt x="721995" y="115252"/>
                      <a:pt x="721043" y="114300"/>
                    </a:cubicBezTo>
                    <a:cubicBezTo>
                      <a:pt x="719138" y="112395"/>
                      <a:pt x="716280" y="111443"/>
                      <a:pt x="713423" y="111443"/>
                    </a:cubicBezTo>
                    <a:cubicBezTo>
                      <a:pt x="710565" y="110490"/>
                      <a:pt x="707708" y="109538"/>
                      <a:pt x="705803" y="107633"/>
                    </a:cubicBezTo>
                    <a:cubicBezTo>
                      <a:pt x="702945" y="105727"/>
                      <a:pt x="699135" y="103823"/>
                      <a:pt x="696278" y="103823"/>
                    </a:cubicBezTo>
                    <a:cubicBezTo>
                      <a:pt x="694373" y="103823"/>
                      <a:pt x="692468" y="103823"/>
                      <a:pt x="689610" y="104775"/>
                    </a:cubicBezTo>
                    <a:cubicBezTo>
                      <a:pt x="687705" y="105727"/>
                      <a:pt x="684848" y="105727"/>
                      <a:pt x="681990" y="105727"/>
                    </a:cubicBezTo>
                    <a:cubicBezTo>
                      <a:pt x="678180" y="104775"/>
                      <a:pt x="675323" y="104775"/>
                      <a:pt x="671513" y="106680"/>
                    </a:cubicBezTo>
                    <a:cubicBezTo>
                      <a:pt x="670560" y="107633"/>
                      <a:pt x="668655" y="106680"/>
                      <a:pt x="667703" y="106680"/>
                    </a:cubicBezTo>
                    <a:cubicBezTo>
                      <a:pt x="664845" y="106680"/>
                      <a:pt x="662940" y="105727"/>
                      <a:pt x="660083" y="104775"/>
                    </a:cubicBezTo>
                    <a:cubicBezTo>
                      <a:pt x="657225" y="103823"/>
                      <a:pt x="655320" y="104775"/>
                      <a:pt x="653415" y="106680"/>
                    </a:cubicBezTo>
                    <a:cubicBezTo>
                      <a:pt x="651510" y="109538"/>
                      <a:pt x="649605" y="112395"/>
                      <a:pt x="648653" y="114300"/>
                    </a:cubicBezTo>
                    <a:cubicBezTo>
                      <a:pt x="648653" y="115252"/>
                      <a:pt x="647700" y="116205"/>
                      <a:pt x="647700" y="117158"/>
                    </a:cubicBezTo>
                    <a:cubicBezTo>
                      <a:pt x="645795" y="117158"/>
                      <a:pt x="643890" y="117158"/>
                      <a:pt x="641985" y="118110"/>
                    </a:cubicBezTo>
                    <a:cubicBezTo>
                      <a:pt x="641033" y="118110"/>
                      <a:pt x="640080" y="118110"/>
                      <a:pt x="639128" y="118110"/>
                    </a:cubicBezTo>
                    <a:cubicBezTo>
                      <a:pt x="635318" y="120015"/>
                      <a:pt x="631508" y="119063"/>
                      <a:pt x="628650" y="119063"/>
                    </a:cubicBezTo>
                    <a:cubicBezTo>
                      <a:pt x="628650" y="119063"/>
                      <a:pt x="627698" y="119063"/>
                      <a:pt x="627698" y="119063"/>
                    </a:cubicBezTo>
                    <a:cubicBezTo>
                      <a:pt x="619125" y="119063"/>
                      <a:pt x="618173" y="121920"/>
                      <a:pt x="617220" y="128588"/>
                    </a:cubicBezTo>
                    <a:cubicBezTo>
                      <a:pt x="617220" y="130493"/>
                      <a:pt x="617220" y="132398"/>
                      <a:pt x="617220" y="135255"/>
                    </a:cubicBezTo>
                    <a:cubicBezTo>
                      <a:pt x="607695" y="135255"/>
                      <a:pt x="599123" y="135255"/>
                      <a:pt x="589598" y="136208"/>
                    </a:cubicBezTo>
                    <a:cubicBezTo>
                      <a:pt x="589598" y="134303"/>
                      <a:pt x="589598" y="133350"/>
                      <a:pt x="589598" y="131445"/>
                    </a:cubicBezTo>
                    <a:cubicBezTo>
                      <a:pt x="590550" y="123825"/>
                      <a:pt x="589598" y="117158"/>
                      <a:pt x="589598" y="110490"/>
                    </a:cubicBezTo>
                    <a:cubicBezTo>
                      <a:pt x="588645" y="105727"/>
                      <a:pt x="589598" y="100013"/>
                      <a:pt x="589598" y="95250"/>
                    </a:cubicBezTo>
                    <a:cubicBezTo>
                      <a:pt x="589598" y="95250"/>
                      <a:pt x="589598" y="94298"/>
                      <a:pt x="589598" y="94298"/>
                    </a:cubicBezTo>
                    <a:cubicBezTo>
                      <a:pt x="591503" y="91440"/>
                      <a:pt x="592455" y="88583"/>
                      <a:pt x="594360" y="85725"/>
                    </a:cubicBezTo>
                    <a:cubicBezTo>
                      <a:pt x="596265" y="86677"/>
                      <a:pt x="597218" y="87630"/>
                      <a:pt x="598170" y="87630"/>
                    </a:cubicBezTo>
                    <a:cubicBezTo>
                      <a:pt x="600075" y="88583"/>
                      <a:pt x="601980" y="88583"/>
                      <a:pt x="604838" y="88583"/>
                    </a:cubicBezTo>
                    <a:cubicBezTo>
                      <a:pt x="606743" y="88583"/>
                      <a:pt x="608648" y="87630"/>
                      <a:pt x="608648" y="85725"/>
                    </a:cubicBezTo>
                    <a:cubicBezTo>
                      <a:pt x="608648" y="83820"/>
                      <a:pt x="609600" y="82868"/>
                      <a:pt x="609600" y="80963"/>
                    </a:cubicBezTo>
                    <a:cubicBezTo>
                      <a:pt x="609600" y="74295"/>
                      <a:pt x="608648" y="67627"/>
                      <a:pt x="603885" y="61913"/>
                    </a:cubicBezTo>
                    <a:cubicBezTo>
                      <a:pt x="599123" y="55245"/>
                      <a:pt x="593408" y="48577"/>
                      <a:pt x="587693" y="43815"/>
                    </a:cubicBezTo>
                    <a:cubicBezTo>
                      <a:pt x="585788" y="41910"/>
                      <a:pt x="583883" y="40005"/>
                      <a:pt x="582930" y="38100"/>
                    </a:cubicBezTo>
                    <a:cubicBezTo>
                      <a:pt x="581978" y="35243"/>
                      <a:pt x="580073" y="32385"/>
                      <a:pt x="579120" y="29527"/>
                    </a:cubicBezTo>
                    <a:cubicBezTo>
                      <a:pt x="576263" y="23813"/>
                      <a:pt x="572453" y="19050"/>
                      <a:pt x="567690" y="15240"/>
                    </a:cubicBezTo>
                    <a:cubicBezTo>
                      <a:pt x="562928" y="11430"/>
                      <a:pt x="558165" y="8573"/>
                      <a:pt x="552450" y="6667"/>
                    </a:cubicBezTo>
                    <a:cubicBezTo>
                      <a:pt x="546735" y="4763"/>
                      <a:pt x="541020" y="1905"/>
                      <a:pt x="535305" y="953"/>
                    </a:cubicBezTo>
                    <a:cubicBezTo>
                      <a:pt x="533400" y="953"/>
                      <a:pt x="531495" y="0"/>
                      <a:pt x="529590" y="0"/>
                    </a:cubicBezTo>
                    <a:cubicBezTo>
                      <a:pt x="525780" y="0"/>
                      <a:pt x="521018" y="0"/>
                      <a:pt x="517208" y="0"/>
                    </a:cubicBezTo>
                    <a:cubicBezTo>
                      <a:pt x="513398" y="953"/>
                      <a:pt x="508635" y="953"/>
                      <a:pt x="504825" y="1905"/>
                    </a:cubicBezTo>
                    <a:cubicBezTo>
                      <a:pt x="502920" y="1905"/>
                      <a:pt x="501015" y="2858"/>
                      <a:pt x="500063" y="3810"/>
                    </a:cubicBezTo>
                    <a:cubicBezTo>
                      <a:pt x="499110" y="4763"/>
                      <a:pt x="497205" y="5715"/>
                      <a:pt x="496253" y="5715"/>
                    </a:cubicBezTo>
                    <a:cubicBezTo>
                      <a:pt x="492443" y="5715"/>
                      <a:pt x="489585" y="7620"/>
                      <a:pt x="486728" y="8573"/>
                    </a:cubicBezTo>
                    <a:cubicBezTo>
                      <a:pt x="478155" y="12383"/>
                      <a:pt x="470535" y="17145"/>
                      <a:pt x="463868" y="22860"/>
                    </a:cubicBezTo>
                    <a:cubicBezTo>
                      <a:pt x="458153" y="27623"/>
                      <a:pt x="453390" y="33338"/>
                      <a:pt x="450533" y="40005"/>
                    </a:cubicBezTo>
                    <a:cubicBezTo>
                      <a:pt x="445770" y="50483"/>
                      <a:pt x="442913" y="61913"/>
                      <a:pt x="441960" y="74295"/>
                    </a:cubicBezTo>
                    <a:cubicBezTo>
                      <a:pt x="441008" y="82868"/>
                      <a:pt x="441008" y="91440"/>
                      <a:pt x="441008" y="99060"/>
                    </a:cubicBezTo>
                    <a:cubicBezTo>
                      <a:pt x="441008" y="100965"/>
                      <a:pt x="440055" y="102870"/>
                      <a:pt x="439103" y="103823"/>
                    </a:cubicBezTo>
                    <a:cubicBezTo>
                      <a:pt x="435293" y="106680"/>
                      <a:pt x="434340" y="111443"/>
                      <a:pt x="435293" y="116205"/>
                    </a:cubicBezTo>
                    <a:cubicBezTo>
                      <a:pt x="436245" y="118110"/>
                      <a:pt x="436245" y="120015"/>
                      <a:pt x="437198" y="122873"/>
                    </a:cubicBezTo>
                    <a:cubicBezTo>
                      <a:pt x="437198" y="124777"/>
                      <a:pt x="438150" y="126683"/>
                      <a:pt x="438150" y="128588"/>
                    </a:cubicBezTo>
                    <a:cubicBezTo>
                      <a:pt x="438150" y="130493"/>
                      <a:pt x="438150" y="132398"/>
                      <a:pt x="439103" y="134303"/>
                    </a:cubicBezTo>
                    <a:cubicBezTo>
                      <a:pt x="436245" y="134303"/>
                      <a:pt x="433388" y="134303"/>
                      <a:pt x="429578" y="134303"/>
                    </a:cubicBezTo>
                    <a:cubicBezTo>
                      <a:pt x="429578" y="137160"/>
                      <a:pt x="429578" y="140018"/>
                      <a:pt x="429578" y="142875"/>
                    </a:cubicBezTo>
                    <a:cubicBezTo>
                      <a:pt x="428625" y="142875"/>
                      <a:pt x="427673" y="142875"/>
                      <a:pt x="426720" y="142875"/>
                    </a:cubicBezTo>
                    <a:cubicBezTo>
                      <a:pt x="407670" y="143828"/>
                      <a:pt x="387668" y="143828"/>
                      <a:pt x="368618" y="144780"/>
                    </a:cubicBezTo>
                    <a:cubicBezTo>
                      <a:pt x="344805" y="145733"/>
                      <a:pt x="320040" y="146685"/>
                      <a:pt x="296228" y="147638"/>
                    </a:cubicBezTo>
                    <a:cubicBezTo>
                      <a:pt x="284798" y="147638"/>
                      <a:pt x="272415" y="148590"/>
                      <a:pt x="260985" y="148590"/>
                    </a:cubicBezTo>
                    <a:cubicBezTo>
                      <a:pt x="226695" y="149543"/>
                      <a:pt x="193358" y="151448"/>
                      <a:pt x="159068" y="152400"/>
                    </a:cubicBezTo>
                    <a:cubicBezTo>
                      <a:pt x="138113" y="153353"/>
                      <a:pt x="118110" y="153353"/>
                      <a:pt x="97155" y="154305"/>
                    </a:cubicBezTo>
                    <a:cubicBezTo>
                      <a:pt x="95250" y="154305"/>
                      <a:pt x="92393" y="154305"/>
                      <a:pt x="90488" y="154305"/>
                    </a:cubicBezTo>
                    <a:cubicBezTo>
                      <a:pt x="88583" y="154305"/>
                      <a:pt x="86678" y="155258"/>
                      <a:pt x="84773" y="153353"/>
                    </a:cubicBezTo>
                    <a:cubicBezTo>
                      <a:pt x="84773" y="153353"/>
                      <a:pt x="83820" y="153353"/>
                      <a:pt x="82868" y="153353"/>
                    </a:cubicBezTo>
                    <a:cubicBezTo>
                      <a:pt x="68580" y="153353"/>
                      <a:pt x="54293" y="153353"/>
                      <a:pt x="40005" y="154305"/>
                    </a:cubicBezTo>
                    <a:cubicBezTo>
                      <a:pt x="34290" y="155258"/>
                      <a:pt x="30480" y="157163"/>
                      <a:pt x="25717" y="160020"/>
                    </a:cubicBezTo>
                    <a:cubicBezTo>
                      <a:pt x="21908" y="162878"/>
                      <a:pt x="18098" y="166688"/>
                      <a:pt x="15240" y="171450"/>
                    </a:cubicBezTo>
                    <a:cubicBezTo>
                      <a:pt x="8573" y="181928"/>
                      <a:pt x="2858" y="192405"/>
                      <a:pt x="952" y="204788"/>
                    </a:cubicBezTo>
                    <a:cubicBezTo>
                      <a:pt x="952" y="205740"/>
                      <a:pt x="0" y="206693"/>
                      <a:pt x="0" y="207645"/>
                    </a:cubicBezTo>
                    <a:cubicBezTo>
                      <a:pt x="0" y="209550"/>
                      <a:pt x="0" y="211455"/>
                      <a:pt x="0" y="213360"/>
                    </a:cubicBezTo>
                    <a:cubicBezTo>
                      <a:pt x="0" y="214313"/>
                      <a:pt x="952" y="216218"/>
                      <a:pt x="952" y="217170"/>
                    </a:cubicBezTo>
                    <a:cubicBezTo>
                      <a:pt x="2858" y="221933"/>
                      <a:pt x="5715" y="225743"/>
                      <a:pt x="10477" y="227647"/>
                    </a:cubicBezTo>
                    <a:cubicBezTo>
                      <a:pt x="13335" y="228600"/>
                      <a:pt x="17145" y="228600"/>
                      <a:pt x="20955" y="228600"/>
                    </a:cubicBezTo>
                    <a:cubicBezTo>
                      <a:pt x="25717" y="227647"/>
                      <a:pt x="29528" y="225743"/>
                      <a:pt x="31433" y="220980"/>
                    </a:cubicBezTo>
                    <a:cubicBezTo>
                      <a:pt x="33338" y="218122"/>
                      <a:pt x="34290" y="215265"/>
                      <a:pt x="35243" y="212408"/>
                    </a:cubicBezTo>
                    <a:cubicBezTo>
                      <a:pt x="38100" y="197168"/>
                      <a:pt x="40005" y="182880"/>
                      <a:pt x="38100" y="168593"/>
                    </a:cubicBezTo>
                    <a:cubicBezTo>
                      <a:pt x="38100" y="166688"/>
                      <a:pt x="38100" y="165735"/>
                      <a:pt x="38100" y="163830"/>
                    </a:cubicBezTo>
                    <a:cubicBezTo>
                      <a:pt x="39053" y="163830"/>
                      <a:pt x="40005" y="163830"/>
                      <a:pt x="40958" y="163830"/>
                    </a:cubicBezTo>
                    <a:cubicBezTo>
                      <a:pt x="54293" y="163830"/>
                      <a:pt x="66675" y="162878"/>
                      <a:pt x="80010" y="162878"/>
                    </a:cubicBezTo>
                    <a:cubicBezTo>
                      <a:pt x="80963" y="162878"/>
                      <a:pt x="82868" y="162878"/>
                      <a:pt x="83820" y="162878"/>
                    </a:cubicBezTo>
                    <a:cubicBezTo>
                      <a:pt x="84773" y="162878"/>
                      <a:pt x="85725" y="161925"/>
                      <a:pt x="86678" y="161925"/>
                    </a:cubicBezTo>
                    <a:cubicBezTo>
                      <a:pt x="114300" y="160973"/>
                      <a:pt x="141923" y="160020"/>
                      <a:pt x="168593" y="159068"/>
                    </a:cubicBezTo>
                    <a:cubicBezTo>
                      <a:pt x="197168" y="158115"/>
                      <a:pt x="224790" y="157163"/>
                      <a:pt x="253365" y="156210"/>
                    </a:cubicBezTo>
                    <a:cubicBezTo>
                      <a:pt x="287655" y="155258"/>
                      <a:pt x="322898" y="154305"/>
                      <a:pt x="357188" y="153353"/>
                    </a:cubicBezTo>
                    <a:cubicBezTo>
                      <a:pt x="367665" y="153353"/>
                      <a:pt x="378143" y="152400"/>
                      <a:pt x="388620" y="152400"/>
                    </a:cubicBezTo>
                    <a:cubicBezTo>
                      <a:pt x="406718" y="152400"/>
                      <a:pt x="425768" y="151448"/>
                      <a:pt x="443865" y="151448"/>
                    </a:cubicBezTo>
                    <a:cubicBezTo>
                      <a:pt x="445770" y="151448"/>
                      <a:pt x="446723" y="151448"/>
                      <a:pt x="447675" y="153353"/>
                    </a:cubicBezTo>
                    <a:cubicBezTo>
                      <a:pt x="448628" y="155258"/>
                      <a:pt x="450533" y="156210"/>
                      <a:pt x="452438" y="157163"/>
                    </a:cubicBezTo>
                    <a:cubicBezTo>
                      <a:pt x="453390" y="157163"/>
                      <a:pt x="454343" y="158115"/>
                      <a:pt x="455295" y="158115"/>
                    </a:cubicBezTo>
                    <a:cubicBezTo>
                      <a:pt x="455295" y="160973"/>
                      <a:pt x="455295" y="164783"/>
                      <a:pt x="456248" y="167640"/>
                    </a:cubicBezTo>
                    <a:cubicBezTo>
                      <a:pt x="457200" y="175260"/>
                      <a:pt x="458153" y="182880"/>
                      <a:pt x="458153" y="190500"/>
                    </a:cubicBezTo>
                    <a:cubicBezTo>
                      <a:pt x="458153" y="191453"/>
                      <a:pt x="458153" y="192405"/>
                      <a:pt x="458153" y="192405"/>
                    </a:cubicBezTo>
                    <a:cubicBezTo>
                      <a:pt x="455295" y="193358"/>
                      <a:pt x="454343" y="191453"/>
                      <a:pt x="452438" y="191453"/>
                    </a:cubicBezTo>
                    <a:cubicBezTo>
                      <a:pt x="450533" y="190500"/>
                      <a:pt x="449580" y="190500"/>
                      <a:pt x="447675" y="190500"/>
                    </a:cubicBezTo>
                    <a:cubicBezTo>
                      <a:pt x="442913" y="191453"/>
                      <a:pt x="439103" y="192405"/>
                      <a:pt x="435293" y="195263"/>
                    </a:cubicBezTo>
                    <a:cubicBezTo>
                      <a:pt x="431483" y="197168"/>
                      <a:pt x="429578" y="200025"/>
                      <a:pt x="429578" y="204788"/>
                    </a:cubicBezTo>
                    <a:cubicBezTo>
                      <a:pt x="429578" y="204788"/>
                      <a:pt x="429578" y="204788"/>
                      <a:pt x="429578" y="205740"/>
                    </a:cubicBezTo>
                    <a:cubicBezTo>
                      <a:pt x="425768" y="205740"/>
                      <a:pt x="421958" y="207645"/>
                      <a:pt x="419100" y="209550"/>
                    </a:cubicBezTo>
                    <a:cubicBezTo>
                      <a:pt x="407670" y="214313"/>
                      <a:pt x="399098" y="220980"/>
                      <a:pt x="392430" y="231458"/>
                    </a:cubicBezTo>
                    <a:cubicBezTo>
                      <a:pt x="389573" y="236220"/>
                      <a:pt x="385763" y="240983"/>
                      <a:pt x="382905" y="246697"/>
                    </a:cubicBezTo>
                    <a:cubicBezTo>
                      <a:pt x="380048" y="250508"/>
                      <a:pt x="378143" y="254318"/>
                      <a:pt x="376238" y="259080"/>
                    </a:cubicBezTo>
                    <a:cubicBezTo>
                      <a:pt x="370523" y="271463"/>
                      <a:pt x="367665" y="283845"/>
                      <a:pt x="364808" y="297180"/>
                    </a:cubicBezTo>
                    <a:cubicBezTo>
                      <a:pt x="362903" y="306705"/>
                      <a:pt x="360998" y="317183"/>
                      <a:pt x="358140" y="326708"/>
                    </a:cubicBezTo>
                    <a:cubicBezTo>
                      <a:pt x="355283" y="336233"/>
                      <a:pt x="353378" y="345758"/>
                      <a:pt x="350520" y="355283"/>
                    </a:cubicBezTo>
                    <a:cubicBezTo>
                      <a:pt x="348615" y="361950"/>
                      <a:pt x="347663" y="368618"/>
                      <a:pt x="348615" y="375285"/>
                    </a:cubicBezTo>
                    <a:cubicBezTo>
                      <a:pt x="349568" y="380048"/>
                      <a:pt x="350520" y="384810"/>
                      <a:pt x="352425" y="389573"/>
                    </a:cubicBezTo>
                    <a:cubicBezTo>
                      <a:pt x="355283" y="398145"/>
                      <a:pt x="358140" y="405765"/>
                      <a:pt x="360998" y="413385"/>
                    </a:cubicBezTo>
                    <a:cubicBezTo>
                      <a:pt x="367665" y="432435"/>
                      <a:pt x="373380" y="451485"/>
                      <a:pt x="377190" y="471488"/>
                    </a:cubicBezTo>
                    <a:cubicBezTo>
                      <a:pt x="379095" y="479108"/>
                      <a:pt x="380048" y="486728"/>
                      <a:pt x="381953" y="493395"/>
                    </a:cubicBezTo>
                    <a:cubicBezTo>
                      <a:pt x="386715" y="508635"/>
                      <a:pt x="392430" y="524828"/>
                      <a:pt x="397193" y="540068"/>
                    </a:cubicBezTo>
                    <a:cubicBezTo>
                      <a:pt x="399098" y="546735"/>
                      <a:pt x="402908" y="553403"/>
                      <a:pt x="406718" y="560070"/>
                    </a:cubicBezTo>
                    <a:cubicBezTo>
                      <a:pt x="410528" y="564833"/>
                      <a:pt x="413385" y="570548"/>
                      <a:pt x="417195" y="575310"/>
                    </a:cubicBezTo>
                    <a:cubicBezTo>
                      <a:pt x="418148" y="576263"/>
                      <a:pt x="418148" y="577215"/>
                      <a:pt x="419100" y="579120"/>
                    </a:cubicBezTo>
                    <a:cubicBezTo>
                      <a:pt x="419100" y="585788"/>
                      <a:pt x="419100" y="591503"/>
                      <a:pt x="420053" y="598170"/>
                    </a:cubicBezTo>
                    <a:cubicBezTo>
                      <a:pt x="421005" y="606743"/>
                      <a:pt x="421958" y="615315"/>
                      <a:pt x="422910" y="622935"/>
                    </a:cubicBezTo>
                    <a:cubicBezTo>
                      <a:pt x="423863" y="631508"/>
                      <a:pt x="425768" y="639128"/>
                      <a:pt x="426720" y="647700"/>
                    </a:cubicBezTo>
                    <a:lnTo>
                      <a:pt x="612458" y="647700"/>
                    </a:lnTo>
                    <a:cubicBezTo>
                      <a:pt x="649605" y="647700"/>
                      <a:pt x="683895" y="631508"/>
                      <a:pt x="706755" y="604838"/>
                    </a:cubicBezTo>
                    <a:cubicBezTo>
                      <a:pt x="704850" y="593408"/>
                      <a:pt x="701993" y="581978"/>
                      <a:pt x="699135" y="571500"/>
                    </a:cubicBezTo>
                    <a:cubicBezTo>
                      <a:pt x="698183" y="567690"/>
                      <a:pt x="697230" y="563880"/>
                      <a:pt x="697230" y="560070"/>
                    </a:cubicBezTo>
                    <a:cubicBezTo>
                      <a:pt x="696278" y="547688"/>
                      <a:pt x="695325" y="535305"/>
                      <a:pt x="694373" y="521970"/>
                    </a:cubicBezTo>
                    <a:cubicBezTo>
                      <a:pt x="693420" y="512445"/>
                      <a:pt x="692468" y="503873"/>
                      <a:pt x="691515" y="494348"/>
                    </a:cubicBezTo>
                    <a:cubicBezTo>
                      <a:pt x="690563" y="485775"/>
                      <a:pt x="689610" y="477203"/>
                      <a:pt x="688658" y="467678"/>
                    </a:cubicBezTo>
                    <a:cubicBezTo>
                      <a:pt x="687705" y="456248"/>
                      <a:pt x="685800" y="444818"/>
                      <a:pt x="684848" y="433388"/>
                    </a:cubicBezTo>
                    <a:cubicBezTo>
                      <a:pt x="684848" y="430530"/>
                      <a:pt x="683895" y="428625"/>
                      <a:pt x="683895" y="425768"/>
                    </a:cubicBezTo>
                    <a:cubicBezTo>
                      <a:pt x="687705" y="426720"/>
                      <a:pt x="690563" y="426720"/>
                      <a:pt x="693420" y="427673"/>
                    </a:cubicBezTo>
                    <a:cubicBezTo>
                      <a:pt x="701040" y="428625"/>
                      <a:pt x="708660" y="430530"/>
                      <a:pt x="717233" y="430530"/>
                    </a:cubicBezTo>
                    <a:cubicBezTo>
                      <a:pt x="720090" y="430530"/>
                      <a:pt x="723900" y="430530"/>
                      <a:pt x="726758" y="429578"/>
                    </a:cubicBezTo>
                    <a:cubicBezTo>
                      <a:pt x="731520" y="428625"/>
                      <a:pt x="735330" y="426720"/>
                      <a:pt x="738188" y="423863"/>
                    </a:cubicBezTo>
                    <a:lnTo>
                      <a:pt x="738188" y="114300"/>
                    </a:lnTo>
                    <a:cubicBezTo>
                      <a:pt x="737235" y="113348"/>
                      <a:pt x="736283" y="113348"/>
                      <a:pt x="736283" y="112395"/>
                    </a:cubicBezTo>
                    <a:cubicBezTo>
                      <a:pt x="733425" y="110490"/>
                      <a:pt x="730568" y="110490"/>
                      <a:pt x="726758" y="113348"/>
                    </a:cubicBezTo>
                    <a:close/>
                    <a:moveTo>
                      <a:pt x="607695" y="191453"/>
                    </a:moveTo>
                    <a:cubicBezTo>
                      <a:pt x="594360" y="195263"/>
                      <a:pt x="581978" y="200978"/>
                      <a:pt x="569595" y="204788"/>
                    </a:cubicBezTo>
                    <a:cubicBezTo>
                      <a:pt x="568643" y="204788"/>
                      <a:pt x="567690" y="205740"/>
                      <a:pt x="565785" y="205740"/>
                    </a:cubicBezTo>
                    <a:cubicBezTo>
                      <a:pt x="566738" y="202883"/>
                      <a:pt x="568643" y="200025"/>
                      <a:pt x="569595" y="198120"/>
                    </a:cubicBezTo>
                    <a:cubicBezTo>
                      <a:pt x="571500" y="196215"/>
                      <a:pt x="573405" y="193358"/>
                      <a:pt x="574358" y="191453"/>
                    </a:cubicBezTo>
                    <a:cubicBezTo>
                      <a:pt x="580073" y="184785"/>
                      <a:pt x="582930" y="176213"/>
                      <a:pt x="584835" y="167640"/>
                    </a:cubicBezTo>
                    <a:cubicBezTo>
                      <a:pt x="585788" y="162878"/>
                      <a:pt x="586740" y="158115"/>
                      <a:pt x="587693" y="153353"/>
                    </a:cubicBezTo>
                    <a:cubicBezTo>
                      <a:pt x="587693" y="152400"/>
                      <a:pt x="587693" y="152400"/>
                      <a:pt x="588645" y="151448"/>
                    </a:cubicBezTo>
                    <a:cubicBezTo>
                      <a:pt x="594360" y="151448"/>
                      <a:pt x="599123" y="151448"/>
                      <a:pt x="604838" y="151448"/>
                    </a:cubicBezTo>
                    <a:cubicBezTo>
                      <a:pt x="605790" y="155258"/>
                      <a:pt x="608648" y="158115"/>
                      <a:pt x="611505" y="159068"/>
                    </a:cubicBezTo>
                    <a:cubicBezTo>
                      <a:pt x="616268" y="160020"/>
                      <a:pt x="621983" y="160973"/>
                      <a:pt x="626745" y="161925"/>
                    </a:cubicBezTo>
                    <a:cubicBezTo>
                      <a:pt x="631508" y="162878"/>
                      <a:pt x="636270" y="162878"/>
                      <a:pt x="640080" y="164783"/>
                    </a:cubicBezTo>
                    <a:cubicBezTo>
                      <a:pt x="642938" y="165735"/>
                      <a:pt x="644843" y="167640"/>
                      <a:pt x="646748" y="169545"/>
                    </a:cubicBezTo>
                    <a:cubicBezTo>
                      <a:pt x="647700" y="170498"/>
                      <a:pt x="649605" y="172403"/>
                      <a:pt x="651510" y="172403"/>
                    </a:cubicBezTo>
                    <a:cubicBezTo>
                      <a:pt x="654368" y="173355"/>
                      <a:pt x="657225" y="174308"/>
                      <a:pt x="660083" y="174308"/>
                    </a:cubicBezTo>
                    <a:cubicBezTo>
                      <a:pt x="659130" y="174308"/>
                      <a:pt x="658178" y="175260"/>
                      <a:pt x="657225" y="175260"/>
                    </a:cubicBezTo>
                    <a:cubicBezTo>
                      <a:pt x="641033" y="180975"/>
                      <a:pt x="623888" y="185738"/>
                      <a:pt x="607695" y="191453"/>
                    </a:cubicBezTo>
                    <a:close/>
                    <a:moveTo>
                      <a:pt x="711518" y="273368"/>
                    </a:moveTo>
                    <a:cubicBezTo>
                      <a:pt x="710565" y="280035"/>
                      <a:pt x="708660" y="285750"/>
                      <a:pt x="704850" y="291465"/>
                    </a:cubicBezTo>
                    <a:cubicBezTo>
                      <a:pt x="701040" y="297180"/>
                      <a:pt x="696278" y="303848"/>
                      <a:pt x="692468" y="309563"/>
                    </a:cubicBezTo>
                    <a:cubicBezTo>
                      <a:pt x="692468" y="310515"/>
                      <a:pt x="691515" y="310515"/>
                      <a:pt x="691515" y="311468"/>
                    </a:cubicBezTo>
                    <a:cubicBezTo>
                      <a:pt x="688658" y="310515"/>
                      <a:pt x="684848" y="308610"/>
                      <a:pt x="681990" y="307658"/>
                    </a:cubicBezTo>
                    <a:cubicBezTo>
                      <a:pt x="681038" y="307658"/>
                      <a:pt x="681038" y="306705"/>
                      <a:pt x="680085" y="305753"/>
                    </a:cubicBezTo>
                    <a:cubicBezTo>
                      <a:pt x="679133" y="303848"/>
                      <a:pt x="678180" y="301943"/>
                      <a:pt x="675323" y="301943"/>
                    </a:cubicBezTo>
                    <a:cubicBezTo>
                      <a:pt x="671513" y="301943"/>
                      <a:pt x="668655" y="300038"/>
                      <a:pt x="666750" y="298133"/>
                    </a:cubicBezTo>
                    <a:cubicBezTo>
                      <a:pt x="662940" y="295275"/>
                      <a:pt x="661035" y="292418"/>
                      <a:pt x="660083" y="287655"/>
                    </a:cubicBezTo>
                    <a:cubicBezTo>
                      <a:pt x="660083" y="285750"/>
                      <a:pt x="659130" y="283845"/>
                      <a:pt x="658178" y="280988"/>
                    </a:cubicBezTo>
                    <a:cubicBezTo>
                      <a:pt x="676275" y="275273"/>
                      <a:pt x="693420" y="269558"/>
                      <a:pt x="711518" y="263843"/>
                    </a:cubicBezTo>
                    <a:cubicBezTo>
                      <a:pt x="711518" y="267653"/>
                      <a:pt x="711518" y="270510"/>
                      <a:pt x="711518" y="2733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6" name="Group 3"/>
          <p:cNvGrpSpPr/>
          <p:nvPr/>
        </p:nvGrpSpPr>
        <p:grpSpPr>
          <a:xfrm>
            <a:off x="3780000" y="865080"/>
            <a:ext cx="4632120" cy="765720"/>
            <a:chOff x="3780000" y="865080"/>
            <a:chExt cx="4632120" cy="765720"/>
          </a:xfrm>
        </p:grpSpPr>
        <p:sp>
          <p:nvSpPr>
            <p:cNvPr id="1447" name="TextBox 1"/>
            <p:cNvSpPr/>
            <p:nvPr/>
          </p:nvSpPr>
          <p:spPr>
            <a:xfrm>
              <a:off x="3780000" y="1140840"/>
              <a:ext cx="4632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Golferina Services</a:t>
              </a:r>
              <a:endParaRPr b="0" lang="en-US" sz="2600" spc="-1" strike="noStrike">
                <a:solidFill>
                  <a:srgbClr val="000000"/>
                </a:solidFill>
                <a:latin typeface="Calibri"/>
              </a:endParaRPr>
            </a:p>
          </p:txBody>
        </p:sp>
        <p:sp>
          <p:nvSpPr>
            <p:cNvPr id="1448" name="TextBox 2"/>
            <p:cNvSpPr/>
            <p:nvPr/>
          </p:nvSpPr>
          <p:spPr>
            <a:xfrm>
              <a:off x="4702320" y="865080"/>
              <a:ext cx="2787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OUR SERVICES</a:t>
              </a:r>
              <a:endParaRPr b="0" lang="en-US" sz="1100" spc="-1" strike="noStrike">
                <a:solidFill>
                  <a:srgbClr val="000000"/>
                </a:solidFill>
                <a:latin typeface="Calibri"/>
              </a:endParaRPr>
            </a:p>
          </p:txBody>
        </p:sp>
      </p:grpSp>
      <p:sp>
        <p:nvSpPr>
          <p:cNvPr id="1449" name="Freeform: Shape 14"/>
          <p:cNvSpPr/>
          <p:nvPr/>
        </p:nvSpPr>
        <p:spPr>
          <a:xfrm flipH="1">
            <a:off x="766800" y="3260880"/>
            <a:ext cx="2394000" cy="1744560"/>
          </a:xfrm>
          <a:custGeom>
            <a:avLst/>
            <a:gdLst/>
            <a:ahLst/>
            <a:rect l="l" t="t" r="r" b="b"/>
            <a:pathLst>
              <a:path w="3273826" h="2387518">
                <a:moveTo>
                  <a:pt x="3273826" y="0"/>
                </a:moveTo>
                <a:lnTo>
                  <a:pt x="3273826" y="2387518"/>
                </a:lnTo>
                <a:lnTo>
                  <a:pt x="0" y="2387518"/>
                </a:lnTo>
                <a:lnTo>
                  <a:pt x="0" y="585840"/>
                </a:lnTo>
                <a:lnTo>
                  <a:pt x="3273826" y="0"/>
                </a:lnTo>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grpSp>
        <p:nvGrpSpPr>
          <p:cNvPr id="1450" name="Group 82"/>
          <p:cNvGrpSpPr/>
          <p:nvPr/>
        </p:nvGrpSpPr>
        <p:grpSpPr>
          <a:xfrm>
            <a:off x="1515960" y="4371840"/>
            <a:ext cx="1644840" cy="492120"/>
            <a:chOff x="1515960" y="4371840"/>
            <a:chExt cx="1644840" cy="492120"/>
          </a:xfrm>
        </p:grpSpPr>
        <p:sp>
          <p:nvSpPr>
            <p:cNvPr id="1451" name="TextBox 47"/>
            <p:cNvSpPr/>
            <p:nvPr/>
          </p:nvSpPr>
          <p:spPr>
            <a:xfrm>
              <a:off x="1515960" y="4371840"/>
              <a:ext cx="164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5b665"/>
                  </a:solidFill>
                  <a:latin typeface="Muli SemiBold"/>
                  <a:ea typeface="Poppins SemiBold"/>
                </a:rPr>
                <a:t>Best Courses</a:t>
              </a:r>
              <a:endParaRPr b="0" lang="en-US" sz="1100" spc="-1" strike="noStrike">
                <a:solidFill>
                  <a:srgbClr val="000000"/>
                </a:solidFill>
                <a:latin typeface="Calibri"/>
              </a:endParaRPr>
            </a:p>
          </p:txBody>
        </p:sp>
        <p:sp>
          <p:nvSpPr>
            <p:cNvPr id="1452" name="TextBox 48"/>
            <p:cNvSpPr/>
            <p:nvPr/>
          </p:nvSpPr>
          <p:spPr>
            <a:xfrm>
              <a:off x="1515960" y="4602600"/>
              <a:ext cx="164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GOLF COACHING</a:t>
              </a:r>
              <a:endParaRPr b="0" lang="en-US" sz="1100" spc="-1" strike="noStrike">
                <a:solidFill>
                  <a:srgbClr val="000000"/>
                </a:solidFill>
                <a:latin typeface="Calibri"/>
              </a:endParaRPr>
            </a:p>
          </p:txBody>
        </p:sp>
      </p:grpSp>
      <p:grpSp>
        <p:nvGrpSpPr>
          <p:cNvPr id="1453" name="Group 81"/>
          <p:cNvGrpSpPr/>
          <p:nvPr/>
        </p:nvGrpSpPr>
        <p:grpSpPr>
          <a:xfrm>
            <a:off x="933120" y="3636360"/>
            <a:ext cx="439560" cy="1368360"/>
            <a:chOff x="933120" y="3636360"/>
            <a:chExt cx="439560" cy="1368360"/>
          </a:xfrm>
        </p:grpSpPr>
        <p:sp>
          <p:nvSpPr>
            <p:cNvPr id="1454" name="Flowchart: Manual Input 19"/>
            <p:cNvSpPr/>
            <p:nvPr/>
          </p:nvSpPr>
          <p:spPr>
            <a:xfrm flipV="1" rot="10800000">
              <a:off x="933120" y="3636000"/>
              <a:ext cx="439560" cy="1368360"/>
            </a:xfrm>
            <a:prstGeom prst="flowChartManualInput">
              <a:avLst/>
            </a:prstGeom>
            <a:solidFill>
              <a:srgbClr val="d5b6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55" name="TextBox 49" descr=""/>
            <p:cNvPicPr/>
            <p:nvPr/>
          </p:nvPicPr>
          <p:blipFill>
            <a:blip r:embed="rId1"/>
            <a:stretch/>
          </p:blipFill>
          <p:spPr>
            <a:xfrm>
              <a:off x="965520" y="3924360"/>
              <a:ext cx="367200" cy="1028520"/>
            </a:xfrm>
            <a:prstGeom prst="rect">
              <a:avLst/>
            </a:prstGeom>
            <a:ln w="0">
              <a:noFill/>
            </a:ln>
          </p:spPr>
        </p:pic>
      </p:grpSp>
      <p:sp>
        <p:nvSpPr>
          <p:cNvPr id="1456" name="Freeform: Shape 52"/>
          <p:cNvSpPr/>
          <p:nvPr/>
        </p:nvSpPr>
        <p:spPr>
          <a:xfrm flipH="1">
            <a:off x="3522600" y="3260880"/>
            <a:ext cx="2392560" cy="1744560"/>
          </a:xfrm>
          <a:custGeom>
            <a:avLst/>
            <a:gdLst/>
            <a:ahLst/>
            <a:rect l="l" t="t" r="r" b="b"/>
            <a:pathLst>
              <a:path w="3273826" h="2387518">
                <a:moveTo>
                  <a:pt x="3273826" y="0"/>
                </a:moveTo>
                <a:lnTo>
                  <a:pt x="3273826" y="2387518"/>
                </a:lnTo>
                <a:lnTo>
                  <a:pt x="0" y="2387518"/>
                </a:lnTo>
                <a:lnTo>
                  <a:pt x="0" y="585840"/>
                </a:lnTo>
                <a:lnTo>
                  <a:pt x="3273826" y="0"/>
                </a:lnTo>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grpSp>
        <p:nvGrpSpPr>
          <p:cNvPr id="1457" name="Group 79"/>
          <p:cNvGrpSpPr/>
          <p:nvPr/>
        </p:nvGrpSpPr>
        <p:grpSpPr>
          <a:xfrm>
            <a:off x="4270320" y="4371840"/>
            <a:ext cx="1644840" cy="492120"/>
            <a:chOff x="4270320" y="4371840"/>
            <a:chExt cx="1644840" cy="492120"/>
          </a:xfrm>
        </p:grpSpPr>
        <p:sp>
          <p:nvSpPr>
            <p:cNvPr id="1458" name="TextBox 54"/>
            <p:cNvSpPr/>
            <p:nvPr/>
          </p:nvSpPr>
          <p:spPr>
            <a:xfrm>
              <a:off x="4270320" y="4371840"/>
              <a:ext cx="164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5b665"/>
                  </a:solidFill>
                  <a:latin typeface="Muli SemiBold"/>
                  <a:ea typeface="Poppins SemiBold"/>
                </a:rPr>
                <a:t>Best Trainers</a:t>
              </a:r>
              <a:endParaRPr b="0" lang="en-US" sz="1100" spc="-1" strike="noStrike">
                <a:solidFill>
                  <a:srgbClr val="000000"/>
                </a:solidFill>
                <a:latin typeface="Calibri"/>
              </a:endParaRPr>
            </a:p>
          </p:txBody>
        </p:sp>
        <p:sp>
          <p:nvSpPr>
            <p:cNvPr id="1459" name="TextBox 55"/>
            <p:cNvSpPr/>
            <p:nvPr/>
          </p:nvSpPr>
          <p:spPr>
            <a:xfrm>
              <a:off x="4270320" y="4602600"/>
              <a:ext cx="164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SPECIAL SERVICE</a:t>
              </a:r>
              <a:endParaRPr b="0" lang="en-US" sz="1100" spc="-1" strike="noStrike">
                <a:solidFill>
                  <a:srgbClr val="000000"/>
                </a:solidFill>
                <a:latin typeface="Calibri"/>
              </a:endParaRPr>
            </a:p>
          </p:txBody>
        </p:sp>
      </p:grpSp>
      <p:grpSp>
        <p:nvGrpSpPr>
          <p:cNvPr id="1460" name="Group 80"/>
          <p:cNvGrpSpPr/>
          <p:nvPr/>
        </p:nvGrpSpPr>
        <p:grpSpPr>
          <a:xfrm>
            <a:off x="3687840" y="3636360"/>
            <a:ext cx="441360" cy="1368360"/>
            <a:chOff x="3687840" y="3636360"/>
            <a:chExt cx="441360" cy="1368360"/>
          </a:xfrm>
        </p:grpSpPr>
        <p:sp>
          <p:nvSpPr>
            <p:cNvPr id="1461" name="Flowchart: Manual Input 53"/>
            <p:cNvSpPr/>
            <p:nvPr/>
          </p:nvSpPr>
          <p:spPr>
            <a:xfrm flipV="1" rot="10800000">
              <a:off x="3687840" y="3636000"/>
              <a:ext cx="441360" cy="1368360"/>
            </a:xfrm>
            <a:prstGeom prst="flowChartManualInput">
              <a:avLst/>
            </a:prstGeom>
            <a:solidFill>
              <a:srgbClr val="d5b6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62" name="TextBox 57" descr=""/>
            <p:cNvPicPr/>
            <p:nvPr/>
          </p:nvPicPr>
          <p:blipFill>
            <a:blip r:embed="rId2"/>
            <a:stretch/>
          </p:blipFill>
          <p:spPr>
            <a:xfrm>
              <a:off x="3721320" y="3924360"/>
              <a:ext cx="368640" cy="1028520"/>
            </a:xfrm>
            <a:prstGeom prst="rect">
              <a:avLst/>
            </a:prstGeom>
            <a:ln w="0">
              <a:noFill/>
            </a:ln>
          </p:spPr>
        </p:pic>
      </p:grpSp>
      <p:sp>
        <p:nvSpPr>
          <p:cNvPr id="1463" name="Freeform: Shape 59"/>
          <p:cNvSpPr/>
          <p:nvPr/>
        </p:nvSpPr>
        <p:spPr>
          <a:xfrm flipH="1">
            <a:off x="6276240" y="3260880"/>
            <a:ext cx="2392200" cy="1744560"/>
          </a:xfrm>
          <a:custGeom>
            <a:avLst/>
            <a:gdLst/>
            <a:ahLst/>
            <a:rect l="l" t="t" r="r" b="b"/>
            <a:pathLst>
              <a:path w="3273826" h="2387518">
                <a:moveTo>
                  <a:pt x="3273826" y="0"/>
                </a:moveTo>
                <a:lnTo>
                  <a:pt x="3273826" y="2387518"/>
                </a:lnTo>
                <a:lnTo>
                  <a:pt x="0" y="2387518"/>
                </a:lnTo>
                <a:lnTo>
                  <a:pt x="0" y="585840"/>
                </a:lnTo>
                <a:lnTo>
                  <a:pt x="3273826" y="0"/>
                </a:lnTo>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grpSp>
        <p:nvGrpSpPr>
          <p:cNvPr id="1464" name="Group 77"/>
          <p:cNvGrpSpPr/>
          <p:nvPr/>
        </p:nvGrpSpPr>
        <p:grpSpPr>
          <a:xfrm>
            <a:off x="7024680" y="4371840"/>
            <a:ext cx="1785960" cy="492120"/>
            <a:chOff x="7024680" y="4371840"/>
            <a:chExt cx="1785960" cy="492120"/>
          </a:xfrm>
        </p:grpSpPr>
        <p:sp>
          <p:nvSpPr>
            <p:cNvPr id="1465" name="TextBox 61"/>
            <p:cNvSpPr/>
            <p:nvPr/>
          </p:nvSpPr>
          <p:spPr>
            <a:xfrm>
              <a:off x="7024680" y="4371840"/>
              <a:ext cx="1644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5b665"/>
                  </a:solidFill>
                  <a:latin typeface="Muli SemiBold"/>
                  <a:ea typeface="Poppins SemiBold"/>
                </a:rPr>
                <a:t>One-on-one Training</a:t>
              </a:r>
              <a:endParaRPr b="0" lang="en-US" sz="1100" spc="-1" strike="noStrike">
                <a:solidFill>
                  <a:srgbClr val="000000"/>
                </a:solidFill>
                <a:latin typeface="Calibri"/>
              </a:endParaRPr>
            </a:p>
          </p:txBody>
        </p:sp>
        <p:sp>
          <p:nvSpPr>
            <p:cNvPr id="1466" name="TextBox 62"/>
            <p:cNvSpPr/>
            <p:nvPr/>
          </p:nvSpPr>
          <p:spPr>
            <a:xfrm>
              <a:off x="7024680" y="4602600"/>
              <a:ext cx="1785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PRIVATE COACH</a:t>
              </a:r>
              <a:endParaRPr b="0" lang="en-US" sz="1100" spc="-1" strike="noStrike">
                <a:solidFill>
                  <a:srgbClr val="000000"/>
                </a:solidFill>
                <a:latin typeface="Calibri"/>
              </a:endParaRPr>
            </a:p>
          </p:txBody>
        </p:sp>
      </p:grpSp>
      <p:grpSp>
        <p:nvGrpSpPr>
          <p:cNvPr id="1467" name="Group 78"/>
          <p:cNvGrpSpPr/>
          <p:nvPr/>
        </p:nvGrpSpPr>
        <p:grpSpPr>
          <a:xfrm>
            <a:off x="6442200" y="3636360"/>
            <a:ext cx="441360" cy="1368360"/>
            <a:chOff x="6442200" y="3636360"/>
            <a:chExt cx="441360" cy="1368360"/>
          </a:xfrm>
        </p:grpSpPr>
        <p:sp>
          <p:nvSpPr>
            <p:cNvPr id="1468" name="Flowchart: Manual Input 60"/>
            <p:cNvSpPr/>
            <p:nvPr/>
          </p:nvSpPr>
          <p:spPr>
            <a:xfrm flipV="1" rot="10800000">
              <a:off x="6442200" y="3636000"/>
              <a:ext cx="441360" cy="1368360"/>
            </a:xfrm>
            <a:prstGeom prst="flowChartManualInput">
              <a:avLst/>
            </a:prstGeom>
            <a:solidFill>
              <a:srgbClr val="d5b6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69" name="TextBox 64" descr=""/>
            <p:cNvPicPr/>
            <p:nvPr/>
          </p:nvPicPr>
          <p:blipFill>
            <a:blip r:embed="rId3"/>
            <a:stretch/>
          </p:blipFill>
          <p:spPr>
            <a:xfrm>
              <a:off x="6476760" y="3924360"/>
              <a:ext cx="368640" cy="1028520"/>
            </a:xfrm>
            <a:prstGeom prst="rect">
              <a:avLst/>
            </a:prstGeom>
            <a:ln w="0">
              <a:noFill/>
            </a:ln>
          </p:spPr>
        </p:pic>
      </p:grpSp>
      <p:sp>
        <p:nvSpPr>
          <p:cNvPr id="1470" name="Freeform: Shape 66"/>
          <p:cNvSpPr/>
          <p:nvPr/>
        </p:nvSpPr>
        <p:spPr>
          <a:xfrm flipH="1">
            <a:off x="9031320" y="3260880"/>
            <a:ext cx="2394000" cy="1744560"/>
          </a:xfrm>
          <a:custGeom>
            <a:avLst/>
            <a:gdLst/>
            <a:ahLst/>
            <a:rect l="l" t="t" r="r" b="b"/>
            <a:pathLst>
              <a:path w="3273826" h="2387518">
                <a:moveTo>
                  <a:pt x="3273826" y="0"/>
                </a:moveTo>
                <a:lnTo>
                  <a:pt x="3273826" y="2387518"/>
                </a:lnTo>
                <a:lnTo>
                  <a:pt x="0" y="2387518"/>
                </a:lnTo>
                <a:lnTo>
                  <a:pt x="0" y="585840"/>
                </a:lnTo>
                <a:lnTo>
                  <a:pt x="3273826" y="0"/>
                </a:lnTo>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grpSp>
        <p:nvGrpSpPr>
          <p:cNvPr id="1471" name="Group 75"/>
          <p:cNvGrpSpPr/>
          <p:nvPr/>
        </p:nvGrpSpPr>
        <p:grpSpPr>
          <a:xfrm>
            <a:off x="9780480" y="4371840"/>
            <a:ext cx="1644840" cy="492120"/>
            <a:chOff x="9780480" y="4371840"/>
            <a:chExt cx="1644840" cy="492120"/>
          </a:xfrm>
        </p:grpSpPr>
        <p:sp>
          <p:nvSpPr>
            <p:cNvPr id="1472" name="TextBox 68"/>
            <p:cNvSpPr/>
            <p:nvPr/>
          </p:nvSpPr>
          <p:spPr>
            <a:xfrm>
              <a:off x="9780480" y="4371840"/>
              <a:ext cx="164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5b665"/>
                  </a:solidFill>
                  <a:latin typeface="Muli SemiBold"/>
                  <a:ea typeface="Poppins SemiBold"/>
                </a:rPr>
                <a:t>Premium Access</a:t>
              </a:r>
              <a:endParaRPr b="0" lang="en-US" sz="1100" spc="-1" strike="noStrike">
                <a:solidFill>
                  <a:srgbClr val="000000"/>
                </a:solidFill>
                <a:latin typeface="Calibri"/>
              </a:endParaRPr>
            </a:p>
          </p:txBody>
        </p:sp>
        <p:sp>
          <p:nvSpPr>
            <p:cNvPr id="1473" name="TextBox 69"/>
            <p:cNvSpPr/>
            <p:nvPr/>
          </p:nvSpPr>
          <p:spPr>
            <a:xfrm>
              <a:off x="9780480" y="4602600"/>
              <a:ext cx="164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MEMBERSHIP</a:t>
              </a:r>
              <a:endParaRPr b="0" lang="en-US" sz="1100" spc="-1" strike="noStrike">
                <a:solidFill>
                  <a:srgbClr val="000000"/>
                </a:solidFill>
                <a:latin typeface="Calibri"/>
              </a:endParaRPr>
            </a:p>
          </p:txBody>
        </p:sp>
      </p:grpSp>
      <p:grpSp>
        <p:nvGrpSpPr>
          <p:cNvPr id="1474" name="Group 76"/>
          <p:cNvGrpSpPr/>
          <p:nvPr/>
        </p:nvGrpSpPr>
        <p:grpSpPr>
          <a:xfrm>
            <a:off x="9197640" y="3636360"/>
            <a:ext cx="439560" cy="1368360"/>
            <a:chOff x="9197640" y="3636360"/>
            <a:chExt cx="439560" cy="1368360"/>
          </a:xfrm>
        </p:grpSpPr>
        <p:sp>
          <p:nvSpPr>
            <p:cNvPr id="1475" name="Flowchart: Manual Input 67"/>
            <p:cNvSpPr/>
            <p:nvPr/>
          </p:nvSpPr>
          <p:spPr>
            <a:xfrm flipV="1" rot="10800000">
              <a:off x="9197640" y="3636000"/>
              <a:ext cx="439560" cy="1368360"/>
            </a:xfrm>
            <a:prstGeom prst="flowChartManualInput">
              <a:avLst/>
            </a:prstGeom>
            <a:solidFill>
              <a:srgbClr val="d5b6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76" name="TextBox 71" descr=""/>
            <p:cNvPicPr/>
            <p:nvPr/>
          </p:nvPicPr>
          <p:blipFill>
            <a:blip r:embed="rId4"/>
            <a:stretch/>
          </p:blipFill>
          <p:spPr>
            <a:xfrm>
              <a:off x="9233280" y="3924360"/>
              <a:ext cx="354600" cy="1028520"/>
            </a:xfrm>
            <a:prstGeom prst="rect">
              <a:avLst/>
            </a:prstGeom>
            <a:ln w="0">
              <a:noFill/>
            </a:ln>
          </p:spPr>
        </p:pic>
      </p:grpSp>
      <p:sp>
        <p:nvSpPr>
          <p:cNvPr id="1477" name="TextBox 74"/>
          <p:cNvSpPr/>
          <p:nvPr/>
        </p:nvSpPr>
        <p:spPr>
          <a:xfrm>
            <a:off x="2692440" y="5438880"/>
            <a:ext cx="680724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golf elit sed do eiusmod tempor incididunt ut labore et dolore magna aliqua. Ut enim ad minim veniam quis nostrud exercitation ullamco laboris nisi.</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8" name="" descr=""/>
          <p:cNvPicPr/>
          <p:nvPr/>
        </p:nvPicPr>
        <p:blipFill>
          <a:blip r:embed="rId1"/>
          <a:stretch/>
        </p:blipFill>
        <p:spPr>
          <a:xfrm>
            <a:off x="-360" y="-9360"/>
            <a:ext cx="12192120" cy="6867360"/>
          </a:xfrm>
          <a:prstGeom prst="rect">
            <a:avLst/>
          </a:prstGeom>
          <a:ln w="0">
            <a:noFill/>
          </a:ln>
        </p:spPr>
      </p:pic>
      <p:sp>
        <p:nvSpPr>
          <p:cNvPr id="1479" name="Graphic 6"/>
          <p:cNvSpPr/>
          <p:nvPr/>
        </p:nvSpPr>
        <p:spPr>
          <a:xfrm>
            <a:off x="550800" y="549360"/>
            <a:ext cx="11090160" cy="57592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480" name="Group 2"/>
          <p:cNvGrpSpPr/>
          <p:nvPr/>
        </p:nvGrpSpPr>
        <p:grpSpPr>
          <a:xfrm>
            <a:off x="5797440" y="5911920"/>
            <a:ext cx="596880" cy="596880"/>
            <a:chOff x="5797440" y="5911920"/>
            <a:chExt cx="596880" cy="596880"/>
          </a:xfrm>
        </p:grpSpPr>
        <p:sp>
          <p:nvSpPr>
            <p:cNvPr id="1481" name="Oval 3"/>
            <p:cNvSpPr/>
            <p:nvPr/>
          </p:nvSpPr>
          <p:spPr>
            <a:xfrm>
              <a:off x="5797440" y="5911920"/>
              <a:ext cx="596880" cy="596880"/>
            </a:xfrm>
            <a:prstGeom prst="ellipse">
              <a:avLst/>
            </a:prstGeom>
            <a:solidFill>
              <a:srgbClr val="ffffff"/>
            </a:solidFill>
            <a:ln w="0">
              <a:noFill/>
            </a:ln>
            <a:effectLst>
              <a:outerShdw dist="10152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82" name="Group 4"/>
            <p:cNvGrpSpPr/>
            <p:nvPr/>
          </p:nvGrpSpPr>
          <p:grpSpPr>
            <a:xfrm>
              <a:off x="5991480" y="6105960"/>
              <a:ext cx="208800" cy="208800"/>
              <a:chOff x="5991480" y="6105960"/>
              <a:chExt cx="208800" cy="208800"/>
            </a:xfrm>
          </p:grpSpPr>
          <p:sp>
            <p:nvSpPr>
              <p:cNvPr id="1483" name="Freeform: Shape 5"/>
              <p:cNvSpPr/>
              <p:nvPr/>
            </p:nvSpPr>
            <p:spPr>
              <a:xfrm>
                <a:off x="5991480" y="6105960"/>
                <a:ext cx="208800" cy="208800"/>
              </a:xfrm>
              <a:custGeom>
                <a:avLst/>
                <a:gdLst/>
                <a:ahLst/>
                <a:rect l="l" t="t" r="r" b="b"/>
                <a:pathLst>
                  <a:path w="773429" h="772477">
                    <a:moveTo>
                      <a:pt x="647700" y="772478"/>
                    </a:moveTo>
                    <a:lnTo>
                      <a:pt x="125730" y="772478"/>
                    </a:lnTo>
                    <a:cubicBezTo>
                      <a:pt x="56198" y="772478"/>
                      <a:pt x="0" y="716280"/>
                      <a:pt x="0" y="646748"/>
                    </a:cubicBezTo>
                    <a:lnTo>
                      <a:pt x="0" y="125730"/>
                    </a:lnTo>
                    <a:cubicBezTo>
                      <a:pt x="0" y="56198"/>
                      <a:pt x="56198" y="0"/>
                      <a:pt x="125730" y="0"/>
                    </a:cubicBezTo>
                    <a:lnTo>
                      <a:pt x="647700" y="0"/>
                    </a:lnTo>
                    <a:cubicBezTo>
                      <a:pt x="717233" y="0"/>
                      <a:pt x="773430" y="56198"/>
                      <a:pt x="773430" y="125730"/>
                    </a:cubicBezTo>
                    <a:lnTo>
                      <a:pt x="773430" y="647700"/>
                    </a:lnTo>
                    <a:cubicBezTo>
                      <a:pt x="772478" y="716280"/>
                      <a:pt x="716280" y="772478"/>
                      <a:pt x="647700" y="772478"/>
                    </a:cubicBezTo>
                    <a:close/>
                  </a:path>
                </a:pathLst>
              </a:custGeom>
              <a:solidFill>
                <a:srgbClr val="d5b66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4" name="Freeform: Shape 6"/>
              <p:cNvSpPr/>
              <p:nvPr/>
            </p:nvSpPr>
            <p:spPr>
              <a:xfrm>
                <a:off x="6000840" y="6139440"/>
                <a:ext cx="199440" cy="175320"/>
              </a:xfrm>
              <a:custGeom>
                <a:avLst/>
                <a:gdLst/>
                <a:ahLst/>
                <a:rect l="l" t="t" r="r" b="b"/>
                <a:pathLst>
                  <a:path w="738187" h="647699">
                    <a:moveTo>
                      <a:pt x="726758" y="113348"/>
                    </a:moveTo>
                    <a:cubicBezTo>
                      <a:pt x="725805" y="114300"/>
                      <a:pt x="724853" y="115252"/>
                      <a:pt x="723900" y="116205"/>
                    </a:cubicBezTo>
                    <a:cubicBezTo>
                      <a:pt x="722948" y="115252"/>
                      <a:pt x="721995" y="115252"/>
                      <a:pt x="721043" y="114300"/>
                    </a:cubicBezTo>
                    <a:cubicBezTo>
                      <a:pt x="719138" y="112395"/>
                      <a:pt x="716280" y="111443"/>
                      <a:pt x="713423" y="111443"/>
                    </a:cubicBezTo>
                    <a:cubicBezTo>
                      <a:pt x="710565" y="110490"/>
                      <a:pt x="707708" y="109538"/>
                      <a:pt x="705803" y="107633"/>
                    </a:cubicBezTo>
                    <a:cubicBezTo>
                      <a:pt x="702945" y="105727"/>
                      <a:pt x="699135" y="103823"/>
                      <a:pt x="696278" y="103823"/>
                    </a:cubicBezTo>
                    <a:cubicBezTo>
                      <a:pt x="694373" y="103823"/>
                      <a:pt x="692468" y="103823"/>
                      <a:pt x="689610" y="104775"/>
                    </a:cubicBezTo>
                    <a:cubicBezTo>
                      <a:pt x="687705" y="105727"/>
                      <a:pt x="684848" y="105727"/>
                      <a:pt x="681990" y="105727"/>
                    </a:cubicBezTo>
                    <a:cubicBezTo>
                      <a:pt x="678180" y="104775"/>
                      <a:pt x="675323" y="104775"/>
                      <a:pt x="671513" y="106680"/>
                    </a:cubicBezTo>
                    <a:cubicBezTo>
                      <a:pt x="670560" y="107633"/>
                      <a:pt x="668655" y="106680"/>
                      <a:pt x="667703" y="106680"/>
                    </a:cubicBezTo>
                    <a:cubicBezTo>
                      <a:pt x="664845" y="106680"/>
                      <a:pt x="662940" y="105727"/>
                      <a:pt x="660083" y="104775"/>
                    </a:cubicBezTo>
                    <a:cubicBezTo>
                      <a:pt x="657225" y="103823"/>
                      <a:pt x="655320" y="104775"/>
                      <a:pt x="653415" y="106680"/>
                    </a:cubicBezTo>
                    <a:cubicBezTo>
                      <a:pt x="651510" y="109538"/>
                      <a:pt x="649605" y="112395"/>
                      <a:pt x="648653" y="114300"/>
                    </a:cubicBezTo>
                    <a:cubicBezTo>
                      <a:pt x="648653" y="115252"/>
                      <a:pt x="647700" y="116205"/>
                      <a:pt x="647700" y="117158"/>
                    </a:cubicBezTo>
                    <a:cubicBezTo>
                      <a:pt x="645795" y="117158"/>
                      <a:pt x="643890" y="117158"/>
                      <a:pt x="641985" y="118110"/>
                    </a:cubicBezTo>
                    <a:cubicBezTo>
                      <a:pt x="641033" y="118110"/>
                      <a:pt x="640080" y="118110"/>
                      <a:pt x="639128" y="118110"/>
                    </a:cubicBezTo>
                    <a:cubicBezTo>
                      <a:pt x="635318" y="120015"/>
                      <a:pt x="631508" y="119063"/>
                      <a:pt x="628650" y="119063"/>
                    </a:cubicBezTo>
                    <a:cubicBezTo>
                      <a:pt x="628650" y="119063"/>
                      <a:pt x="627698" y="119063"/>
                      <a:pt x="627698" y="119063"/>
                    </a:cubicBezTo>
                    <a:cubicBezTo>
                      <a:pt x="619125" y="119063"/>
                      <a:pt x="618173" y="121920"/>
                      <a:pt x="617220" y="128588"/>
                    </a:cubicBezTo>
                    <a:cubicBezTo>
                      <a:pt x="617220" y="130493"/>
                      <a:pt x="617220" y="132398"/>
                      <a:pt x="617220" y="135255"/>
                    </a:cubicBezTo>
                    <a:cubicBezTo>
                      <a:pt x="607695" y="135255"/>
                      <a:pt x="599123" y="135255"/>
                      <a:pt x="589598" y="136208"/>
                    </a:cubicBezTo>
                    <a:cubicBezTo>
                      <a:pt x="589598" y="134303"/>
                      <a:pt x="589598" y="133350"/>
                      <a:pt x="589598" y="131445"/>
                    </a:cubicBezTo>
                    <a:cubicBezTo>
                      <a:pt x="590550" y="123825"/>
                      <a:pt x="589598" y="117158"/>
                      <a:pt x="589598" y="110490"/>
                    </a:cubicBezTo>
                    <a:cubicBezTo>
                      <a:pt x="588645" y="105727"/>
                      <a:pt x="589598" y="100013"/>
                      <a:pt x="589598" y="95250"/>
                    </a:cubicBezTo>
                    <a:cubicBezTo>
                      <a:pt x="589598" y="95250"/>
                      <a:pt x="589598" y="94298"/>
                      <a:pt x="589598" y="94298"/>
                    </a:cubicBezTo>
                    <a:cubicBezTo>
                      <a:pt x="591503" y="91440"/>
                      <a:pt x="592455" y="88583"/>
                      <a:pt x="594360" y="85725"/>
                    </a:cubicBezTo>
                    <a:cubicBezTo>
                      <a:pt x="596265" y="86677"/>
                      <a:pt x="597218" y="87630"/>
                      <a:pt x="598170" y="87630"/>
                    </a:cubicBezTo>
                    <a:cubicBezTo>
                      <a:pt x="600075" y="88583"/>
                      <a:pt x="601980" y="88583"/>
                      <a:pt x="604838" y="88583"/>
                    </a:cubicBezTo>
                    <a:cubicBezTo>
                      <a:pt x="606743" y="88583"/>
                      <a:pt x="608648" y="87630"/>
                      <a:pt x="608648" y="85725"/>
                    </a:cubicBezTo>
                    <a:cubicBezTo>
                      <a:pt x="608648" y="83820"/>
                      <a:pt x="609600" y="82868"/>
                      <a:pt x="609600" y="80963"/>
                    </a:cubicBezTo>
                    <a:cubicBezTo>
                      <a:pt x="609600" y="74295"/>
                      <a:pt x="608648" y="67627"/>
                      <a:pt x="603885" y="61913"/>
                    </a:cubicBezTo>
                    <a:cubicBezTo>
                      <a:pt x="599123" y="55245"/>
                      <a:pt x="593408" y="48577"/>
                      <a:pt x="587693" y="43815"/>
                    </a:cubicBezTo>
                    <a:cubicBezTo>
                      <a:pt x="585788" y="41910"/>
                      <a:pt x="583883" y="40005"/>
                      <a:pt x="582930" y="38100"/>
                    </a:cubicBezTo>
                    <a:cubicBezTo>
                      <a:pt x="581978" y="35243"/>
                      <a:pt x="580073" y="32385"/>
                      <a:pt x="579120" y="29527"/>
                    </a:cubicBezTo>
                    <a:cubicBezTo>
                      <a:pt x="576263" y="23813"/>
                      <a:pt x="572453" y="19050"/>
                      <a:pt x="567690" y="15240"/>
                    </a:cubicBezTo>
                    <a:cubicBezTo>
                      <a:pt x="562928" y="11430"/>
                      <a:pt x="558165" y="8573"/>
                      <a:pt x="552450" y="6667"/>
                    </a:cubicBezTo>
                    <a:cubicBezTo>
                      <a:pt x="546735" y="4763"/>
                      <a:pt x="541020" y="1905"/>
                      <a:pt x="535305" y="953"/>
                    </a:cubicBezTo>
                    <a:cubicBezTo>
                      <a:pt x="533400" y="953"/>
                      <a:pt x="531495" y="0"/>
                      <a:pt x="529590" y="0"/>
                    </a:cubicBezTo>
                    <a:cubicBezTo>
                      <a:pt x="525780" y="0"/>
                      <a:pt x="521018" y="0"/>
                      <a:pt x="517208" y="0"/>
                    </a:cubicBezTo>
                    <a:cubicBezTo>
                      <a:pt x="513398" y="953"/>
                      <a:pt x="508635" y="953"/>
                      <a:pt x="504825" y="1905"/>
                    </a:cubicBezTo>
                    <a:cubicBezTo>
                      <a:pt x="502920" y="1905"/>
                      <a:pt x="501015" y="2858"/>
                      <a:pt x="500063" y="3810"/>
                    </a:cubicBezTo>
                    <a:cubicBezTo>
                      <a:pt x="499110" y="4763"/>
                      <a:pt x="497205" y="5715"/>
                      <a:pt x="496253" y="5715"/>
                    </a:cubicBezTo>
                    <a:cubicBezTo>
                      <a:pt x="492443" y="5715"/>
                      <a:pt x="489585" y="7620"/>
                      <a:pt x="486728" y="8573"/>
                    </a:cubicBezTo>
                    <a:cubicBezTo>
                      <a:pt x="478155" y="12383"/>
                      <a:pt x="470535" y="17145"/>
                      <a:pt x="463868" y="22860"/>
                    </a:cubicBezTo>
                    <a:cubicBezTo>
                      <a:pt x="458153" y="27623"/>
                      <a:pt x="453390" y="33338"/>
                      <a:pt x="450533" y="40005"/>
                    </a:cubicBezTo>
                    <a:cubicBezTo>
                      <a:pt x="445770" y="50483"/>
                      <a:pt x="442913" y="61913"/>
                      <a:pt x="441960" y="74295"/>
                    </a:cubicBezTo>
                    <a:cubicBezTo>
                      <a:pt x="441008" y="82868"/>
                      <a:pt x="441008" y="91440"/>
                      <a:pt x="441008" y="99060"/>
                    </a:cubicBezTo>
                    <a:cubicBezTo>
                      <a:pt x="441008" y="100965"/>
                      <a:pt x="440055" y="102870"/>
                      <a:pt x="439103" y="103823"/>
                    </a:cubicBezTo>
                    <a:cubicBezTo>
                      <a:pt x="435293" y="106680"/>
                      <a:pt x="434340" y="111443"/>
                      <a:pt x="435293" y="116205"/>
                    </a:cubicBezTo>
                    <a:cubicBezTo>
                      <a:pt x="436245" y="118110"/>
                      <a:pt x="436245" y="120015"/>
                      <a:pt x="437198" y="122873"/>
                    </a:cubicBezTo>
                    <a:cubicBezTo>
                      <a:pt x="437198" y="124777"/>
                      <a:pt x="438150" y="126683"/>
                      <a:pt x="438150" y="128588"/>
                    </a:cubicBezTo>
                    <a:cubicBezTo>
                      <a:pt x="438150" y="130493"/>
                      <a:pt x="438150" y="132398"/>
                      <a:pt x="439103" y="134303"/>
                    </a:cubicBezTo>
                    <a:cubicBezTo>
                      <a:pt x="436245" y="134303"/>
                      <a:pt x="433388" y="134303"/>
                      <a:pt x="429578" y="134303"/>
                    </a:cubicBezTo>
                    <a:cubicBezTo>
                      <a:pt x="429578" y="137160"/>
                      <a:pt x="429578" y="140018"/>
                      <a:pt x="429578" y="142875"/>
                    </a:cubicBezTo>
                    <a:cubicBezTo>
                      <a:pt x="428625" y="142875"/>
                      <a:pt x="427673" y="142875"/>
                      <a:pt x="426720" y="142875"/>
                    </a:cubicBezTo>
                    <a:cubicBezTo>
                      <a:pt x="407670" y="143828"/>
                      <a:pt x="387668" y="143828"/>
                      <a:pt x="368618" y="144780"/>
                    </a:cubicBezTo>
                    <a:cubicBezTo>
                      <a:pt x="344805" y="145733"/>
                      <a:pt x="320040" y="146685"/>
                      <a:pt x="296228" y="147638"/>
                    </a:cubicBezTo>
                    <a:cubicBezTo>
                      <a:pt x="284798" y="147638"/>
                      <a:pt x="272415" y="148590"/>
                      <a:pt x="260985" y="148590"/>
                    </a:cubicBezTo>
                    <a:cubicBezTo>
                      <a:pt x="226695" y="149543"/>
                      <a:pt x="193358" y="151448"/>
                      <a:pt x="159068" y="152400"/>
                    </a:cubicBezTo>
                    <a:cubicBezTo>
                      <a:pt x="138113" y="153353"/>
                      <a:pt x="118110" y="153353"/>
                      <a:pt x="97155" y="154305"/>
                    </a:cubicBezTo>
                    <a:cubicBezTo>
                      <a:pt x="95250" y="154305"/>
                      <a:pt x="92393" y="154305"/>
                      <a:pt x="90488" y="154305"/>
                    </a:cubicBezTo>
                    <a:cubicBezTo>
                      <a:pt x="88583" y="154305"/>
                      <a:pt x="86678" y="155258"/>
                      <a:pt x="84773" y="153353"/>
                    </a:cubicBezTo>
                    <a:cubicBezTo>
                      <a:pt x="84773" y="153353"/>
                      <a:pt x="83820" y="153353"/>
                      <a:pt x="82868" y="153353"/>
                    </a:cubicBezTo>
                    <a:cubicBezTo>
                      <a:pt x="68580" y="153353"/>
                      <a:pt x="54293" y="153353"/>
                      <a:pt x="40005" y="154305"/>
                    </a:cubicBezTo>
                    <a:cubicBezTo>
                      <a:pt x="34290" y="155258"/>
                      <a:pt x="30480" y="157163"/>
                      <a:pt x="25717" y="160020"/>
                    </a:cubicBezTo>
                    <a:cubicBezTo>
                      <a:pt x="21908" y="162878"/>
                      <a:pt x="18098" y="166688"/>
                      <a:pt x="15240" y="171450"/>
                    </a:cubicBezTo>
                    <a:cubicBezTo>
                      <a:pt x="8573" y="181928"/>
                      <a:pt x="2858" y="192405"/>
                      <a:pt x="952" y="204788"/>
                    </a:cubicBezTo>
                    <a:cubicBezTo>
                      <a:pt x="952" y="205740"/>
                      <a:pt x="0" y="206693"/>
                      <a:pt x="0" y="207645"/>
                    </a:cubicBezTo>
                    <a:cubicBezTo>
                      <a:pt x="0" y="209550"/>
                      <a:pt x="0" y="211455"/>
                      <a:pt x="0" y="213360"/>
                    </a:cubicBezTo>
                    <a:cubicBezTo>
                      <a:pt x="0" y="214313"/>
                      <a:pt x="952" y="216218"/>
                      <a:pt x="952" y="217170"/>
                    </a:cubicBezTo>
                    <a:cubicBezTo>
                      <a:pt x="2858" y="221933"/>
                      <a:pt x="5715" y="225743"/>
                      <a:pt x="10477" y="227647"/>
                    </a:cubicBezTo>
                    <a:cubicBezTo>
                      <a:pt x="13335" y="228600"/>
                      <a:pt x="17145" y="228600"/>
                      <a:pt x="20955" y="228600"/>
                    </a:cubicBezTo>
                    <a:cubicBezTo>
                      <a:pt x="25717" y="227647"/>
                      <a:pt x="29528" y="225743"/>
                      <a:pt x="31433" y="220980"/>
                    </a:cubicBezTo>
                    <a:cubicBezTo>
                      <a:pt x="33338" y="218122"/>
                      <a:pt x="34290" y="215265"/>
                      <a:pt x="35243" y="212408"/>
                    </a:cubicBezTo>
                    <a:cubicBezTo>
                      <a:pt x="38100" y="197168"/>
                      <a:pt x="40005" y="182880"/>
                      <a:pt x="38100" y="168593"/>
                    </a:cubicBezTo>
                    <a:cubicBezTo>
                      <a:pt x="38100" y="166688"/>
                      <a:pt x="38100" y="165735"/>
                      <a:pt x="38100" y="163830"/>
                    </a:cubicBezTo>
                    <a:cubicBezTo>
                      <a:pt x="39053" y="163830"/>
                      <a:pt x="40005" y="163830"/>
                      <a:pt x="40958" y="163830"/>
                    </a:cubicBezTo>
                    <a:cubicBezTo>
                      <a:pt x="54293" y="163830"/>
                      <a:pt x="66675" y="162878"/>
                      <a:pt x="80010" y="162878"/>
                    </a:cubicBezTo>
                    <a:cubicBezTo>
                      <a:pt x="80963" y="162878"/>
                      <a:pt x="82868" y="162878"/>
                      <a:pt x="83820" y="162878"/>
                    </a:cubicBezTo>
                    <a:cubicBezTo>
                      <a:pt x="84773" y="162878"/>
                      <a:pt x="85725" y="161925"/>
                      <a:pt x="86678" y="161925"/>
                    </a:cubicBezTo>
                    <a:cubicBezTo>
                      <a:pt x="114300" y="160973"/>
                      <a:pt x="141923" y="160020"/>
                      <a:pt x="168593" y="159068"/>
                    </a:cubicBezTo>
                    <a:cubicBezTo>
                      <a:pt x="197168" y="158115"/>
                      <a:pt x="224790" y="157163"/>
                      <a:pt x="253365" y="156210"/>
                    </a:cubicBezTo>
                    <a:cubicBezTo>
                      <a:pt x="287655" y="155258"/>
                      <a:pt x="322898" y="154305"/>
                      <a:pt x="357188" y="153353"/>
                    </a:cubicBezTo>
                    <a:cubicBezTo>
                      <a:pt x="367665" y="153353"/>
                      <a:pt x="378143" y="152400"/>
                      <a:pt x="388620" y="152400"/>
                    </a:cubicBezTo>
                    <a:cubicBezTo>
                      <a:pt x="406718" y="152400"/>
                      <a:pt x="425768" y="151448"/>
                      <a:pt x="443865" y="151448"/>
                    </a:cubicBezTo>
                    <a:cubicBezTo>
                      <a:pt x="445770" y="151448"/>
                      <a:pt x="446723" y="151448"/>
                      <a:pt x="447675" y="153353"/>
                    </a:cubicBezTo>
                    <a:cubicBezTo>
                      <a:pt x="448628" y="155258"/>
                      <a:pt x="450533" y="156210"/>
                      <a:pt x="452438" y="157163"/>
                    </a:cubicBezTo>
                    <a:cubicBezTo>
                      <a:pt x="453390" y="157163"/>
                      <a:pt x="454343" y="158115"/>
                      <a:pt x="455295" y="158115"/>
                    </a:cubicBezTo>
                    <a:cubicBezTo>
                      <a:pt x="455295" y="160973"/>
                      <a:pt x="455295" y="164783"/>
                      <a:pt x="456248" y="167640"/>
                    </a:cubicBezTo>
                    <a:cubicBezTo>
                      <a:pt x="457200" y="175260"/>
                      <a:pt x="458153" y="182880"/>
                      <a:pt x="458153" y="190500"/>
                    </a:cubicBezTo>
                    <a:cubicBezTo>
                      <a:pt x="458153" y="191453"/>
                      <a:pt x="458153" y="192405"/>
                      <a:pt x="458153" y="192405"/>
                    </a:cubicBezTo>
                    <a:cubicBezTo>
                      <a:pt x="455295" y="193358"/>
                      <a:pt x="454343" y="191453"/>
                      <a:pt x="452438" y="191453"/>
                    </a:cubicBezTo>
                    <a:cubicBezTo>
                      <a:pt x="450533" y="190500"/>
                      <a:pt x="449580" y="190500"/>
                      <a:pt x="447675" y="190500"/>
                    </a:cubicBezTo>
                    <a:cubicBezTo>
                      <a:pt x="442913" y="191453"/>
                      <a:pt x="439103" y="192405"/>
                      <a:pt x="435293" y="195263"/>
                    </a:cubicBezTo>
                    <a:cubicBezTo>
                      <a:pt x="431483" y="197168"/>
                      <a:pt x="429578" y="200025"/>
                      <a:pt x="429578" y="204788"/>
                    </a:cubicBezTo>
                    <a:cubicBezTo>
                      <a:pt x="429578" y="204788"/>
                      <a:pt x="429578" y="204788"/>
                      <a:pt x="429578" y="205740"/>
                    </a:cubicBezTo>
                    <a:cubicBezTo>
                      <a:pt x="425768" y="205740"/>
                      <a:pt x="421958" y="207645"/>
                      <a:pt x="419100" y="209550"/>
                    </a:cubicBezTo>
                    <a:cubicBezTo>
                      <a:pt x="407670" y="214313"/>
                      <a:pt x="399098" y="220980"/>
                      <a:pt x="392430" y="231458"/>
                    </a:cubicBezTo>
                    <a:cubicBezTo>
                      <a:pt x="389573" y="236220"/>
                      <a:pt x="385763" y="240983"/>
                      <a:pt x="382905" y="246697"/>
                    </a:cubicBezTo>
                    <a:cubicBezTo>
                      <a:pt x="380048" y="250508"/>
                      <a:pt x="378143" y="254318"/>
                      <a:pt x="376238" y="259080"/>
                    </a:cubicBezTo>
                    <a:cubicBezTo>
                      <a:pt x="370523" y="271463"/>
                      <a:pt x="367665" y="283845"/>
                      <a:pt x="364808" y="297180"/>
                    </a:cubicBezTo>
                    <a:cubicBezTo>
                      <a:pt x="362903" y="306705"/>
                      <a:pt x="360998" y="317183"/>
                      <a:pt x="358140" y="326708"/>
                    </a:cubicBezTo>
                    <a:cubicBezTo>
                      <a:pt x="355283" y="336233"/>
                      <a:pt x="353378" y="345758"/>
                      <a:pt x="350520" y="355283"/>
                    </a:cubicBezTo>
                    <a:cubicBezTo>
                      <a:pt x="348615" y="361950"/>
                      <a:pt x="347663" y="368618"/>
                      <a:pt x="348615" y="375285"/>
                    </a:cubicBezTo>
                    <a:cubicBezTo>
                      <a:pt x="349568" y="380048"/>
                      <a:pt x="350520" y="384810"/>
                      <a:pt x="352425" y="389573"/>
                    </a:cubicBezTo>
                    <a:cubicBezTo>
                      <a:pt x="355283" y="398145"/>
                      <a:pt x="358140" y="405765"/>
                      <a:pt x="360998" y="413385"/>
                    </a:cubicBezTo>
                    <a:cubicBezTo>
                      <a:pt x="367665" y="432435"/>
                      <a:pt x="373380" y="451485"/>
                      <a:pt x="377190" y="471488"/>
                    </a:cubicBezTo>
                    <a:cubicBezTo>
                      <a:pt x="379095" y="479108"/>
                      <a:pt x="380048" y="486728"/>
                      <a:pt x="381953" y="493395"/>
                    </a:cubicBezTo>
                    <a:cubicBezTo>
                      <a:pt x="386715" y="508635"/>
                      <a:pt x="392430" y="524828"/>
                      <a:pt x="397193" y="540068"/>
                    </a:cubicBezTo>
                    <a:cubicBezTo>
                      <a:pt x="399098" y="546735"/>
                      <a:pt x="402908" y="553403"/>
                      <a:pt x="406718" y="560070"/>
                    </a:cubicBezTo>
                    <a:cubicBezTo>
                      <a:pt x="410528" y="564833"/>
                      <a:pt x="413385" y="570548"/>
                      <a:pt x="417195" y="575310"/>
                    </a:cubicBezTo>
                    <a:cubicBezTo>
                      <a:pt x="418148" y="576263"/>
                      <a:pt x="418148" y="577215"/>
                      <a:pt x="419100" y="579120"/>
                    </a:cubicBezTo>
                    <a:cubicBezTo>
                      <a:pt x="419100" y="585788"/>
                      <a:pt x="419100" y="591503"/>
                      <a:pt x="420053" y="598170"/>
                    </a:cubicBezTo>
                    <a:cubicBezTo>
                      <a:pt x="421005" y="606743"/>
                      <a:pt x="421958" y="615315"/>
                      <a:pt x="422910" y="622935"/>
                    </a:cubicBezTo>
                    <a:cubicBezTo>
                      <a:pt x="423863" y="631508"/>
                      <a:pt x="425768" y="639128"/>
                      <a:pt x="426720" y="647700"/>
                    </a:cubicBezTo>
                    <a:lnTo>
                      <a:pt x="612458" y="647700"/>
                    </a:lnTo>
                    <a:cubicBezTo>
                      <a:pt x="649605" y="647700"/>
                      <a:pt x="683895" y="631508"/>
                      <a:pt x="706755" y="604838"/>
                    </a:cubicBezTo>
                    <a:cubicBezTo>
                      <a:pt x="704850" y="593408"/>
                      <a:pt x="701993" y="581978"/>
                      <a:pt x="699135" y="571500"/>
                    </a:cubicBezTo>
                    <a:cubicBezTo>
                      <a:pt x="698183" y="567690"/>
                      <a:pt x="697230" y="563880"/>
                      <a:pt x="697230" y="560070"/>
                    </a:cubicBezTo>
                    <a:cubicBezTo>
                      <a:pt x="696278" y="547688"/>
                      <a:pt x="695325" y="535305"/>
                      <a:pt x="694373" y="521970"/>
                    </a:cubicBezTo>
                    <a:cubicBezTo>
                      <a:pt x="693420" y="512445"/>
                      <a:pt x="692468" y="503873"/>
                      <a:pt x="691515" y="494348"/>
                    </a:cubicBezTo>
                    <a:cubicBezTo>
                      <a:pt x="690563" y="485775"/>
                      <a:pt x="689610" y="477203"/>
                      <a:pt x="688658" y="467678"/>
                    </a:cubicBezTo>
                    <a:cubicBezTo>
                      <a:pt x="687705" y="456248"/>
                      <a:pt x="685800" y="444818"/>
                      <a:pt x="684848" y="433388"/>
                    </a:cubicBezTo>
                    <a:cubicBezTo>
                      <a:pt x="684848" y="430530"/>
                      <a:pt x="683895" y="428625"/>
                      <a:pt x="683895" y="425768"/>
                    </a:cubicBezTo>
                    <a:cubicBezTo>
                      <a:pt x="687705" y="426720"/>
                      <a:pt x="690563" y="426720"/>
                      <a:pt x="693420" y="427673"/>
                    </a:cubicBezTo>
                    <a:cubicBezTo>
                      <a:pt x="701040" y="428625"/>
                      <a:pt x="708660" y="430530"/>
                      <a:pt x="717233" y="430530"/>
                    </a:cubicBezTo>
                    <a:cubicBezTo>
                      <a:pt x="720090" y="430530"/>
                      <a:pt x="723900" y="430530"/>
                      <a:pt x="726758" y="429578"/>
                    </a:cubicBezTo>
                    <a:cubicBezTo>
                      <a:pt x="731520" y="428625"/>
                      <a:pt x="735330" y="426720"/>
                      <a:pt x="738188" y="423863"/>
                    </a:cubicBezTo>
                    <a:lnTo>
                      <a:pt x="738188" y="114300"/>
                    </a:lnTo>
                    <a:cubicBezTo>
                      <a:pt x="737235" y="113348"/>
                      <a:pt x="736283" y="113348"/>
                      <a:pt x="736283" y="112395"/>
                    </a:cubicBezTo>
                    <a:cubicBezTo>
                      <a:pt x="733425" y="110490"/>
                      <a:pt x="730568" y="110490"/>
                      <a:pt x="726758" y="113348"/>
                    </a:cubicBezTo>
                    <a:close/>
                    <a:moveTo>
                      <a:pt x="607695" y="191453"/>
                    </a:moveTo>
                    <a:cubicBezTo>
                      <a:pt x="594360" y="195263"/>
                      <a:pt x="581978" y="200978"/>
                      <a:pt x="569595" y="204788"/>
                    </a:cubicBezTo>
                    <a:cubicBezTo>
                      <a:pt x="568643" y="204788"/>
                      <a:pt x="567690" y="205740"/>
                      <a:pt x="565785" y="205740"/>
                    </a:cubicBezTo>
                    <a:cubicBezTo>
                      <a:pt x="566738" y="202883"/>
                      <a:pt x="568643" y="200025"/>
                      <a:pt x="569595" y="198120"/>
                    </a:cubicBezTo>
                    <a:cubicBezTo>
                      <a:pt x="571500" y="196215"/>
                      <a:pt x="573405" y="193358"/>
                      <a:pt x="574358" y="191453"/>
                    </a:cubicBezTo>
                    <a:cubicBezTo>
                      <a:pt x="580073" y="184785"/>
                      <a:pt x="582930" y="176213"/>
                      <a:pt x="584835" y="167640"/>
                    </a:cubicBezTo>
                    <a:cubicBezTo>
                      <a:pt x="585788" y="162878"/>
                      <a:pt x="586740" y="158115"/>
                      <a:pt x="587693" y="153353"/>
                    </a:cubicBezTo>
                    <a:cubicBezTo>
                      <a:pt x="587693" y="152400"/>
                      <a:pt x="587693" y="152400"/>
                      <a:pt x="588645" y="151448"/>
                    </a:cubicBezTo>
                    <a:cubicBezTo>
                      <a:pt x="594360" y="151448"/>
                      <a:pt x="599123" y="151448"/>
                      <a:pt x="604838" y="151448"/>
                    </a:cubicBezTo>
                    <a:cubicBezTo>
                      <a:pt x="605790" y="155258"/>
                      <a:pt x="608648" y="158115"/>
                      <a:pt x="611505" y="159068"/>
                    </a:cubicBezTo>
                    <a:cubicBezTo>
                      <a:pt x="616268" y="160020"/>
                      <a:pt x="621983" y="160973"/>
                      <a:pt x="626745" y="161925"/>
                    </a:cubicBezTo>
                    <a:cubicBezTo>
                      <a:pt x="631508" y="162878"/>
                      <a:pt x="636270" y="162878"/>
                      <a:pt x="640080" y="164783"/>
                    </a:cubicBezTo>
                    <a:cubicBezTo>
                      <a:pt x="642938" y="165735"/>
                      <a:pt x="644843" y="167640"/>
                      <a:pt x="646748" y="169545"/>
                    </a:cubicBezTo>
                    <a:cubicBezTo>
                      <a:pt x="647700" y="170498"/>
                      <a:pt x="649605" y="172403"/>
                      <a:pt x="651510" y="172403"/>
                    </a:cubicBezTo>
                    <a:cubicBezTo>
                      <a:pt x="654368" y="173355"/>
                      <a:pt x="657225" y="174308"/>
                      <a:pt x="660083" y="174308"/>
                    </a:cubicBezTo>
                    <a:cubicBezTo>
                      <a:pt x="659130" y="174308"/>
                      <a:pt x="658178" y="175260"/>
                      <a:pt x="657225" y="175260"/>
                    </a:cubicBezTo>
                    <a:cubicBezTo>
                      <a:pt x="641033" y="180975"/>
                      <a:pt x="623888" y="185738"/>
                      <a:pt x="607695" y="191453"/>
                    </a:cubicBezTo>
                    <a:close/>
                    <a:moveTo>
                      <a:pt x="711518" y="273368"/>
                    </a:moveTo>
                    <a:cubicBezTo>
                      <a:pt x="710565" y="280035"/>
                      <a:pt x="708660" y="285750"/>
                      <a:pt x="704850" y="291465"/>
                    </a:cubicBezTo>
                    <a:cubicBezTo>
                      <a:pt x="701040" y="297180"/>
                      <a:pt x="696278" y="303848"/>
                      <a:pt x="692468" y="309563"/>
                    </a:cubicBezTo>
                    <a:cubicBezTo>
                      <a:pt x="692468" y="310515"/>
                      <a:pt x="691515" y="310515"/>
                      <a:pt x="691515" y="311468"/>
                    </a:cubicBezTo>
                    <a:cubicBezTo>
                      <a:pt x="688658" y="310515"/>
                      <a:pt x="684848" y="308610"/>
                      <a:pt x="681990" y="307658"/>
                    </a:cubicBezTo>
                    <a:cubicBezTo>
                      <a:pt x="681038" y="307658"/>
                      <a:pt x="681038" y="306705"/>
                      <a:pt x="680085" y="305753"/>
                    </a:cubicBezTo>
                    <a:cubicBezTo>
                      <a:pt x="679133" y="303848"/>
                      <a:pt x="678180" y="301943"/>
                      <a:pt x="675323" y="301943"/>
                    </a:cubicBezTo>
                    <a:cubicBezTo>
                      <a:pt x="671513" y="301943"/>
                      <a:pt x="668655" y="300038"/>
                      <a:pt x="666750" y="298133"/>
                    </a:cubicBezTo>
                    <a:cubicBezTo>
                      <a:pt x="662940" y="295275"/>
                      <a:pt x="661035" y="292418"/>
                      <a:pt x="660083" y="287655"/>
                    </a:cubicBezTo>
                    <a:cubicBezTo>
                      <a:pt x="660083" y="285750"/>
                      <a:pt x="659130" y="283845"/>
                      <a:pt x="658178" y="280988"/>
                    </a:cubicBezTo>
                    <a:cubicBezTo>
                      <a:pt x="676275" y="275273"/>
                      <a:pt x="693420" y="269558"/>
                      <a:pt x="711518" y="263843"/>
                    </a:cubicBezTo>
                    <a:cubicBezTo>
                      <a:pt x="711518" y="267653"/>
                      <a:pt x="711518" y="270510"/>
                      <a:pt x="711518" y="2733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nvGrpSpPr>
          <p:cNvPr id="1485" name="Group 7"/>
          <p:cNvGrpSpPr/>
          <p:nvPr/>
        </p:nvGrpSpPr>
        <p:grpSpPr>
          <a:xfrm>
            <a:off x="3780000" y="1019160"/>
            <a:ext cx="4632120" cy="751680"/>
            <a:chOff x="3780000" y="1019160"/>
            <a:chExt cx="4632120" cy="751680"/>
          </a:xfrm>
        </p:grpSpPr>
        <p:sp>
          <p:nvSpPr>
            <p:cNvPr id="1486" name="TextBox 8"/>
            <p:cNvSpPr/>
            <p:nvPr/>
          </p:nvSpPr>
          <p:spPr>
            <a:xfrm>
              <a:off x="3780000" y="1280880"/>
              <a:ext cx="4632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Golferina Services</a:t>
              </a:r>
              <a:endParaRPr b="0" lang="en-US" sz="2600" spc="-1" strike="noStrike">
                <a:solidFill>
                  <a:srgbClr val="000000"/>
                </a:solidFill>
                <a:latin typeface="Calibri"/>
              </a:endParaRPr>
            </a:p>
          </p:txBody>
        </p:sp>
        <p:sp>
          <p:nvSpPr>
            <p:cNvPr id="1487" name="TextBox 9"/>
            <p:cNvSpPr/>
            <p:nvPr/>
          </p:nvSpPr>
          <p:spPr>
            <a:xfrm>
              <a:off x="4702320" y="1019160"/>
              <a:ext cx="2787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OUR SERVICES</a:t>
              </a:r>
              <a:endParaRPr b="0" lang="en-US" sz="1100" spc="-1" strike="noStrike">
                <a:solidFill>
                  <a:srgbClr val="000000"/>
                </a:solidFill>
                <a:latin typeface="Calibri"/>
              </a:endParaRPr>
            </a:p>
          </p:txBody>
        </p:sp>
      </p:grpSp>
      <p:sp>
        <p:nvSpPr>
          <p:cNvPr id="1488" name="TextBox 10"/>
          <p:cNvSpPr/>
          <p:nvPr/>
        </p:nvSpPr>
        <p:spPr>
          <a:xfrm>
            <a:off x="3416400" y="1773360"/>
            <a:ext cx="53593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golf elit sed do eiusmod tempor incididunt ut labore et dolore magna aliqua ut enim ad minim</a:t>
            </a:r>
            <a:endParaRPr b="0" lang="en-US" sz="1100" spc="-1" strike="noStrike">
              <a:solidFill>
                <a:srgbClr val="000000"/>
              </a:solidFill>
              <a:latin typeface="Calibri"/>
            </a:endParaRPr>
          </a:p>
        </p:txBody>
      </p:sp>
      <p:sp>
        <p:nvSpPr>
          <p:cNvPr id="1489" name="Freeform: Shape 12"/>
          <p:cNvSpPr/>
          <p:nvPr/>
        </p:nvSpPr>
        <p:spPr>
          <a:xfrm>
            <a:off x="2541600" y="2887560"/>
            <a:ext cx="123840" cy="122400"/>
          </a:xfrm>
          <a:custGeom>
            <a:avLst/>
            <a:gdLst/>
            <a:ahLst/>
            <a:rect l="l" t="t" r="r" b="b"/>
            <a:pathLst>
              <a:path w="133350" h="133350">
                <a:moveTo>
                  <a:pt x="133350" y="66675"/>
                </a:moveTo>
                <a:cubicBezTo>
                  <a:pt x="133350" y="29528"/>
                  <a:pt x="103823" y="0"/>
                  <a:pt x="66675" y="0"/>
                </a:cubicBezTo>
                <a:cubicBezTo>
                  <a:pt x="29527" y="0"/>
                  <a:pt x="0" y="29528"/>
                  <a:pt x="0" y="66675"/>
                </a:cubicBezTo>
                <a:cubicBezTo>
                  <a:pt x="0" y="103823"/>
                  <a:pt x="29527" y="133350"/>
                  <a:pt x="66675" y="133350"/>
                </a:cubicBezTo>
                <a:cubicBezTo>
                  <a:pt x="103823" y="133350"/>
                  <a:pt x="133350" y="103823"/>
                  <a:pt x="133350" y="66675"/>
                </a:cubicBezTo>
                <a:close/>
                <a:moveTo>
                  <a:pt x="19050" y="66675"/>
                </a:moveTo>
                <a:cubicBezTo>
                  <a:pt x="19050" y="40005"/>
                  <a:pt x="40005" y="19050"/>
                  <a:pt x="66675" y="19050"/>
                </a:cubicBezTo>
                <a:cubicBezTo>
                  <a:pt x="93345" y="19050"/>
                  <a:pt x="114300" y="40005"/>
                  <a:pt x="114300" y="66675"/>
                </a:cubicBezTo>
                <a:cubicBezTo>
                  <a:pt x="114300" y="93345"/>
                  <a:pt x="93345" y="114300"/>
                  <a:pt x="66675" y="114300"/>
                </a:cubicBezTo>
                <a:cubicBezTo>
                  <a:pt x="40005" y="114300"/>
                  <a:pt x="19050" y="93345"/>
                  <a:pt x="19050" y="66675"/>
                </a:cubicBezTo>
                <a:close/>
              </a:path>
            </a:pathLst>
          </a:custGeom>
          <a:solidFill>
            <a:srgbClr val="d5b66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0" name="Freeform: Shape 13"/>
          <p:cNvSpPr/>
          <p:nvPr/>
        </p:nvSpPr>
        <p:spPr>
          <a:xfrm>
            <a:off x="2473200" y="2774880"/>
            <a:ext cx="411120" cy="768600"/>
          </a:xfrm>
          <a:custGeom>
            <a:avLst/>
            <a:gdLst/>
            <a:ahLst/>
            <a:rect l="l" t="t" r="r" b="b"/>
            <a:pathLst>
              <a:path w="444674" h="831532">
                <a:moveTo>
                  <a:pt x="444468" y="267653"/>
                </a:moveTo>
                <a:lnTo>
                  <a:pt x="444468" y="265748"/>
                </a:lnTo>
                <a:cubicBezTo>
                  <a:pt x="443515" y="257175"/>
                  <a:pt x="438753" y="248603"/>
                  <a:pt x="432085" y="242888"/>
                </a:cubicBezTo>
                <a:cubicBezTo>
                  <a:pt x="432085" y="242888"/>
                  <a:pt x="431133" y="241935"/>
                  <a:pt x="430180" y="241935"/>
                </a:cubicBezTo>
                <a:cubicBezTo>
                  <a:pt x="430180" y="241935"/>
                  <a:pt x="430180" y="241935"/>
                  <a:pt x="430180" y="241935"/>
                </a:cubicBezTo>
                <a:lnTo>
                  <a:pt x="60610" y="0"/>
                </a:lnTo>
                <a:lnTo>
                  <a:pt x="29178" y="46673"/>
                </a:lnTo>
                <a:cubicBezTo>
                  <a:pt x="21558" y="58103"/>
                  <a:pt x="24415" y="74295"/>
                  <a:pt x="36798" y="81915"/>
                </a:cubicBezTo>
                <a:lnTo>
                  <a:pt x="37750" y="82868"/>
                </a:lnTo>
                <a:cubicBezTo>
                  <a:pt x="42513" y="86678"/>
                  <a:pt x="49180" y="88583"/>
                  <a:pt x="55848" y="87630"/>
                </a:cubicBezTo>
                <a:cubicBezTo>
                  <a:pt x="63468" y="86678"/>
                  <a:pt x="70135" y="82868"/>
                  <a:pt x="74898" y="76200"/>
                </a:cubicBezTo>
                <a:lnTo>
                  <a:pt x="95853" y="44768"/>
                </a:lnTo>
                <a:lnTo>
                  <a:pt x="393033" y="240030"/>
                </a:lnTo>
                <a:cubicBezTo>
                  <a:pt x="393033" y="240030"/>
                  <a:pt x="393033" y="240030"/>
                  <a:pt x="393033" y="240030"/>
                </a:cubicBezTo>
                <a:lnTo>
                  <a:pt x="157765" y="281940"/>
                </a:lnTo>
                <a:lnTo>
                  <a:pt x="156813" y="281940"/>
                </a:lnTo>
                <a:cubicBezTo>
                  <a:pt x="155860" y="281940"/>
                  <a:pt x="155860" y="281940"/>
                  <a:pt x="154908" y="281940"/>
                </a:cubicBezTo>
                <a:cubicBezTo>
                  <a:pt x="133000" y="288608"/>
                  <a:pt x="119665" y="310515"/>
                  <a:pt x="125380" y="333375"/>
                </a:cubicBezTo>
                <a:lnTo>
                  <a:pt x="170148" y="519113"/>
                </a:lnTo>
                <a:lnTo>
                  <a:pt x="7270" y="765810"/>
                </a:lnTo>
                <a:cubicBezTo>
                  <a:pt x="-5112" y="783908"/>
                  <a:pt x="-1302" y="809625"/>
                  <a:pt x="15843" y="822960"/>
                </a:cubicBezTo>
                <a:cubicBezTo>
                  <a:pt x="23463" y="827723"/>
                  <a:pt x="32035" y="831533"/>
                  <a:pt x="40608" y="831533"/>
                </a:cubicBezTo>
                <a:cubicBezTo>
                  <a:pt x="54895" y="831533"/>
                  <a:pt x="68230" y="824865"/>
                  <a:pt x="74898" y="812483"/>
                </a:cubicBezTo>
                <a:lnTo>
                  <a:pt x="243490" y="558165"/>
                </a:lnTo>
                <a:cubicBezTo>
                  <a:pt x="243490" y="558165"/>
                  <a:pt x="243490" y="558165"/>
                  <a:pt x="243490" y="558165"/>
                </a:cubicBezTo>
                <a:cubicBezTo>
                  <a:pt x="243490" y="558165"/>
                  <a:pt x="243490" y="558165"/>
                  <a:pt x="243490" y="558165"/>
                </a:cubicBezTo>
                <a:lnTo>
                  <a:pt x="249205" y="579120"/>
                </a:lnTo>
                <a:lnTo>
                  <a:pt x="221583" y="783908"/>
                </a:lnTo>
                <a:cubicBezTo>
                  <a:pt x="218725" y="806768"/>
                  <a:pt x="233965" y="827723"/>
                  <a:pt x="256825" y="830580"/>
                </a:cubicBezTo>
                <a:lnTo>
                  <a:pt x="257778" y="830580"/>
                </a:lnTo>
                <a:lnTo>
                  <a:pt x="262540" y="830580"/>
                </a:lnTo>
                <a:cubicBezTo>
                  <a:pt x="283495" y="830580"/>
                  <a:pt x="301593" y="814388"/>
                  <a:pt x="304450" y="794385"/>
                </a:cubicBezTo>
                <a:lnTo>
                  <a:pt x="333025" y="581025"/>
                </a:lnTo>
                <a:cubicBezTo>
                  <a:pt x="333978" y="575310"/>
                  <a:pt x="333025" y="570548"/>
                  <a:pt x="332073" y="564833"/>
                </a:cubicBezTo>
                <a:lnTo>
                  <a:pt x="273018" y="328613"/>
                </a:lnTo>
                <a:lnTo>
                  <a:pt x="417798" y="303848"/>
                </a:lnTo>
                <a:cubicBezTo>
                  <a:pt x="434943" y="300990"/>
                  <a:pt x="446373" y="284798"/>
                  <a:pt x="444468" y="267653"/>
                </a:cubicBezTo>
                <a:close/>
                <a:moveTo>
                  <a:pt x="57753" y="65723"/>
                </a:moveTo>
                <a:cubicBezTo>
                  <a:pt x="55848" y="68580"/>
                  <a:pt x="52038" y="69533"/>
                  <a:pt x="48228" y="67628"/>
                </a:cubicBezTo>
                <a:cubicBezTo>
                  <a:pt x="48228" y="67628"/>
                  <a:pt x="48228" y="67628"/>
                  <a:pt x="48228" y="67628"/>
                </a:cubicBezTo>
                <a:lnTo>
                  <a:pt x="46323" y="66675"/>
                </a:lnTo>
                <a:cubicBezTo>
                  <a:pt x="43465" y="64770"/>
                  <a:pt x="42513" y="60960"/>
                  <a:pt x="44418" y="57150"/>
                </a:cubicBezTo>
                <a:cubicBezTo>
                  <a:pt x="44418" y="57150"/>
                  <a:pt x="44418" y="57150"/>
                  <a:pt x="44418" y="57150"/>
                </a:cubicBezTo>
                <a:lnTo>
                  <a:pt x="65373" y="25718"/>
                </a:lnTo>
                <a:lnTo>
                  <a:pt x="77755" y="34290"/>
                </a:lnTo>
                <a:lnTo>
                  <a:pt x="57753" y="65723"/>
                </a:lnTo>
                <a:close/>
                <a:moveTo>
                  <a:pt x="414940" y="284798"/>
                </a:moveTo>
                <a:lnTo>
                  <a:pt x="295878" y="305753"/>
                </a:lnTo>
                <a:lnTo>
                  <a:pt x="236823" y="315278"/>
                </a:lnTo>
                <a:cubicBezTo>
                  <a:pt x="232060" y="316230"/>
                  <a:pt x="228250" y="320993"/>
                  <a:pt x="229203" y="325755"/>
                </a:cubicBezTo>
                <a:cubicBezTo>
                  <a:pt x="230155" y="330518"/>
                  <a:pt x="233965" y="333375"/>
                  <a:pt x="238728" y="333375"/>
                </a:cubicBezTo>
                <a:cubicBezTo>
                  <a:pt x="239680" y="333375"/>
                  <a:pt x="239680" y="333375"/>
                  <a:pt x="240633" y="333375"/>
                </a:cubicBezTo>
                <a:lnTo>
                  <a:pt x="254920" y="331470"/>
                </a:lnTo>
                <a:lnTo>
                  <a:pt x="313975" y="569595"/>
                </a:lnTo>
                <a:cubicBezTo>
                  <a:pt x="314928" y="572453"/>
                  <a:pt x="314928" y="575310"/>
                  <a:pt x="314928" y="578168"/>
                </a:cubicBezTo>
                <a:lnTo>
                  <a:pt x="286353" y="791528"/>
                </a:lnTo>
                <a:cubicBezTo>
                  <a:pt x="284448" y="802958"/>
                  <a:pt x="274923" y="811530"/>
                  <a:pt x="263493" y="811530"/>
                </a:cubicBezTo>
                <a:lnTo>
                  <a:pt x="259683" y="811530"/>
                </a:lnTo>
                <a:cubicBezTo>
                  <a:pt x="247300" y="809625"/>
                  <a:pt x="239680" y="798195"/>
                  <a:pt x="241585" y="785813"/>
                </a:cubicBezTo>
                <a:lnTo>
                  <a:pt x="269208" y="579120"/>
                </a:lnTo>
                <a:cubicBezTo>
                  <a:pt x="269208" y="578168"/>
                  <a:pt x="269208" y="576263"/>
                  <a:pt x="269208" y="575310"/>
                </a:cubicBezTo>
                <a:lnTo>
                  <a:pt x="257778" y="531495"/>
                </a:lnTo>
                <a:cubicBezTo>
                  <a:pt x="256825" y="526733"/>
                  <a:pt x="251110" y="522923"/>
                  <a:pt x="246348" y="524828"/>
                </a:cubicBezTo>
                <a:cubicBezTo>
                  <a:pt x="244443" y="525780"/>
                  <a:pt x="242538" y="526733"/>
                  <a:pt x="240633" y="528638"/>
                </a:cubicBezTo>
                <a:lnTo>
                  <a:pt x="59658" y="801053"/>
                </a:lnTo>
                <a:cubicBezTo>
                  <a:pt x="55848" y="807720"/>
                  <a:pt x="49180" y="811530"/>
                  <a:pt x="41560" y="810578"/>
                </a:cubicBezTo>
                <a:cubicBezTo>
                  <a:pt x="36798" y="810578"/>
                  <a:pt x="32035" y="808673"/>
                  <a:pt x="27273" y="805815"/>
                </a:cubicBezTo>
                <a:cubicBezTo>
                  <a:pt x="17748" y="798195"/>
                  <a:pt x="16795" y="783908"/>
                  <a:pt x="23463" y="774383"/>
                </a:cubicBezTo>
                <a:lnTo>
                  <a:pt x="189198" y="523875"/>
                </a:lnTo>
                <a:cubicBezTo>
                  <a:pt x="191103" y="521970"/>
                  <a:pt x="191103" y="519113"/>
                  <a:pt x="190150" y="516255"/>
                </a:cubicBezTo>
                <a:lnTo>
                  <a:pt x="143478" y="327660"/>
                </a:lnTo>
                <a:cubicBezTo>
                  <a:pt x="140620" y="316230"/>
                  <a:pt x="147288" y="303848"/>
                  <a:pt x="158718" y="300038"/>
                </a:cubicBezTo>
                <a:lnTo>
                  <a:pt x="158718" y="300038"/>
                </a:lnTo>
                <a:cubicBezTo>
                  <a:pt x="158718" y="300038"/>
                  <a:pt x="159670" y="300038"/>
                  <a:pt x="159670" y="300038"/>
                </a:cubicBezTo>
                <a:lnTo>
                  <a:pt x="410178" y="255270"/>
                </a:lnTo>
                <a:cubicBezTo>
                  <a:pt x="417798" y="254318"/>
                  <a:pt x="424465" y="259080"/>
                  <a:pt x="425418" y="265748"/>
                </a:cubicBezTo>
                <a:cubicBezTo>
                  <a:pt x="425418" y="265748"/>
                  <a:pt x="425418" y="266700"/>
                  <a:pt x="425418" y="266700"/>
                </a:cubicBezTo>
                <a:lnTo>
                  <a:pt x="425418" y="268605"/>
                </a:lnTo>
                <a:cubicBezTo>
                  <a:pt x="426370" y="277178"/>
                  <a:pt x="421608" y="283845"/>
                  <a:pt x="414940" y="284798"/>
                </a:cubicBezTo>
                <a:close/>
              </a:path>
            </a:pathLst>
          </a:custGeom>
          <a:solidFill>
            <a:srgbClr val="d5b66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1" name="TextBox 22"/>
          <p:cNvSpPr/>
          <p:nvPr/>
        </p:nvSpPr>
        <p:spPr>
          <a:xfrm>
            <a:off x="1644480" y="4092480"/>
            <a:ext cx="2067120" cy="277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Your Title Here</a:t>
            </a:r>
            <a:endParaRPr b="0" lang="en-US" sz="1100" spc="-1" strike="noStrike">
              <a:solidFill>
                <a:srgbClr val="000000"/>
              </a:solidFill>
              <a:latin typeface="Calibri"/>
            </a:endParaRPr>
          </a:p>
        </p:txBody>
      </p:sp>
      <p:sp>
        <p:nvSpPr>
          <p:cNvPr id="1492" name="TextBox 23"/>
          <p:cNvSpPr/>
          <p:nvPr/>
        </p:nvSpPr>
        <p:spPr>
          <a:xfrm>
            <a:off x="1644480" y="3768840"/>
            <a:ext cx="20671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oppins SemiBold"/>
                <a:ea typeface="Poppins SemiBold"/>
              </a:rPr>
              <a:t>Service 1</a:t>
            </a:r>
            <a:endParaRPr b="0" lang="en-US" sz="1500" spc="-1" strike="noStrike">
              <a:solidFill>
                <a:srgbClr val="000000"/>
              </a:solidFill>
              <a:latin typeface="Calibri"/>
            </a:endParaRPr>
          </a:p>
        </p:txBody>
      </p:sp>
      <p:sp>
        <p:nvSpPr>
          <p:cNvPr id="1493" name="TextBox 25"/>
          <p:cNvSpPr/>
          <p:nvPr/>
        </p:nvSpPr>
        <p:spPr>
          <a:xfrm>
            <a:off x="1527120" y="4361040"/>
            <a:ext cx="230184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golf consectetur adipiscing elit sed do eiusmod tempor incididunt labore dolore magna aliqua.</a:t>
            </a:r>
            <a:endParaRPr b="0" lang="en-US" sz="1100" spc="-1" strike="noStrike">
              <a:solidFill>
                <a:srgbClr val="000000"/>
              </a:solidFill>
              <a:latin typeface="Calibri"/>
            </a:endParaRPr>
          </a:p>
        </p:txBody>
      </p:sp>
      <p:pic>
        <p:nvPicPr>
          <p:cNvPr id="1494" name="Graphic 8" descr="Golf Flag In Hole"/>
          <p:cNvPicPr/>
          <p:nvPr/>
        </p:nvPicPr>
        <p:blipFill>
          <a:blip r:embed="rId2"/>
          <a:stretch/>
        </p:blipFill>
        <p:spPr>
          <a:xfrm>
            <a:off x="5676840" y="2793960"/>
            <a:ext cx="825480" cy="723960"/>
          </a:xfrm>
          <a:prstGeom prst="rect">
            <a:avLst/>
          </a:prstGeom>
          <a:ln w="0">
            <a:noFill/>
          </a:ln>
        </p:spPr>
      </p:pic>
      <p:sp>
        <p:nvSpPr>
          <p:cNvPr id="1495" name="TextBox 29"/>
          <p:cNvSpPr/>
          <p:nvPr/>
        </p:nvSpPr>
        <p:spPr>
          <a:xfrm>
            <a:off x="5062680" y="4092480"/>
            <a:ext cx="2066760" cy="277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Your Title Here</a:t>
            </a:r>
            <a:endParaRPr b="0" lang="en-US" sz="1100" spc="-1" strike="noStrike">
              <a:solidFill>
                <a:srgbClr val="000000"/>
              </a:solidFill>
              <a:latin typeface="Calibri"/>
            </a:endParaRPr>
          </a:p>
        </p:txBody>
      </p:sp>
      <p:sp>
        <p:nvSpPr>
          <p:cNvPr id="1496" name="TextBox 30"/>
          <p:cNvSpPr/>
          <p:nvPr/>
        </p:nvSpPr>
        <p:spPr>
          <a:xfrm>
            <a:off x="5062680" y="3768840"/>
            <a:ext cx="20667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oppins SemiBold"/>
                <a:ea typeface="Poppins SemiBold"/>
              </a:rPr>
              <a:t>Service 2</a:t>
            </a:r>
            <a:endParaRPr b="0" lang="en-US" sz="1500" spc="-1" strike="noStrike">
              <a:solidFill>
                <a:srgbClr val="000000"/>
              </a:solidFill>
              <a:latin typeface="Calibri"/>
            </a:endParaRPr>
          </a:p>
        </p:txBody>
      </p:sp>
      <p:sp>
        <p:nvSpPr>
          <p:cNvPr id="1497" name="TextBox 31"/>
          <p:cNvSpPr/>
          <p:nvPr/>
        </p:nvSpPr>
        <p:spPr>
          <a:xfrm>
            <a:off x="4944960" y="4361040"/>
            <a:ext cx="230184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golf consectetur adipiscing elit sed do eiusmod tempor incididunt labore dolore magna aliqua.</a:t>
            </a:r>
            <a:endParaRPr b="0" lang="en-US" sz="1100" spc="-1" strike="noStrike">
              <a:solidFill>
                <a:srgbClr val="000000"/>
              </a:solidFill>
              <a:latin typeface="Calibri"/>
            </a:endParaRPr>
          </a:p>
        </p:txBody>
      </p:sp>
      <p:pic>
        <p:nvPicPr>
          <p:cNvPr id="1498" name="Graphic 12" descr="Golf clubs"/>
          <p:cNvPicPr/>
          <p:nvPr/>
        </p:nvPicPr>
        <p:blipFill>
          <a:blip r:embed="rId3"/>
          <a:stretch/>
        </p:blipFill>
        <p:spPr>
          <a:xfrm>
            <a:off x="9296280" y="2755800"/>
            <a:ext cx="419400" cy="787680"/>
          </a:xfrm>
          <a:prstGeom prst="rect">
            <a:avLst/>
          </a:prstGeom>
          <a:ln w="0">
            <a:noFill/>
          </a:ln>
        </p:spPr>
      </p:pic>
      <p:sp>
        <p:nvSpPr>
          <p:cNvPr id="1499" name="TextBox 34"/>
          <p:cNvSpPr/>
          <p:nvPr/>
        </p:nvSpPr>
        <p:spPr>
          <a:xfrm>
            <a:off x="8480520" y="4092480"/>
            <a:ext cx="2066760" cy="277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Your Title Here</a:t>
            </a:r>
            <a:endParaRPr b="0" lang="en-US" sz="1100" spc="-1" strike="noStrike">
              <a:solidFill>
                <a:srgbClr val="000000"/>
              </a:solidFill>
              <a:latin typeface="Calibri"/>
            </a:endParaRPr>
          </a:p>
        </p:txBody>
      </p:sp>
      <p:sp>
        <p:nvSpPr>
          <p:cNvPr id="1500" name="TextBox 35"/>
          <p:cNvSpPr/>
          <p:nvPr/>
        </p:nvSpPr>
        <p:spPr>
          <a:xfrm>
            <a:off x="8480520" y="3768840"/>
            <a:ext cx="20667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oppins SemiBold"/>
                <a:ea typeface="Poppins SemiBold"/>
              </a:rPr>
              <a:t>Service 3</a:t>
            </a:r>
            <a:endParaRPr b="0" lang="en-US" sz="1500" spc="-1" strike="noStrike">
              <a:solidFill>
                <a:srgbClr val="000000"/>
              </a:solidFill>
              <a:latin typeface="Calibri"/>
            </a:endParaRPr>
          </a:p>
        </p:txBody>
      </p:sp>
      <p:sp>
        <p:nvSpPr>
          <p:cNvPr id="1501" name="TextBox 36"/>
          <p:cNvSpPr/>
          <p:nvPr/>
        </p:nvSpPr>
        <p:spPr>
          <a:xfrm>
            <a:off x="8362800" y="4361040"/>
            <a:ext cx="23022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golf consectetur adipiscing elit sed do eiusmod tempor incididunt labore dolore magna aliqua.</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4"/>
          <p:cNvSpPr/>
          <p:nvPr/>
        </p:nvSpPr>
        <p:spPr>
          <a:xfrm flipH="1">
            <a:off x="7314480" y="2274840"/>
            <a:ext cx="2438280" cy="2286000"/>
          </a:xfrm>
          <a:prstGeom prst="rect">
            <a:avLst/>
          </a:prstGeom>
          <a:gradFill rotWithShape="0">
            <a:gsLst>
              <a:gs pos="0">
                <a:srgbClr val="032932"/>
              </a:gs>
              <a:gs pos="100000">
                <a:srgbClr val="0e4d5b"/>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3" name="Rectangle 8"/>
          <p:cNvSpPr/>
          <p:nvPr/>
        </p:nvSpPr>
        <p:spPr>
          <a:xfrm flipH="1">
            <a:off x="2438280" y="-11160"/>
            <a:ext cx="2438640" cy="2286000"/>
          </a:xfrm>
          <a:prstGeom prst="rect">
            <a:avLst/>
          </a:prstGeom>
          <a:gradFill rotWithShape="0">
            <a:gsLst>
              <a:gs pos="0">
                <a:srgbClr val="032932"/>
              </a:gs>
              <a:gs pos="100000">
                <a:srgbClr val="0e4d5b"/>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4" name="Rectangle 10"/>
          <p:cNvSpPr/>
          <p:nvPr/>
        </p:nvSpPr>
        <p:spPr>
          <a:xfrm flipH="1">
            <a:off x="-720" y="2274840"/>
            <a:ext cx="2438280" cy="2286000"/>
          </a:xfrm>
          <a:prstGeom prst="rect">
            <a:avLst/>
          </a:prstGeom>
          <a:gradFill rotWithShape="0">
            <a:gsLst>
              <a:gs pos="0">
                <a:srgbClr val="032932"/>
              </a:gs>
              <a:gs pos="100000">
                <a:srgbClr val="0e4d5b"/>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5" name="TextBox 14"/>
          <p:cNvSpPr/>
          <p:nvPr/>
        </p:nvSpPr>
        <p:spPr>
          <a:xfrm>
            <a:off x="6310440" y="473040"/>
            <a:ext cx="4448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Our Services</a:t>
            </a:r>
            <a:endParaRPr b="0" lang="en-US" sz="2600" spc="-1" strike="noStrike">
              <a:solidFill>
                <a:srgbClr val="000000"/>
              </a:solidFill>
              <a:latin typeface="Calibri"/>
            </a:endParaRPr>
          </a:p>
        </p:txBody>
      </p:sp>
      <p:sp>
        <p:nvSpPr>
          <p:cNvPr id="1506" name="TextBox 16"/>
          <p:cNvSpPr/>
          <p:nvPr/>
        </p:nvSpPr>
        <p:spPr>
          <a:xfrm>
            <a:off x="6310440" y="965160"/>
            <a:ext cx="47638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elit sed do eiusmod tempor incididunt ut labore et dolore magna aliqua. Ut enim ad minim veniam quis nostrud exercitation ullamco laboris nisi ut aliquip.</a:t>
            </a:r>
            <a:endParaRPr b="0" lang="en-US" sz="1100" spc="-1" strike="noStrike">
              <a:solidFill>
                <a:srgbClr val="000000"/>
              </a:solidFill>
              <a:latin typeface="Calibri"/>
            </a:endParaRPr>
          </a:p>
        </p:txBody>
      </p:sp>
      <p:sp>
        <p:nvSpPr>
          <p:cNvPr id="1507" name="TextBox 19"/>
          <p:cNvSpPr/>
          <p:nvPr/>
        </p:nvSpPr>
        <p:spPr>
          <a:xfrm>
            <a:off x="801720" y="5308560"/>
            <a:ext cx="2066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TITLE HERE 1</a:t>
            </a:r>
            <a:endParaRPr b="0" lang="en-US" sz="1100" spc="-1" strike="noStrike">
              <a:solidFill>
                <a:srgbClr val="000000"/>
              </a:solidFill>
              <a:latin typeface="Calibri"/>
            </a:endParaRPr>
          </a:p>
        </p:txBody>
      </p:sp>
      <p:sp>
        <p:nvSpPr>
          <p:cNvPr id="1508" name="TextBox 20"/>
          <p:cNvSpPr/>
          <p:nvPr/>
        </p:nvSpPr>
        <p:spPr>
          <a:xfrm>
            <a:off x="801720" y="5527800"/>
            <a:ext cx="3465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golf consectetur elit eiusmod tempor incididunt labore dolore magna.</a:t>
            </a:r>
            <a:endParaRPr b="0" lang="en-US" sz="1100" spc="-1" strike="noStrike">
              <a:solidFill>
                <a:srgbClr val="000000"/>
              </a:solidFill>
              <a:latin typeface="Calibri"/>
            </a:endParaRPr>
          </a:p>
        </p:txBody>
      </p:sp>
      <p:sp>
        <p:nvSpPr>
          <p:cNvPr id="1509" name="TextBox 21"/>
          <p:cNvSpPr/>
          <p:nvPr/>
        </p:nvSpPr>
        <p:spPr>
          <a:xfrm>
            <a:off x="7924680" y="5308560"/>
            <a:ext cx="2067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TITLE HERE 2</a:t>
            </a:r>
            <a:endParaRPr b="0" lang="en-US" sz="1100" spc="-1" strike="noStrike">
              <a:solidFill>
                <a:srgbClr val="000000"/>
              </a:solidFill>
              <a:latin typeface="Calibri"/>
            </a:endParaRPr>
          </a:p>
        </p:txBody>
      </p:sp>
      <p:sp>
        <p:nvSpPr>
          <p:cNvPr id="1510" name="TextBox 22"/>
          <p:cNvSpPr/>
          <p:nvPr/>
        </p:nvSpPr>
        <p:spPr>
          <a:xfrm>
            <a:off x="7924680" y="5527800"/>
            <a:ext cx="34657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golf consectetur elit eiusmod tempor incididunt labore dolore magna.</a:t>
            </a:r>
            <a:endParaRPr b="0" lang="en-US" sz="1100" spc="-1" strike="noStrike">
              <a:solidFill>
                <a:srgbClr val="000000"/>
              </a:solidFill>
              <a:latin typeface="Calibri"/>
            </a:endParaRPr>
          </a:p>
        </p:txBody>
      </p:sp>
      <p:pic>
        <p:nvPicPr>
          <p:cNvPr id="1511" name="Group 25" descr=""/>
          <p:cNvPicPr/>
          <p:nvPr/>
        </p:nvPicPr>
        <p:blipFill>
          <a:blip r:embed="rId1"/>
          <a:stretch/>
        </p:blipFill>
        <p:spPr>
          <a:xfrm>
            <a:off x="1003320" y="2781360"/>
            <a:ext cx="419040" cy="774720"/>
          </a:xfrm>
          <a:prstGeom prst="rect">
            <a:avLst/>
          </a:prstGeom>
          <a:ln w="0">
            <a:noFill/>
          </a:ln>
        </p:spPr>
      </p:pic>
      <p:sp>
        <p:nvSpPr>
          <p:cNvPr id="1512" name="TextBox 28"/>
          <p:cNvSpPr/>
          <p:nvPr/>
        </p:nvSpPr>
        <p:spPr>
          <a:xfrm>
            <a:off x="185760" y="3787920"/>
            <a:ext cx="20667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Service  1</a:t>
            </a:r>
            <a:endParaRPr b="0" lang="en-US" sz="1100" spc="-1" strike="noStrike">
              <a:solidFill>
                <a:srgbClr val="000000"/>
              </a:solidFill>
              <a:latin typeface="Calibri"/>
            </a:endParaRPr>
          </a:p>
        </p:txBody>
      </p:sp>
      <p:grpSp>
        <p:nvGrpSpPr>
          <p:cNvPr id="1513" name="Group 40"/>
          <p:cNvGrpSpPr/>
          <p:nvPr/>
        </p:nvGrpSpPr>
        <p:grpSpPr>
          <a:xfrm>
            <a:off x="7500960" y="2792520"/>
            <a:ext cx="2066760" cy="1257840"/>
            <a:chOff x="7500960" y="2792520"/>
            <a:chExt cx="2066760" cy="1257840"/>
          </a:xfrm>
        </p:grpSpPr>
        <p:pic>
          <p:nvPicPr>
            <p:cNvPr id="1514" name="Graphic 12" descr="Golf clubs"/>
            <p:cNvPicPr/>
            <p:nvPr/>
          </p:nvPicPr>
          <p:blipFill>
            <a:blip r:embed="rId2"/>
            <a:stretch/>
          </p:blipFill>
          <p:spPr>
            <a:xfrm>
              <a:off x="8318520" y="2792520"/>
              <a:ext cx="418680" cy="767520"/>
            </a:xfrm>
            <a:prstGeom prst="rect">
              <a:avLst/>
            </a:prstGeom>
            <a:ln w="0">
              <a:noFill/>
            </a:ln>
          </p:spPr>
        </p:pic>
        <p:sp>
          <p:nvSpPr>
            <p:cNvPr id="1515" name="TextBox 38"/>
            <p:cNvSpPr/>
            <p:nvPr/>
          </p:nvSpPr>
          <p:spPr>
            <a:xfrm>
              <a:off x="7500960" y="3789000"/>
              <a:ext cx="20667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Service 4</a:t>
              </a:r>
              <a:endParaRPr b="0" lang="en-US" sz="1100" spc="-1" strike="noStrike">
                <a:solidFill>
                  <a:srgbClr val="000000"/>
                </a:solidFill>
                <a:latin typeface="Calibri"/>
              </a:endParaRPr>
            </a:p>
          </p:txBody>
        </p:sp>
      </p:grpSp>
      <p:grpSp>
        <p:nvGrpSpPr>
          <p:cNvPr id="1516" name="Group 41"/>
          <p:cNvGrpSpPr/>
          <p:nvPr/>
        </p:nvGrpSpPr>
        <p:grpSpPr>
          <a:xfrm>
            <a:off x="2624040" y="619200"/>
            <a:ext cx="2067120" cy="1218960"/>
            <a:chOff x="2624040" y="619200"/>
            <a:chExt cx="2067120" cy="1218960"/>
          </a:xfrm>
        </p:grpSpPr>
        <p:sp>
          <p:nvSpPr>
            <p:cNvPr id="1517" name="Graphic 20"/>
            <p:cNvSpPr/>
            <p:nvPr/>
          </p:nvSpPr>
          <p:spPr>
            <a:xfrm>
              <a:off x="3341880" y="619200"/>
              <a:ext cx="631080" cy="731160"/>
            </a:xfrm>
            <a:custGeom>
              <a:avLst/>
              <a:gdLst/>
              <a:ahLst/>
              <a:rect l="l" t="t" r="r" b="b"/>
              <a:pathLst>
                <a:path w="649528" h="752475">
                  <a:moveTo>
                    <a:pt x="533400" y="62551"/>
                  </a:moveTo>
                  <a:lnTo>
                    <a:pt x="533400" y="0"/>
                  </a:lnTo>
                  <a:lnTo>
                    <a:pt x="114300" y="0"/>
                  </a:lnTo>
                  <a:lnTo>
                    <a:pt x="114300" y="62551"/>
                  </a:lnTo>
                  <a:lnTo>
                    <a:pt x="0" y="62551"/>
                  </a:lnTo>
                  <a:lnTo>
                    <a:pt x="0" y="255908"/>
                  </a:lnTo>
                  <a:cubicBezTo>
                    <a:pt x="505" y="304067"/>
                    <a:pt x="19289" y="350235"/>
                    <a:pt x="52549" y="385067"/>
                  </a:cubicBezTo>
                  <a:cubicBezTo>
                    <a:pt x="104213" y="438626"/>
                    <a:pt x="165564" y="463039"/>
                    <a:pt x="256908" y="466392"/>
                  </a:cubicBezTo>
                  <a:lnTo>
                    <a:pt x="264947" y="475450"/>
                  </a:lnTo>
                  <a:cubicBezTo>
                    <a:pt x="275179" y="486450"/>
                    <a:pt x="282065" y="500139"/>
                    <a:pt x="284798" y="514912"/>
                  </a:cubicBezTo>
                  <a:cubicBezTo>
                    <a:pt x="285456" y="519195"/>
                    <a:pt x="285774" y="523524"/>
                    <a:pt x="285750" y="527856"/>
                  </a:cubicBezTo>
                  <a:lnTo>
                    <a:pt x="285750" y="638175"/>
                  </a:lnTo>
                  <a:lnTo>
                    <a:pt x="247650" y="638175"/>
                  </a:lnTo>
                  <a:cubicBezTo>
                    <a:pt x="221360" y="638206"/>
                    <a:pt x="200056" y="659510"/>
                    <a:pt x="200025" y="685800"/>
                  </a:cubicBezTo>
                  <a:lnTo>
                    <a:pt x="171450" y="685800"/>
                  </a:lnTo>
                  <a:cubicBezTo>
                    <a:pt x="145173" y="685863"/>
                    <a:pt x="123888" y="707148"/>
                    <a:pt x="123825" y="733425"/>
                  </a:cubicBezTo>
                  <a:lnTo>
                    <a:pt x="123825" y="752475"/>
                  </a:lnTo>
                  <a:lnTo>
                    <a:pt x="523875" y="752475"/>
                  </a:lnTo>
                  <a:lnTo>
                    <a:pt x="523875" y="733425"/>
                  </a:lnTo>
                  <a:cubicBezTo>
                    <a:pt x="523827" y="707142"/>
                    <a:pt x="502533" y="685848"/>
                    <a:pt x="476250" y="685800"/>
                  </a:cubicBezTo>
                  <a:lnTo>
                    <a:pt x="447675" y="685800"/>
                  </a:lnTo>
                  <a:cubicBezTo>
                    <a:pt x="447644" y="659510"/>
                    <a:pt x="426340" y="638206"/>
                    <a:pt x="400050" y="638175"/>
                  </a:cubicBezTo>
                  <a:lnTo>
                    <a:pt x="361950" y="638175"/>
                  </a:lnTo>
                  <a:lnTo>
                    <a:pt x="361950" y="528809"/>
                  </a:lnTo>
                  <a:cubicBezTo>
                    <a:pt x="361949" y="522327"/>
                    <a:pt x="362720" y="515868"/>
                    <a:pt x="364246" y="509568"/>
                  </a:cubicBezTo>
                  <a:cubicBezTo>
                    <a:pt x="367438" y="497482"/>
                    <a:pt x="373514" y="486349"/>
                    <a:pt x="381953" y="477126"/>
                  </a:cubicBezTo>
                  <a:lnTo>
                    <a:pt x="391297" y="466411"/>
                  </a:lnTo>
                  <a:cubicBezTo>
                    <a:pt x="483365" y="463248"/>
                    <a:pt x="545106" y="438788"/>
                    <a:pt x="597037" y="384981"/>
                  </a:cubicBezTo>
                  <a:cubicBezTo>
                    <a:pt x="630267" y="350158"/>
                    <a:pt x="649031" y="304012"/>
                    <a:pt x="649529" y="255880"/>
                  </a:cubicBezTo>
                  <a:lnTo>
                    <a:pt x="649529" y="62522"/>
                  </a:lnTo>
                  <a:lnTo>
                    <a:pt x="533400" y="62551"/>
                  </a:lnTo>
                  <a:close/>
                  <a:moveTo>
                    <a:pt x="66313" y="371866"/>
                  </a:moveTo>
                  <a:cubicBezTo>
                    <a:pt x="36646" y="340450"/>
                    <a:pt x="19789" y="299083"/>
                    <a:pt x="19050" y="255880"/>
                  </a:cubicBezTo>
                  <a:lnTo>
                    <a:pt x="19050" y="81572"/>
                  </a:lnTo>
                  <a:lnTo>
                    <a:pt x="114300" y="81572"/>
                  </a:lnTo>
                  <a:lnTo>
                    <a:pt x="114300" y="242983"/>
                  </a:lnTo>
                  <a:cubicBezTo>
                    <a:pt x="114301" y="276697"/>
                    <a:pt x="123684" y="309747"/>
                    <a:pt x="141399" y="338433"/>
                  </a:cubicBezTo>
                  <a:lnTo>
                    <a:pt x="141608" y="338309"/>
                  </a:lnTo>
                  <a:cubicBezTo>
                    <a:pt x="148261" y="348962"/>
                    <a:pt x="155844" y="359006"/>
                    <a:pt x="164268" y="368322"/>
                  </a:cubicBezTo>
                  <a:lnTo>
                    <a:pt x="164268" y="368322"/>
                  </a:lnTo>
                  <a:cubicBezTo>
                    <a:pt x="178241" y="384400"/>
                    <a:pt x="192538" y="398288"/>
                    <a:pt x="206369" y="411718"/>
                  </a:cubicBezTo>
                  <a:lnTo>
                    <a:pt x="212941" y="418109"/>
                  </a:lnTo>
                  <a:cubicBezTo>
                    <a:pt x="218399" y="423453"/>
                    <a:pt x="223952" y="429301"/>
                    <a:pt x="229905" y="435988"/>
                  </a:cubicBezTo>
                  <a:lnTo>
                    <a:pt x="239087" y="446322"/>
                  </a:lnTo>
                  <a:cubicBezTo>
                    <a:pt x="162487" y="440788"/>
                    <a:pt x="111300" y="418500"/>
                    <a:pt x="66313" y="371866"/>
                  </a:cubicBezTo>
                  <a:close/>
                  <a:moveTo>
                    <a:pt x="476250" y="704850"/>
                  </a:moveTo>
                  <a:lnTo>
                    <a:pt x="476250" y="704850"/>
                  </a:lnTo>
                  <a:cubicBezTo>
                    <a:pt x="492010" y="704902"/>
                    <a:pt x="504773" y="717665"/>
                    <a:pt x="504825" y="733425"/>
                  </a:cubicBezTo>
                  <a:lnTo>
                    <a:pt x="142875" y="733425"/>
                  </a:lnTo>
                  <a:lnTo>
                    <a:pt x="142875" y="733425"/>
                  </a:lnTo>
                  <a:cubicBezTo>
                    <a:pt x="142932" y="717667"/>
                    <a:pt x="155693" y="704907"/>
                    <a:pt x="171450" y="704850"/>
                  </a:cubicBezTo>
                  <a:lnTo>
                    <a:pt x="476250" y="704850"/>
                  </a:lnTo>
                  <a:close/>
                  <a:moveTo>
                    <a:pt x="400050" y="657225"/>
                  </a:moveTo>
                  <a:cubicBezTo>
                    <a:pt x="415832" y="657225"/>
                    <a:pt x="428625" y="670018"/>
                    <a:pt x="428625" y="685800"/>
                  </a:cubicBezTo>
                  <a:lnTo>
                    <a:pt x="219075" y="685800"/>
                  </a:lnTo>
                  <a:cubicBezTo>
                    <a:pt x="219075" y="670018"/>
                    <a:pt x="231868" y="657225"/>
                    <a:pt x="247650" y="657225"/>
                  </a:cubicBezTo>
                  <a:lnTo>
                    <a:pt x="295275" y="657225"/>
                  </a:lnTo>
                  <a:lnTo>
                    <a:pt x="352425" y="657225"/>
                  </a:lnTo>
                  <a:lnTo>
                    <a:pt x="400050" y="657225"/>
                  </a:lnTo>
                  <a:close/>
                  <a:moveTo>
                    <a:pt x="367608" y="464591"/>
                  </a:moveTo>
                  <a:cubicBezTo>
                    <a:pt x="357136" y="476117"/>
                    <a:pt x="349618" y="490011"/>
                    <a:pt x="345700" y="505082"/>
                  </a:cubicBezTo>
                  <a:cubicBezTo>
                    <a:pt x="343812" y="512850"/>
                    <a:pt x="342852" y="520815"/>
                    <a:pt x="342843" y="528809"/>
                  </a:cubicBezTo>
                  <a:lnTo>
                    <a:pt x="342843" y="638175"/>
                  </a:lnTo>
                  <a:lnTo>
                    <a:pt x="304800" y="638175"/>
                  </a:lnTo>
                  <a:lnTo>
                    <a:pt x="304800" y="527856"/>
                  </a:lnTo>
                  <a:cubicBezTo>
                    <a:pt x="304805" y="522510"/>
                    <a:pt x="304381" y="517171"/>
                    <a:pt x="303533" y="511893"/>
                  </a:cubicBezTo>
                  <a:cubicBezTo>
                    <a:pt x="300250" y="493534"/>
                    <a:pt x="291801" y="476491"/>
                    <a:pt x="279178" y="462763"/>
                  </a:cubicBezTo>
                  <a:lnTo>
                    <a:pt x="244126" y="423329"/>
                  </a:lnTo>
                  <a:cubicBezTo>
                    <a:pt x="237877" y="416300"/>
                    <a:pt x="232029" y="410137"/>
                    <a:pt x="226238" y="404479"/>
                  </a:cubicBezTo>
                  <a:lnTo>
                    <a:pt x="219627" y="398059"/>
                  </a:lnTo>
                  <a:cubicBezTo>
                    <a:pt x="206083" y="384896"/>
                    <a:pt x="192081" y="371294"/>
                    <a:pt x="178184" y="355340"/>
                  </a:cubicBezTo>
                  <a:cubicBezTo>
                    <a:pt x="171259" y="347647"/>
                    <a:pt x="164872" y="339487"/>
                    <a:pt x="159068" y="330918"/>
                  </a:cubicBezTo>
                  <a:lnTo>
                    <a:pt x="157686" y="328546"/>
                  </a:lnTo>
                  <a:cubicBezTo>
                    <a:pt x="141792" y="302836"/>
                    <a:pt x="133365" y="273209"/>
                    <a:pt x="133350" y="242983"/>
                  </a:cubicBezTo>
                  <a:lnTo>
                    <a:pt x="133350" y="19050"/>
                  </a:lnTo>
                  <a:lnTo>
                    <a:pt x="514350" y="19050"/>
                  </a:lnTo>
                  <a:lnTo>
                    <a:pt x="514350" y="71323"/>
                  </a:lnTo>
                  <a:lnTo>
                    <a:pt x="513398" y="129597"/>
                  </a:lnTo>
                  <a:lnTo>
                    <a:pt x="513398" y="243897"/>
                  </a:lnTo>
                  <a:cubicBezTo>
                    <a:pt x="513382" y="274124"/>
                    <a:pt x="504956" y="303750"/>
                    <a:pt x="489061" y="329460"/>
                  </a:cubicBezTo>
                  <a:lnTo>
                    <a:pt x="487766" y="331594"/>
                  </a:lnTo>
                  <a:cubicBezTo>
                    <a:pt x="484432" y="336356"/>
                    <a:pt x="474355" y="349691"/>
                    <a:pt x="467954" y="356930"/>
                  </a:cubicBezTo>
                  <a:cubicBezTo>
                    <a:pt x="456173" y="370771"/>
                    <a:pt x="443577" y="383898"/>
                    <a:pt x="430235" y="396240"/>
                  </a:cubicBezTo>
                  <a:cubicBezTo>
                    <a:pt x="418462" y="407508"/>
                    <a:pt x="406927" y="419586"/>
                    <a:pt x="395945" y="432140"/>
                  </a:cubicBezTo>
                  <a:lnTo>
                    <a:pt x="367608" y="464591"/>
                  </a:lnTo>
                  <a:close/>
                  <a:moveTo>
                    <a:pt x="630498" y="255880"/>
                  </a:moveTo>
                  <a:cubicBezTo>
                    <a:pt x="629765" y="299056"/>
                    <a:pt x="612929" y="340402"/>
                    <a:pt x="583292" y="371808"/>
                  </a:cubicBezTo>
                  <a:cubicBezTo>
                    <a:pt x="537943" y="418814"/>
                    <a:pt x="486280" y="441122"/>
                    <a:pt x="408737" y="446446"/>
                  </a:cubicBezTo>
                  <a:lnTo>
                    <a:pt x="410318" y="444637"/>
                  </a:lnTo>
                  <a:cubicBezTo>
                    <a:pt x="420900" y="432511"/>
                    <a:pt x="432035" y="420824"/>
                    <a:pt x="443408" y="409966"/>
                  </a:cubicBezTo>
                  <a:cubicBezTo>
                    <a:pt x="457224" y="397219"/>
                    <a:pt x="470265" y="383657"/>
                    <a:pt x="482460" y="369351"/>
                  </a:cubicBezTo>
                  <a:cubicBezTo>
                    <a:pt x="490864" y="359977"/>
                    <a:pt x="498455" y="349905"/>
                    <a:pt x="505149" y="339242"/>
                  </a:cubicBezTo>
                  <a:lnTo>
                    <a:pt x="505387" y="339385"/>
                  </a:lnTo>
                  <a:cubicBezTo>
                    <a:pt x="523090" y="310696"/>
                    <a:pt x="532460" y="277647"/>
                    <a:pt x="532448" y="243935"/>
                  </a:cubicBezTo>
                  <a:lnTo>
                    <a:pt x="532448" y="129759"/>
                  </a:lnTo>
                  <a:lnTo>
                    <a:pt x="533238" y="81601"/>
                  </a:lnTo>
                  <a:lnTo>
                    <a:pt x="630498" y="81601"/>
                  </a:lnTo>
                  <a:lnTo>
                    <a:pt x="630498" y="25588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8" name="TextBox 43"/>
            <p:cNvSpPr/>
            <p:nvPr/>
          </p:nvSpPr>
          <p:spPr>
            <a:xfrm>
              <a:off x="2624040" y="1576800"/>
              <a:ext cx="2067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Service 2</a:t>
              </a:r>
              <a:endParaRPr b="0" lang="en-US" sz="1100" spc="-1" strike="noStrike">
                <a:solidFill>
                  <a:srgbClr val="000000"/>
                </a:solidFill>
                <a:latin typeface="Calibri"/>
              </a:endParaRPr>
            </a:p>
          </p:txBody>
        </p:sp>
      </p:grpSp>
      <p:sp>
        <p:nvSpPr>
          <p:cNvPr id="1519" name="Rectangle 5"/>
          <p:cNvSpPr/>
          <p:nvPr/>
        </p:nvSpPr>
        <p:spPr>
          <a:xfrm flipH="1">
            <a:off x="4876200" y="2274840"/>
            <a:ext cx="2438280" cy="2282760"/>
          </a:xfrm>
          <a:prstGeom prst="rect">
            <a:avLst/>
          </a:prstGeom>
          <a:solidFill>
            <a:srgbClr val="d5b6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20" name="Group 44"/>
          <p:cNvGrpSpPr/>
          <p:nvPr/>
        </p:nvGrpSpPr>
        <p:grpSpPr>
          <a:xfrm>
            <a:off x="5062680" y="2820960"/>
            <a:ext cx="2066760" cy="1230120"/>
            <a:chOff x="5062680" y="2820960"/>
            <a:chExt cx="2066760" cy="1230120"/>
          </a:xfrm>
        </p:grpSpPr>
        <p:pic>
          <p:nvPicPr>
            <p:cNvPr id="1521" name="Graphic 8" descr="Golf Flag In Hole"/>
            <p:cNvPicPr/>
            <p:nvPr/>
          </p:nvPicPr>
          <p:blipFill>
            <a:blip r:embed="rId3"/>
            <a:stretch/>
          </p:blipFill>
          <p:spPr>
            <a:xfrm>
              <a:off x="5677200" y="2820960"/>
              <a:ext cx="825120" cy="715320"/>
            </a:xfrm>
            <a:prstGeom prst="rect">
              <a:avLst/>
            </a:prstGeom>
            <a:ln w="0">
              <a:noFill/>
            </a:ln>
          </p:spPr>
        </p:pic>
        <p:sp>
          <p:nvSpPr>
            <p:cNvPr id="1522" name="TextBox 34"/>
            <p:cNvSpPr/>
            <p:nvPr/>
          </p:nvSpPr>
          <p:spPr>
            <a:xfrm>
              <a:off x="5062680" y="3789720"/>
              <a:ext cx="20667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Service 3</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3" name="Group 43"/>
          <p:cNvGrpSpPr/>
          <p:nvPr/>
        </p:nvGrpSpPr>
        <p:grpSpPr>
          <a:xfrm>
            <a:off x="6643800" y="1157400"/>
            <a:ext cx="4465440" cy="4566960"/>
            <a:chOff x="6643800" y="1157400"/>
            <a:chExt cx="4465440" cy="4566960"/>
          </a:xfrm>
        </p:grpSpPr>
        <p:sp>
          <p:nvSpPr>
            <p:cNvPr id="1524" name="Freeform: Shape 39"/>
            <p:cNvSpPr/>
            <p:nvPr/>
          </p:nvSpPr>
          <p:spPr>
            <a:xfrm flipH="1">
              <a:off x="6753600" y="4038120"/>
              <a:ext cx="1685160" cy="1686240"/>
            </a:xfrm>
            <a:custGeom>
              <a:avLst/>
              <a:gdLst/>
              <a:ahLst/>
              <a:rect l="l" t="t" r="r" b="b"/>
              <a:pathLst>
                <a:path w="4323127" h="2286000">
                  <a:moveTo>
                    <a:pt x="4323127" y="0"/>
                  </a:moveTo>
                  <a:lnTo>
                    <a:pt x="0" y="0"/>
                  </a:lnTo>
                  <a:lnTo>
                    <a:pt x="0" y="2286000"/>
                  </a:lnTo>
                  <a:lnTo>
                    <a:pt x="4323127" y="2286000"/>
                  </a:lnTo>
                  <a:lnTo>
                    <a:pt x="4323127" y="0"/>
                  </a:lnTo>
                  <a:close/>
                </a:path>
              </a:pathLst>
            </a:custGeom>
            <a:gradFill rotWithShape="0">
              <a:gsLst>
                <a:gs pos="0">
                  <a:srgbClr val="032932"/>
                </a:gs>
                <a:gs pos="100000">
                  <a:srgbClr val="0e4d5b"/>
                </a:gs>
              </a:gsLst>
              <a:lin ang="18900000"/>
            </a:gradFill>
            <a:ln w="0">
              <a:noFill/>
            </a:ln>
            <a:effectLst>
              <a:outerShdw dist="685800" dir="54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525" name="TextBox 7"/>
            <p:cNvSpPr/>
            <p:nvPr/>
          </p:nvSpPr>
          <p:spPr>
            <a:xfrm>
              <a:off x="6643800" y="1418760"/>
              <a:ext cx="4326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Golf Coaching</a:t>
              </a:r>
              <a:endParaRPr b="0" lang="en-US" sz="2600" spc="-1" strike="noStrike">
                <a:solidFill>
                  <a:srgbClr val="000000"/>
                </a:solidFill>
                <a:latin typeface="Calibri"/>
              </a:endParaRPr>
            </a:p>
          </p:txBody>
        </p:sp>
        <p:sp>
          <p:nvSpPr>
            <p:cNvPr id="1526" name="TextBox 8"/>
            <p:cNvSpPr/>
            <p:nvPr/>
          </p:nvSpPr>
          <p:spPr>
            <a:xfrm>
              <a:off x="6643800" y="1157400"/>
              <a:ext cx="2787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OUR SERVICE</a:t>
              </a:r>
              <a:endParaRPr b="0" lang="en-US" sz="1100" spc="-1" strike="noStrike">
                <a:solidFill>
                  <a:srgbClr val="000000"/>
                </a:solidFill>
                <a:latin typeface="Calibri"/>
              </a:endParaRPr>
            </a:p>
          </p:txBody>
        </p:sp>
        <p:sp>
          <p:nvSpPr>
            <p:cNvPr id="1527" name="TextBox 10"/>
            <p:cNvSpPr/>
            <p:nvPr/>
          </p:nvSpPr>
          <p:spPr>
            <a:xfrm>
              <a:off x="6643800" y="1925640"/>
              <a:ext cx="4326840" cy="2101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elit sed do eiusmod tempor incididunt ut labore et dolore magna aliqua. Ut enim ad minim veniam quis nostrud exercitation ullamco laboris nisi ut aliquip golf commodo consequat. Duis aute irure dolor in reprehenderit in voluptate velit esse cillum dolore eu fugiat nulla pariatur. Excepteur sint occaecat cupidatat non provident sunt in culpa qui officia deserunt mollit anim id est laborum.</a:t>
              </a:r>
              <a:endParaRPr b="0" lang="en-US" sz="1100" spc="-1" strike="noStrike">
                <a:solidFill>
                  <a:srgbClr val="000000"/>
                </a:solidFill>
                <a:latin typeface="Calibri"/>
              </a:endParaRPr>
            </a:p>
          </p:txBody>
        </p:sp>
        <p:grpSp>
          <p:nvGrpSpPr>
            <p:cNvPr id="1528" name="Group 42"/>
            <p:cNvGrpSpPr/>
            <p:nvPr/>
          </p:nvGrpSpPr>
          <p:grpSpPr>
            <a:xfrm>
              <a:off x="8730720" y="4345560"/>
              <a:ext cx="2378520" cy="1094040"/>
              <a:chOff x="8730720" y="4345560"/>
              <a:chExt cx="2378520" cy="1094040"/>
            </a:xfrm>
          </p:grpSpPr>
          <p:sp>
            <p:nvSpPr>
              <p:cNvPr id="1529" name="TextBox 11"/>
              <p:cNvSpPr/>
              <p:nvPr/>
            </p:nvSpPr>
            <p:spPr>
              <a:xfrm>
                <a:off x="8730720" y="4345560"/>
                <a:ext cx="2067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TITLE HERE 1</a:t>
                </a:r>
                <a:endParaRPr b="0" lang="en-US" sz="1100" spc="-1" strike="noStrike">
                  <a:solidFill>
                    <a:srgbClr val="000000"/>
                  </a:solidFill>
                  <a:latin typeface="Calibri"/>
                </a:endParaRPr>
              </a:p>
            </p:txBody>
          </p:sp>
          <p:sp>
            <p:nvSpPr>
              <p:cNvPr id="1530" name="TextBox 12"/>
              <p:cNvSpPr/>
              <p:nvPr/>
            </p:nvSpPr>
            <p:spPr>
              <a:xfrm>
                <a:off x="8730720" y="4592880"/>
                <a:ext cx="2378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golf consectetur elit eiusmod tempor incididunt labore dolore magna.</a:t>
                </a:r>
                <a:endParaRPr b="0" lang="en-US" sz="1100" spc="-1" strike="noStrike">
                  <a:solidFill>
                    <a:srgbClr val="000000"/>
                  </a:solidFill>
                  <a:latin typeface="Calibri"/>
                </a:endParaRPr>
              </a:p>
            </p:txBody>
          </p:sp>
        </p:grpSp>
        <p:grpSp>
          <p:nvGrpSpPr>
            <p:cNvPr id="1531" name="Group 41"/>
            <p:cNvGrpSpPr/>
            <p:nvPr/>
          </p:nvGrpSpPr>
          <p:grpSpPr>
            <a:xfrm>
              <a:off x="7094520" y="4258080"/>
              <a:ext cx="1005120" cy="1246320"/>
              <a:chOff x="7094520" y="4258080"/>
              <a:chExt cx="1005120" cy="1246320"/>
            </a:xfrm>
          </p:grpSpPr>
          <p:grpSp>
            <p:nvGrpSpPr>
              <p:cNvPr id="1532" name="Group 26"/>
              <p:cNvGrpSpPr/>
              <p:nvPr/>
            </p:nvGrpSpPr>
            <p:grpSpPr>
              <a:xfrm>
                <a:off x="7094520" y="4258080"/>
                <a:ext cx="1005120" cy="1005120"/>
                <a:chOff x="7094520" y="4258080"/>
                <a:chExt cx="1005120" cy="1005120"/>
              </a:xfrm>
            </p:grpSpPr>
            <p:sp>
              <p:nvSpPr>
                <p:cNvPr id="1533" name="Oval 27"/>
                <p:cNvSpPr/>
                <p:nvPr/>
              </p:nvSpPr>
              <p:spPr>
                <a:xfrm>
                  <a:off x="7094520" y="4258080"/>
                  <a:ext cx="1005120" cy="1005120"/>
                </a:xfrm>
                <a:prstGeom prst="ellipse">
                  <a:avLst/>
                </a:prstGeom>
                <a:noFill/>
                <a:ln w="38160">
                  <a:solidFill>
                    <a:srgbClr val="ffffff">
                      <a:alpha val="2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4" name="Arc 28"/>
                <p:cNvSpPr/>
                <p:nvPr/>
              </p:nvSpPr>
              <p:spPr>
                <a:xfrm>
                  <a:off x="7094520" y="4258080"/>
                  <a:ext cx="1005120" cy="1005120"/>
                </a:xfrm>
                <a:custGeom>
                  <a:avLst/>
                  <a:gdLst/>
                  <a:ahLst/>
                  <a:rect l="l" t="t" r="r" b="b"/>
                  <a:pathLst>
                    <a:path stroke="0" w="1425330" h="1425325">
                      <a:moveTo>
                        <a:pt x="1399041" y="520884"/>
                      </a:moveTo>
                      <a:cubicBezTo>
                        <a:pt x="1480921" y="813932"/>
                        <a:pt x="1367717" y="1126641"/>
                        <a:pt x="1117223" y="1299367"/>
                      </a:cubicBezTo>
                      <a:cubicBezTo>
                        <a:pt x="866729" y="1472092"/>
                        <a:pt x="534204" y="1466732"/>
                        <a:pt x="289408" y="1286023"/>
                      </a:cubicBezTo>
                      <a:cubicBezTo>
                        <a:pt x="44611" y="1105313"/>
                        <a:pt x="-58456" y="789118"/>
                        <a:pt x="32827" y="498861"/>
                      </a:cubicBezTo>
                      <a:cubicBezTo>
                        <a:pt x="124109" y="208605"/>
                        <a:pt x="389603" y="8318"/>
                        <a:pt x="693768" y="250"/>
                      </a:cubicBezTo>
                      <a:lnTo>
                        <a:pt x="712665" y="712663"/>
                      </a:lnTo>
                      <a:lnTo>
                        <a:pt x="1399041" y="520884"/>
                      </a:lnTo>
                      <a:close/>
                    </a:path>
                    <a:path fill="none" w="1425330" h="1425325">
                      <a:moveTo>
                        <a:pt x="1399041" y="520884"/>
                      </a:moveTo>
                      <a:cubicBezTo>
                        <a:pt x="1480921" y="813932"/>
                        <a:pt x="1367717" y="1126641"/>
                        <a:pt x="1117223" y="1299367"/>
                      </a:cubicBezTo>
                      <a:cubicBezTo>
                        <a:pt x="866729" y="1472092"/>
                        <a:pt x="534204" y="1466732"/>
                        <a:pt x="289408" y="1286023"/>
                      </a:cubicBezTo>
                      <a:cubicBezTo>
                        <a:pt x="44611" y="1105313"/>
                        <a:pt x="-58456" y="789118"/>
                        <a:pt x="32827" y="498861"/>
                      </a:cubicBezTo>
                      <a:cubicBezTo>
                        <a:pt x="124109" y="208605"/>
                        <a:pt x="389603" y="8318"/>
                        <a:pt x="693768" y="250"/>
                      </a:cubicBezTo>
                    </a:path>
                  </a:pathLst>
                </a:custGeom>
                <a:noFill/>
                <a:ln cap="rnd" w="38160">
                  <a:solidFill>
                    <a:srgbClr val="d5b6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535" name="TextBox 29"/>
              <p:cNvSpPr/>
              <p:nvPr/>
            </p:nvSpPr>
            <p:spPr>
              <a:xfrm>
                <a:off x="7094520" y="4551840"/>
                <a:ext cx="10051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oppins SemiBold"/>
                    <a:ea typeface="Poppins SemiBold"/>
                  </a:rPr>
                  <a:t>75%</a:t>
                </a:r>
                <a:endParaRPr b="0" lang="en-US" sz="2200" spc="-1" strike="noStrike">
                  <a:solidFill>
                    <a:srgbClr val="000000"/>
                  </a:solidFill>
                  <a:latin typeface="Calibri"/>
                </a:endParaRPr>
              </a:p>
            </p:txBody>
          </p:sp>
          <p:grpSp>
            <p:nvGrpSpPr>
              <p:cNvPr id="1536" name="Group 33"/>
              <p:cNvGrpSpPr/>
              <p:nvPr/>
            </p:nvGrpSpPr>
            <p:grpSpPr>
              <a:xfrm>
                <a:off x="7206840" y="5367600"/>
                <a:ext cx="780120" cy="136800"/>
                <a:chOff x="7206840" y="5367600"/>
                <a:chExt cx="780120" cy="136800"/>
              </a:xfrm>
            </p:grpSpPr>
            <p:sp>
              <p:nvSpPr>
                <p:cNvPr id="1537" name="Star: 5 Points 34"/>
                <p:cNvSpPr/>
                <p:nvPr/>
              </p:nvSpPr>
              <p:spPr>
                <a:xfrm flipH="1">
                  <a:off x="7206840" y="5367600"/>
                  <a:ext cx="136800" cy="1368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38" name="Star: 5 Points 35"/>
                <p:cNvSpPr/>
                <p:nvPr/>
              </p:nvSpPr>
              <p:spPr>
                <a:xfrm flipH="1">
                  <a:off x="7367400" y="5367600"/>
                  <a:ext cx="136800" cy="1368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39" name="Star: 5 Points 36"/>
                <p:cNvSpPr/>
                <p:nvPr/>
              </p:nvSpPr>
              <p:spPr>
                <a:xfrm flipH="1">
                  <a:off x="7528320" y="5367600"/>
                  <a:ext cx="136800" cy="1368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0" name="Star: 5 Points 37"/>
                <p:cNvSpPr/>
                <p:nvPr/>
              </p:nvSpPr>
              <p:spPr>
                <a:xfrm flipH="1">
                  <a:off x="7689240" y="5367600"/>
                  <a:ext cx="136800" cy="1368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1" name="Star: 5 Points 38"/>
                <p:cNvSpPr/>
                <p:nvPr/>
              </p:nvSpPr>
              <p:spPr>
                <a:xfrm flipH="1">
                  <a:off x="7850160" y="5367600"/>
                  <a:ext cx="136800" cy="1368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Freeform: Shape 55"/>
          <p:cNvSpPr/>
          <p:nvPr/>
        </p:nvSpPr>
        <p:spPr>
          <a:xfrm flipH="1">
            <a:off x="8420040" y="4572000"/>
            <a:ext cx="3772080" cy="2286000"/>
          </a:xfrm>
          <a:custGeom>
            <a:avLst/>
            <a:gdLst/>
            <a:ahLst/>
            <a:rect l="l" t="t" r="r" b="b"/>
            <a:pathLst>
              <a:path w="4323127" h="2286000">
                <a:moveTo>
                  <a:pt x="4323127" y="0"/>
                </a:moveTo>
                <a:lnTo>
                  <a:pt x="0" y="0"/>
                </a:lnTo>
                <a:lnTo>
                  <a:pt x="0" y="2286000"/>
                </a:lnTo>
                <a:lnTo>
                  <a:pt x="4323127" y="2286000"/>
                </a:lnTo>
                <a:lnTo>
                  <a:pt x="4323127" y="0"/>
                </a:lnTo>
                <a:close/>
              </a:path>
            </a:pathLst>
          </a:custGeom>
          <a:solidFill>
            <a:srgbClr val="fbf8ef"/>
          </a:solidFill>
          <a:ln w="0">
            <a:noFill/>
          </a:ln>
          <a:effectLst>
            <a:outerShdw dist="685800" dir="54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543" name="Freeform: Shape 54"/>
          <p:cNvSpPr/>
          <p:nvPr/>
        </p:nvSpPr>
        <p:spPr>
          <a:xfrm flipH="1">
            <a:off x="8420040" y="2286000"/>
            <a:ext cx="3772080" cy="2286000"/>
          </a:xfrm>
          <a:custGeom>
            <a:avLst/>
            <a:gdLst/>
            <a:ahLst/>
            <a:rect l="l" t="t" r="r" b="b"/>
            <a:pathLst>
              <a:path w="4323127" h="2286000">
                <a:moveTo>
                  <a:pt x="4323127" y="0"/>
                </a:moveTo>
                <a:lnTo>
                  <a:pt x="0" y="0"/>
                </a:lnTo>
                <a:lnTo>
                  <a:pt x="0" y="2286000"/>
                </a:lnTo>
                <a:lnTo>
                  <a:pt x="4323127" y="2286000"/>
                </a:lnTo>
                <a:lnTo>
                  <a:pt x="4323127" y="0"/>
                </a:lnTo>
                <a:close/>
              </a:path>
            </a:pathLst>
          </a:custGeom>
          <a:solidFill>
            <a:srgbClr val="fbf8ef"/>
          </a:solidFill>
          <a:ln w="0">
            <a:noFill/>
          </a:ln>
          <a:effectLst>
            <a:outerShdw dist="685800" dir="54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grpSp>
        <p:nvGrpSpPr>
          <p:cNvPr id="1544" name="Group 21"/>
          <p:cNvGrpSpPr/>
          <p:nvPr/>
        </p:nvGrpSpPr>
        <p:grpSpPr>
          <a:xfrm>
            <a:off x="9117000" y="2906640"/>
            <a:ext cx="2378160" cy="1066320"/>
            <a:chOff x="9117000" y="2906640"/>
            <a:chExt cx="2378160" cy="1066320"/>
          </a:xfrm>
        </p:grpSpPr>
        <p:sp>
          <p:nvSpPr>
            <p:cNvPr id="1545" name="TextBox 22"/>
            <p:cNvSpPr/>
            <p:nvPr/>
          </p:nvSpPr>
          <p:spPr>
            <a:xfrm>
              <a:off x="9117000" y="2906640"/>
              <a:ext cx="2067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TITLE HERE 2</a:t>
              </a:r>
              <a:endParaRPr b="0" lang="en-US" sz="1100" spc="-1" strike="noStrike">
                <a:solidFill>
                  <a:srgbClr val="000000"/>
                </a:solidFill>
                <a:latin typeface="Calibri"/>
              </a:endParaRPr>
            </a:p>
          </p:txBody>
        </p:sp>
        <p:sp>
          <p:nvSpPr>
            <p:cNvPr id="1546" name="TextBox 23"/>
            <p:cNvSpPr/>
            <p:nvPr/>
          </p:nvSpPr>
          <p:spPr>
            <a:xfrm>
              <a:off x="9117000" y="3126240"/>
              <a:ext cx="2378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golf consectetur elit eiusmod tempor incididunt labore dolore magna.</a:t>
              </a:r>
              <a:endParaRPr b="0" lang="en-US" sz="1100" spc="-1" strike="noStrike">
                <a:solidFill>
                  <a:srgbClr val="000000"/>
                </a:solidFill>
                <a:latin typeface="Calibri"/>
              </a:endParaRPr>
            </a:p>
          </p:txBody>
        </p:sp>
      </p:grpSp>
      <p:grpSp>
        <p:nvGrpSpPr>
          <p:cNvPr id="1547" name="Group 12"/>
          <p:cNvGrpSpPr/>
          <p:nvPr/>
        </p:nvGrpSpPr>
        <p:grpSpPr>
          <a:xfrm>
            <a:off x="985680" y="1969920"/>
            <a:ext cx="3891240" cy="3106440"/>
            <a:chOff x="985680" y="1969920"/>
            <a:chExt cx="3891240" cy="3106440"/>
          </a:xfrm>
        </p:grpSpPr>
        <p:sp>
          <p:nvSpPr>
            <p:cNvPr id="1548" name="TextBox 1"/>
            <p:cNvSpPr/>
            <p:nvPr/>
          </p:nvSpPr>
          <p:spPr>
            <a:xfrm>
              <a:off x="985680" y="2231280"/>
              <a:ext cx="3891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Golferina Services</a:t>
              </a:r>
              <a:endParaRPr b="0" lang="en-US" sz="2600" spc="-1" strike="noStrike">
                <a:solidFill>
                  <a:srgbClr val="000000"/>
                </a:solidFill>
                <a:latin typeface="Calibri"/>
              </a:endParaRPr>
            </a:p>
          </p:txBody>
        </p:sp>
        <p:sp>
          <p:nvSpPr>
            <p:cNvPr id="1549" name="TextBox 2"/>
            <p:cNvSpPr/>
            <p:nvPr/>
          </p:nvSpPr>
          <p:spPr>
            <a:xfrm>
              <a:off x="985680" y="1969920"/>
              <a:ext cx="2786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OUR SERVICES</a:t>
              </a:r>
              <a:endParaRPr b="0" lang="en-US" sz="1100" spc="-1" strike="noStrike">
                <a:solidFill>
                  <a:srgbClr val="000000"/>
                </a:solidFill>
                <a:latin typeface="Calibri"/>
              </a:endParaRPr>
            </a:p>
          </p:txBody>
        </p:sp>
        <p:sp>
          <p:nvSpPr>
            <p:cNvPr id="1550" name="TextBox 3"/>
            <p:cNvSpPr/>
            <p:nvPr/>
          </p:nvSpPr>
          <p:spPr>
            <a:xfrm>
              <a:off x="985680" y="2724120"/>
              <a:ext cx="3891240" cy="2352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elit sed do eiusmod tempor incididunt ut labore et dolore magna aliqua. Ut enim ad minim veniam quis nostrud exercitation ullamco laboris nisi ut aliquip golf commodo consequat. Duis aute irure dolor in reprehenderit in voluptate velit esse cillum dolore eu fugiat nulla pariatur. Excepteur sint occaecat cupidatat non provident sunt in culpa qui officia deserunt mollit anim id est laborum.</a:t>
              </a:r>
              <a:endParaRPr b="0" lang="en-US" sz="1100" spc="-1" strike="noStrike">
                <a:solidFill>
                  <a:srgbClr val="000000"/>
                </a:solidFill>
                <a:latin typeface="Calibri"/>
              </a:endParaRPr>
            </a:p>
          </p:txBody>
        </p:sp>
      </p:grpSp>
      <p:sp>
        <p:nvSpPr>
          <p:cNvPr id="1551" name="Freeform: Shape 14"/>
          <p:cNvSpPr/>
          <p:nvPr/>
        </p:nvSpPr>
        <p:spPr>
          <a:xfrm flipH="1">
            <a:off x="7869240" y="0"/>
            <a:ext cx="4322880" cy="2286000"/>
          </a:xfrm>
          <a:custGeom>
            <a:avLst/>
            <a:gdLst/>
            <a:ahLst/>
            <a:rect l="l" t="t" r="r" b="b"/>
            <a:pathLst>
              <a:path w="4323127" h="2286000">
                <a:moveTo>
                  <a:pt x="4323127" y="0"/>
                </a:moveTo>
                <a:lnTo>
                  <a:pt x="0" y="0"/>
                </a:lnTo>
                <a:lnTo>
                  <a:pt x="0" y="2286000"/>
                </a:lnTo>
                <a:lnTo>
                  <a:pt x="4323127" y="2286000"/>
                </a:lnTo>
                <a:lnTo>
                  <a:pt x="4323127" y="0"/>
                </a:lnTo>
                <a:close/>
              </a:path>
            </a:pathLst>
          </a:custGeom>
          <a:solidFill>
            <a:srgbClr val="d5b665"/>
          </a:solidFill>
          <a:ln w="0">
            <a:noFill/>
          </a:ln>
          <a:effectLst>
            <a:outerShdw dist="685800" dir="54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grpSp>
        <p:nvGrpSpPr>
          <p:cNvPr id="1552" name="Group 18"/>
          <p:cNvGrpSpPr/>
          <p:nvPr/>
        </p:nvGrpSpPr>
        <p:grpSpPr>
          <a:xfrm>
            <a:off x="8840880" y="620640"/>
            <a:ext cx="2379600" cy="1066320"/>
            <a:chOff x="8840880" y="620640"/>
            <a:chExt cx="2379600" cy="1066320"/>
          </a:xfrm>
        </p:grpSpPr>
        <p:sp>
          <p:nvSpPr>
            <p:cNvPr id="1553" name="TextBox 19"/>
            <p:cNvSpPr/>
            <p:nvPr/>
          </p:nvSpPr>
          <p:spPr>
            <a:xfrm>
              <a:off x="8840880" y="620640"/>
              <a:ext cx="20685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YOUR TITLE HERE 1</a:t>
              </a:r>
              <a:endParaRPr b="0" lang="en-US" sz="1100" spc="-1" strike="noStrike">
                <a:solidFill>
                  <a:srgbClr val="000000"/>
                </a:solidFill>
                <a:latin typeface="Calibri"/>
              </a:endParaRPr>
            </a:p>
          </p:txBody>
        </p:sp>
        <p:sp>
          <p:nvSpPr>
            <p:cNvPr id="1554" name="TextBox 20"/>
            <p:cNvSpPr/>
            <p:nvPr/>
          </p:nvSpPr>
          <p:spPr>
            <a:xfrm>
              <a:off x="8840880" y="840240"/>
              <a:ext cx="23796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Poppins Medium"/>
                </a:rPr>
                <a:t>Lorem ipsum dolor sit amet golf consectetur elit eiusmod tempor incididunt labore dolore magna.</a:t>
              </a:r>
              <a:endParaRPr b="0" lang="en-US" sz="1100" spc="-1" strike="noStrike">
                <a:solidFill>
                  <a:srgbClr val="000000"/>
                </a:solidFill>
                <a:latin typeface="Calibri"/>
              </a:endParaRPr>
            </a:p>
          </p:txBody>
        </p:sp>
      </p:grpSp>
      <p:grpSp>
        <p:nvGrpSpPr>
          <p:cNvPr id="1555" name="Group 30"/>
          <p:cNvGrpSpPr/>
          <p:nvPr/>
        </p:nvGrpSpPr>
        <p:grpSpPr>
          <a:xfrm>
            <a:off x="9117000" y="5192640"/>
            <a:ext cx="2378160" cy="1066320"/>
            <a:chOff x="9117000" y="5192640"/>
            <a:chExt cx="2378160" cy="1066320"/>
          </a:xfrm>
        </p:grpSpPr>
        <p:sp>
          <p:nvSpPr>
            <p:cNvPr id="1556" name="TextBox 31"/>
            <p:cNvSpPr/>
            <p:nvPr/>
          </p:nvSpPr>
          <p:spPr>
            <a:xfrm>
              <a:off x="9117000" y="5192640"/>
              <a:ext cx="2067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TITLE HERE 3</a:t>
              </a:r>
              <a:endParaRPr b="0" lang="en-US" sz="1100" spc="-1" strike="noStrike">
                <a:solidFill>
                  <a:srgbClr val="000000"/>
                </a:solidFill>
                <a:latin typeface="Calibri"/>
              </a:endParaRPr>
            </a:p>
          </p:txBody>
        </p:sp>
        <p:sp>
          <p:nvSpPr>
            <p:cNvPr id="1557" name="TextBox 32"/>
            <p:cNvSpPr/>
            <p:nvPr/>
          </p:nvSpPr>
          <p:spPr>
            <a:xfrm>
              <a:off x="9117000" y="5412240"/>
              <a:ext cx="2378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golf consectetur elit eiusmod tempor incididunt labore dolore magna.</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TextBox 4"/>
          <p:cNvSpPr/>
          <p:nvPr/>
        </p:nvSpPr>
        <p:spPr>
          <a:xfrm>
            <a:off x="3454560" y="5234040"/>
            <a:ext cx="5283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Choose Your Pricing Plan</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59" name="TextBox 6"/>
          <p:cNvSpPr/>
          <p:nvPr/>
        </p:nvSpPr>
        <p:spPr>
          <a:xfrm>
            <a:off x="3618000" y="5738760"/>
            <a:ext cx="49561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elit sed do eiusmod tempor incididunt ut labore et dolore magna aliqua. </a:t>
            </a:r>
            <a:endParaRPr b="0" lang="en-US" sz="1100" spc="-1" strike="noStrike">
              <a:solidFill>
                <a:srgbClr val="000000"/>
              </a:solidFill>
              <a:latin typeface="Calibri"/>
            </a:endParaRPr>
          </a:p>
        </p:txBody>
      </p:sp>
      <p:sp>
        <p:nvSpPr>
          <p:cNvPr id="1560" name="Rectangle 3"/>
          <p:cNvSpPr/>
          <p:nvPr/>
        </p:nvSpPr>
        <p:spPr>
          <a:xfrm>
            <a:off x="1897200" y="1413000"/>
            <a:ext cx="2798640" cy="3538440"/>
          </a:xfrm>
          <a:prstGeom prst="rect">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1" name="Rectangle 8"/>
          <p:cNvSpPr/>
          <p:nvPr/>
        </p:nvSpPr>
        <p:spPr>
          <a:xfrm>
            <a:off x="7496280" y="1413000"/>
            <a:ext cx="2798640" cy="3538440"/>
          </a:xfrm>
          <a:prstGeom prst="rect">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2" name="Rectangle 7"/>
          <p:cNvSpPr/>
          <p:nvPr/>
        </p:nvSpPr>
        <p:spPr>
          <a:xfrm>
            <a:off x="4695840" y="1274760"/>
            <a:ext cx="2800440" cy="3676680"/>
          </a:xfrm>
          <a:prstGeom prst="rect">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3" name="TextBox 10"/>
          <p:cNvSpPr/>
          <p:nvPr/>
        </p:nvSpPr>
        <p:spPr>
          <a:xfrm>
            <a:off x="2324160" y="1638360"/>
            <a:ext cx="194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oppins SemiBold"/>
                <a:ea typeface="Open Sans Light"/>
              </a:rPr>
              <a:t>BASIC PLAN</a:t>
            </a:r>
            <a:endParaRPr b="0" lang="en-US" sz="1400" spc="-1" strike="noStrike">
              <a:solidFill>
                <a:srgbClr val="000000"/>
              </a:solidFill>
              <a:latin typeface="Calibri"/>
            </a:endParaRPr>
          </a:p>
        </p:txBody>
      </p:sp>
      <p:sp>
        <p:nvSpPr>
          <p:cNvPr id="1564" name="TextBox 12"/>
          <p:cNvSpPr/>
          <p:nvPr/>
        </p:nvSpPr>
        <p:spPr>
          <a:xfrm>
            <a:off x="2255760" y="2300400"/>
            <a:ext cx="957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baseline="30000">
                <a:solidFill>
                  <a:srgbClr val="000000"/>
                </a:solidFill>
                <a:latin typeface="Poppins SemiBold"/>
                <a:ea typeface="Poppins SemiBold"/>
              </a:rPr>
              <a:t>$</a:t>
            </a:r>
            <a:r>
              <a:rPr b="0" lang="en-US" sz="2600" spc="-1" strike="noStrike">
                <a:solidFill>
                  <a:srgbClr val="000000"/>
                </a:solidFill>
                <a:latin typeface="Poppins SemiBold"/>
                <a:ea typeface="Poppins SemiBold"/>
              </a:rPr>
              <a:t>250</a:t>
            </a:r>
            <a:endParaRPr b="0" lang="en-US" sz="2600" spc="-1" strike="noStrike">
              <a:solidFill>
                <a:srgbClr val="000000"/>
              </a:solidFill>
              <a:latin typeface="Calibri"/>
            </a:endParaRPr>
          </a:p>
        </p:txBody>
      </p:sp>
      <p:sp>
        <p:nvSpPr>
          <p:cNvPr id="1565" name="TextBox 13"/>
          <p:cNvSpPr/>
          <p:nvPr/>
        </p:nvSpPr>
        <p:spPr>
          <a:xfrm>
            <a:off x="3121200" y="2414520"/>
            <a:ext cx="672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a:rPr>
              <a:t>/month</a:t>
            </a:r>
            <a:endParaRPr b="0" lang="en-US" sz="1100" spc="-1" strike="noStrike">
              <a:solidFill>
                <a:srgbClr val="000000"/>
              </a:solidFill>
              <a:latin typeface="Calibri"/>
            </a:endParaRPr>
          </a:p>
        </p:txBody>
      </p:sp>
      <p:sp>
        <p:nvSpPr>
          <p:cNvPr id="1566" name="Straight Connector 28"/>
          <p:cNvSpPr/>
          <p:nvPr/>
        </p:nvSpPr>
        <p:spPr>
          <a:xfrm>
            <a:off x="2271600" y="2111400"/>
            <a:ext cx="205128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67" name="Group 29" descr=""/>
          <p:cNvPicPr/>
          <p:nvPr/>
        </p:nvPicPr>
        <p:blipFill>
          <a:blip r:embed="rId1"/>
          <a:stretch/>
        </p:blipFill>
        <p:spPr>
          <a:xfrm>
            <a:off x="1879560" y="4317840"/>
            <a:ext cx="2819520" cy="635040"/>
          </a:xfrm>
          <a:prstGeom prst="rect">
            <a:avLst/>
          </a:prstGeom>
          <a:ln w="0">
            <a:noFill/>
          </a:ln>
        </p:spPr>
      </p:pic>
      <p:pic>
        <p:nvPicPr>
          <p:cNvPr id="1568" name="Group 40" descr=""/>
          <p:cNvPicPr/>
          <p:nvPr/>
        </p:nvPicPr>
        <p:blipFill>
          <a:blip r:embed="rId2"/>
          <a:stretch/>
        </p:blipFill>
        <p:spPr>
          <a:xfrm>
            <a:off x="4686480" y="4317840"/>
            <a:ext cx="2806560" cy="635040"/>
          </a:xfrm>
          <a:prstGeom prst="rect">
            <a:avLst/>
          </a:prstGeom>
          <a:ln w="0">
            <a:noFill/>
          </a:ln>
        </p:spPr>
      </p:pic>
      <p:pic>
        <p:nvPicPr>
          <p:cNvPr id="1569" name="Group 43" descr=""/>
          <p:cNvPicPr/>
          <p:nvPr/>
        </p:nvPicPr>
        <p:blipFill>
          <a:blip r:embed="rId3"/>
          <a:stretch/>
        </p:blipFill>
        <p:spPr>
          <a:xfrm>
            <a:off x="7480440" y="4317840"/>
            <a:ext cx="2819160" cy="635040"/>
          </a:xfrm>
          <a:prstGeom prst="rect">
            <a:avLst/>
          </a:prstGeom>
          <a:ln w="0">
            <a:noFill/>
          </a:ln>
        </p:spPr>
      </p:pic>
      <p:sp>
        <p:nvSpPr>
          <p:cNvPr id="1570" name="TextBox 46"/>
          <p:cNvSpPr/>
          <p:nvPr/>
        </p:nvSpPr>
        <p:spPr>
          <a:xfrm>
            <a:off x="5130720" y="1606680"/>
            <a:ext cx="194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oppins SemiBold"/>
                <a:ea typeface="Open Sans Light"/>
              </a:rPr>
              <a:t>STANDARD PLAN</a:t>
            </a:r>
            <a:endParaRPr b="0" lang="en-US" sz="1400" spc="-1" strike="noStrike">
              <a:solidFill>
                <a:srgbClr val="000000"/>
              </a:solidFill>
              <a:latin typeface="Calibri"/>
            </a:endParaRPr>
          </a:p>
        </p:txBody>
      </p:sp>
      <p:sp>
        <p:nvSpPr>
          <p:cNvPr id="1571" name="TextBox 48"/>
          <p:cNvSpPr/>
          <p:nvPr/>
        </p:nvSpPr>
        <p:spPr>
          <a:xfrm>
            <a:off x="5062680" y="2268360"/>
            <a:ext cx="957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baseline="30000">
                <a:solidFill>
                  <a:srgbClr val="000000"/>
                </a:solidFill>
                <a:latin typeface="Poppins SemiBold"/>
                <a:ea typeface="Poppins SemiBold"/>
              </a:rPr>
              <a:t>$</a:t>
            </a:r>
            <a:r>
              <a:rPr b="0" lang="en-US" sz="2600" spc="-1" strike="noStrike">
                <a:solidFill>
                  <a:srgbClr val="000000"/>
                </a:solidFill>
                <a:latin typeface="Poppins SemiBold"/>
                <a:ea typeface="Poppins SemiBold"/>
              </a:rPr>
              <a:t>450</a:t>
            </a:r>
            <a:endParaRPr b="0" lang="en-US" sz="2600" spc="-1" strike="noStrike">
              <a:solidFill>
                <a:srgbClr val="000000"/>
              </a:solidFill>
              <a:latin typeface="Calibri"/>
            </a:endParaRPr>
          </a:p>
        </p:txBody>
      </p:sp>
      <p:sp>
        <p:nvSpPr>
          <p:cNvPr id="1572" name="TextBox 49"/>
          <p:cNvSpPr/>
          <p:nvPr/>
        </p:nvSpPr>
        <p:spPr>
          <a:xfrm>
            <a:off x="5927760" y="2382840"/>
            <a:ext cx="673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a:rPr>
              <a:t>/month</a:t>
            </a:r>
            <a:endParaRPr b="0" lang="en-US" sz="1100" spc="-1" strike="noStrike">
              <a:solidFill>
                <a:srgbClr val="000000"/>
              </a:solidFill>
              <a:latin typeface="Calibri"/>
            </a:endParaRPr>
          </a:p>
        </p:txBody>
      </p:sp>
      <p:sp>
        <p:nvSpPr>
          <p:cNvPr id="1573" name="TextBox 50"/>
          <p:cNvSpPr/>
          <p:nvPr/>
        </p:nvSpPr>
        <p:spPr>
          <a:xfrm>
            <a:off x="5126040" y="3052800"/>
            <a:ext cx="16272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1</a:t>
            </a:r>
            <a:endParaRPr b="0" lang="en-US" sz="1000" spc="-1" strike="noStrike">
              <a:solidFill>
                <a:srgbClr val="000000"/>
              </a:solidFill>
              <a:latin typeface="Calibri"/>
            </a:endParaRPr>
          </a:p>
        </p:txBody>
      </p:sp>
      <p:sp>
        <p:nvSpPr>
          <p:cNvPr id="1574" name="TextBox 52"/>
          <p:cNvSpPr/>
          <p:nvPr/>
        </p:nvSpPr>
        <p:spPr>
          <a:xfrm>
            <a:off x="5126040" y="2789280"/>
            <a:ext cx="1946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Open Sans Light"/>
              </a:rPr>
              <a:t>FEATURES</a:t>
            </a:r>
            <a:endParaRPr b="0" lang="en-US" sz="1100" spc="-1" strike="noStrike">
              <a:solidFill>
                <a:srgbClr val="000000"/>
              </a:solidFill>
              <a:latin typeface="Calibri"/>
            </a:endParaRPr>
          </a:p>
        </p:txBody>
      </p:sp>
      <p:sp>
        <p:nvSpPr>
          <p:cNvPr id="1575" name="TextBox 53"/>
          <p:cNvSpPr/>
          <p:nvPr/>
        </p:nvSpPr>
        <p:spPr>
          <a:xfrm>
            <a:off x="5126040" y="3292560"/>
            <a:ext cx="16272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2</a:t>
            </a:r>
            <a:endParaRPr b="0" lang="en-US" sz="1000" spc="-1" strike="noStrike">
              <a:solidFill>
                <a:srgbClr val="000000"/>
              </a:solidFill>
              <a:latin typeface="Calibri"/>
            </a:endParaRPr>
          </a:p>
        </p:txBody>
      </p:sp>
      <p:sp>
        <p:nvSpPr>
          <p:cNvPr id="1576" name="TextBox 54"/>
          <p:cNvSpPr/>
          <p:nvPr/>
        </p:nvSpPr>
        <p:spPr>
          <a:xfrm>
            <a:off x="5126040" y="3530520"/>
            <a:ext cx="16272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3</a:t>
            </a:r>
            <a:endParaRPr b="0" lang="en-US" sz="1000" spc="-1" strike="noStrike">
              <a:solidFill>
                <a:srgbClr val="000000"/>
              </a:solidFill>
              <a:latin typeface="Calibri"/>
            </a:endParaRPr>
          </a:p>
        </p:txBody>
      </p:sp>
      <p:sp>
        <p:nvSpPr>
          <p:cNvPr id="1577" name="Straight Connector 55"/>
          <p:cNvSpPr/>
          <p:nvPr/>
        </p:nvSpPr>
        <p:spPr>
          <a:xfrm>
            <a:off x="5078520" y="2079720"/>
            <a:ext cx="205092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8" name="TextBox 57"/>
          <p:cNvSpPr/>
          <p:nvPr/>
        </p:nvSpPr>
        <p:spPr>
          <a:xfrm>
            <a:off x="5126040" y="3751200"/>
            <a:ext cx="16272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4</a:t>
            </a:r>
            <a:endParaRPr b="0" lang="en-US" sz="1000" spc="-1" strike="noStrike">
              <a:solidFill>
                <a:srgbClr val="000000"/>
              </a:solidFill>
              <a:latin typeface="Calibri"/>
            </a:endParaRPr>
          </a:p>
        </p:txBody>
      </p:sp>
      <p:sp>
        <p:nvSpPr>
          <p:cNvPr id="1579" name="TextBox 69"/>
          <p:cNvSpPr/>
          <p:nvPr/>
        </p:nvSpPr>
        <p:spPr>
          <a:xfrm>
            <a:off x="7929720" y="1638360"/>
            <a:ext cx="194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oppins SemiBold"/>
                <a:ea typeface="Open Sans Light"/>
              </a:rPr>
              <a:t>ADVANCED PLAN</a:t>
            </a:r>
            <a:endParaRPr b="0" lang="en-US" sz="1400" spc="-1" strike="noStrike">
              <a:solidFill>
                <a:srgbClr val="000000"/>
              </a:solidFill>
              <a:latin typeface="Calibri"/>
            </a:endParaRPr>
          </a:p>
        </p:txBody>
      </p:sp>
      <p:sp>
        <p:nvSpPr>
          <p:cNvPr id="1580" name="TextBox 71"/>
          <p:cNvSpPr/>
          <p:nvPr/>
        </p:nvSpPr>
        <p:spPr>
          <a:xfrm>
            <a:off x="7861320" y="2300400"/>
            <a:ext cx="957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baseline="30000">
                <a:solidFill>
                  <a:srgbClr val="000000"/>
                </a:solidFill>
                <a:latin typeface="Poppins SemiBold"/>
                <a:ea typeface="Poppins SemiBold"/>
              </a:rPr>
              <a:t>$</a:t>
            </a:r>
            <a:r>
              <a:rPr b="0" lang="en-US" sz="2600" spc="-1" strike="noStrike">
                <a:solidFill>
                  <a:srgbClr val="000000"/>
                </a:solidFill>
                <a:latin typeface="Poppins SemiBold"/>
                <a:ea typeface="Poppins SemiBold"/>
              </a:rPr>
              <a:t>650</a:t>
            </a:r>
            <a:endParaRPr b="0" lang="en-US" sz="2600" spc="-1" strike="noStrike">
              <a:solidFill>
                <a:srgbClr val="000000"/>
              </a:solidFill>
              <a:latin typeface="Calibri"/>
            </a:endParaRPr>
          </a:p>
        </p:txBody>
      </p:sp>
      <p:sp>
        <p:nvSpPr>
          <p:cNvPr id="1581" name="TextBox 72"/>
          <p:cNvSpPr/>
          <p:nvPr/>
        </p:nvSpPr>
        <p:spPr>
          <a:xfrm>
            <a:off x="8728200" y="2414520"/>
            <a:ext cx="671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a:rPr>
              <a:t>/month</a:t>
            </a:r>
            <a:endParaRPr b="0" lang="en-US" sz="1100" spc="-1" strike="noStrike">
              <a:solidFill>
                <a:srgbClr val="000000"/>
              </a:solidFill>
              <a:latin typeface="Calibri"/>
            </a:endParaRPr>
          </a:p>
        </p:txBody>
      </p:sp>
      <p:sp>
        <p:nvSpPr>
          <p:cNvPr id="1582" name="TextBox 73"/>
          <p:cNvSpPr/>
          <p:nvPr/>
        </p:nvSpPr>
        <p:spPr>
          <a:xfrm>
            <a:off x="7926480" y="3086280"/>
            <a:ext cx="16254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1</a:t>
            </a:r>
            <a:endParaRPr b="0" lang="en-US" sz="1000" spc="-1" strike="noStrike">
              <a:solidFill>
                <a:srgbClr val="000000"/>
              </a:solidFill>
              <a:latin typeface="Calibri"/>
            </a:endParaRPr>
          </a:p>
        </p:txBody>
      </p:sp>
      <p:sp>
        <p:nvSpPr>
          <p:cNvPr id="1583" name="TextBox 75"/>
          <p:cNvSpPr/>
          <p:nvPr/>
        </p:nvSpPr>
        <p:spPr>
          <a:xfrm>
            <a:off x="7926480" y="2820960"/>
            <a:ext cx="1946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Open Sans Light"/>
              </a:rPr>
              <a:t>FEATURES</a:t>
            </a:r>
            <a:endParaRPr b="0" lang="en-US" sz="1100" spc="-1" strike="noStrike">
              <a:solidFill>
                <a:srgbClr val="000000"/>
              </a:solidFill>
              <a:latin typeface="Calibri"/>
            </a:endParaRPr>
          </a:p>
        </p:txBody>
      </p:sp>
      <p:sp>
        <p:nvSpPr>
          <p:cNvPr id="1584" name="TextBox 76"/>
          <p:cNvSpPr/>
          <p:nvPr/>
        </p:nvSpPr>
        <p:spPr>
          <a:xfrm>
            <a:off x="7926480" y="3308400"/>
            <a:ext cx="16254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2</a:t>
            </a:r>
            <a:endParaRPr b="0" lang="en-US" sz="1000" spc="-1" strike="noStrike">
              <a:solidFill>
                <a:srgbClr val="000000"/>
              </a:solidFill>
              <a:latin typeface="Calibri"/>
            </a:endParaRPr>
          </a:p>
        </p:txBody>
      </p:sp>
      <p:sp>
        <p:nvSpPr>
          <p:cNvPr id="1585" name="TextBox 77"/>
          <p:cNvSpPr/>
          <p:nvPr/>
        </p:nvSpPr>
        <p:spPr>
          <a:xfrm>
            <a:off x="7926480" y="3530520"/>
            <a:ext cx="16254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3</a:t>
            </a:r>
            <a:endParaRPr b="0" lang="en-US" sz="1000" spc="-1" strike="noStrike">
              <a:solidFill>
                <a:srgbClr val="000000"/>
              </a:solidFill>
              <a:latin typeface="Calibri"/>
            </a:endParaRPr>
          </a:p>
        </p:txBody>
      </p:sp>
      <p:sp>
        <p:nvSpPr>
          <p:cNvPr id="1586" name="Straight Connector 78"/>
          <p:cNvSpPr/>
          <p:nvPr/>
        </p:nvSpPr>
        <p:spPr>
          <a:xfrm>
            <a:off x="7877160" y="2111400"/>
            <a:ext cx="205092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7" name="TextBox 79"/>
          <p:cNvSpPr/>
          <p:nvPr/>
        </p:nvSpPr>
        <p:spPr>
          <a:xfrm>
            <a:off x="7926480" y="3754440"/>
            <a:ext cx="16254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4</a:t>
            </a:r>
            <a:endParaRPr b="0" lang="en-US" sz="1000" spc="-1" strike="noStrike">
              <a:solidFill>
                <a:srgbClr val="000000"/>
              </a:solidFill>
              <a:latin typeface="Calibri"/>
            </a:endParaRPr>
          </a:p>
        </p:txBody>
      </p:sp>
      <p:sp>
        <p:nvSpPr>
          <p:cNvPr id="1588" name="TextBox 51"/>
          <p:cNvSpPr/>
          <p:nvPr/>
        </p:nvSpPr>
        <p:spPr>
          <a:xfrm>
            <a:off x="2319480" y="3751200"/>
            <a:ext cx="16272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4</a:t>
            </a:r>
            <a:endParaRPr b="0" lang="en-US" sz="1000" spc="-1" strike="noStrike">
              <a:solidFill>
                <a:srgbClr val="000000"/>
              </a:solidFill>
              <a:latin typeface="Calibri"/>
            </a:endParaRPr>
          </a:p>
        </p:txBody>
      </p:sp>
      <p:sp>
        <p:nvSpPr>
          <p:cNvPr id="1589" name="TextBox 58"/>
          <p:cNvSpPr/>
          <p:nvPr/>
        </p:nvSpPr>
        <p:spPr>
          <a:xfrm>
            <a:off x="2327400" y="3086280"/>
            <a:ext cx="16272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1</a:t>
            </a:r>
            <a:endParaRPr b="0" lang="en-US" sz="1000" spc="-1" strike="noStrike">
              <a:solidFill>
                <a:srgbClr val="000000"/>
              </a:solidFill>
              <a:latin typeface="Calibri"/>
            </a:endParaRPr>
          </a:p>
        </p:txBody>
      </p:sp>
      <p:sp>
        <p:nvSpPr>
          <p:cNvPr id="1590" name="TextBox 59"/>
          <p:cNvSpPr/>
          <p:nvPr/>
        </p:nvSpPr>
        <p:spPr>
          <a:xfrm>
            <a:off x="2327400" y="2820960"/>
            <a:ext cx="1946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Open Sans Light"/>
              </a:rPr>
              <a:t>FEATURES</a:t>
            </a:r>
            <a:endParaRPr b="0" lang="en-US" sz="1100" spc="-1" strike="noStrike">
              <a:solidFill>
                <a:srgbClr val="000000"/>
              </a:solidFill>
              <a:latin typeface="Calibri"/>
            </a:endParaRPr>
          </a:p>
        </p:txBody>
      </p:sp>
      <p:sp>
        <p:nvSpPr>
          <p:cNvPr id="1591" name="TextBox 60"/>
          <p:cNvSpPr/>
          <p:nvPr/>
        </p:nvSpPr>
        <p:spPr>
          <a:xfrm>
            <a:off x="2327400" y="3308400"/>
            <a:ext cx="16272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2</a:t>
            </a:r>
            <a:endParaRPr b="0" lang="en-US" sz="1000" spc="-1" strike="noStrike">
              <a:solidFill>
                <a:srgbClr val="000000"/>
              </a:solidFill>
              <a:latin typeface="Calibri"/>
            </a:endParaRPr>
          </a:p>
        </p:txBody>
      </p:sp>
      <p:sp>
        <p:nvSpPr>
          <p:cNvPr id="1592" name="TextBox 61"/>
          <p:cNvSpPr/>
          <p:nvPr/>
        </p:nvSpPr>
        <p:spPr>
          <a:xfrm>
            <a:off x="2327400" y="3530520"/>
            <a:ext cx="1627200" cy="2462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Muli"/>
                <a:ea typeface="Open Sans Light"/>
              </a:rPr>
              <a:t>Service </a:t>
            </a:r>
            <a:r>
              <a:rPr b="1" lang="en-US" sz="1000" spc="-1" strike="noStrike">
                <a:solidFill>
                  <a:srgbClr val="595959"/>
                </a:solidFill>
                <a:latin typeface="Muli"/>
                <a:ea typeface="Open Sans Light"/>
              </a:rPr>
              <a:t>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3" name="" descr=""/>
          <p:cNvPicPr/>
          <p:nvPr/>
        </p:nvPicPr>
        <p:blipFill>
          <a:blip r:embed="rId1"/>
          <a:stretch/>
        </p:blipFill>
        <p:spPr>
          <a:xfrm>
            <a:off x="-360" y="-9360"/>
            <a:ext cx="12192120" cy="6867360"/>
          </a:xfrm>
          <a:prstGeom prst="rect">
            <a:avLst/>
          </a:prstGeom>
          <a:ln w="0">
            <a:noFill/>
          </a:ln>
        </p:spPr>
      </p:pic>
      <p:sp>
        <p:nvSpPr>
          <p:cNvPr id="1274" name="Rectangle 5"/>
          <p:cNvSpPr/>
          <p:nvPr/>
        </p:nvSpPr>
        <p:spPr>
          <a:xfrm>
            <a:off x="6095880" y="2011320"/>
            <a:ext cx="6096240" cy="4834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5" name="Group 1"/>
          <p:cNvGrpSpPr/>
          <p:nvPr/>
        </p:nvGrpSpPr>
        <p:grpSpPr>
          <a:xfrm>
            <a:off x="669960" y="649440"/>
            <a:ext cx="1857240" cy="471240"/>
            <a:chOff x="669960" y="649440"/>
            <a:chExt cx="1857240" cy="471240"/>
          </a:xfrm>
        </p:grpSpPr>
        <p:sp>
          <p:nvSpPr>
            <p:cNvPr id="1276" name="TextBox 6"/>
            <p:cNvSpPr/>
            <p:nvPr/>
          </p:nvSpPr>
          <p:spPr>
            <a:xfrm>
              <a:off x="1265760" y="746640"/>
              <a:ext cx="1261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2d32"/>
                  </a:solidFill>
                  <a:latin typeface="Montserrat"/>
                  <a:ea typeface="Poppins"/>
                </a:rPr>
                <a:t>GOLFERINA</a:t>
              </a:r>
              <a:endParaRPr b="0" lang="en-US" sz="1200" spc="-1" strike="noStrike">
                <a:solidFill>
                  <a:srgbClr val="000000"/>
                </a:solidFill>
                <a:latin typeface="Calibri"/>
              </a:endParaRPr>
            </a:p>
          </p:txBody>
        </p:sp>
        <p:grpSp>
          <p:nvGrpSpPr>
            <p:cNvPr id="1277" name="Group 7"/>
            <p:cNvGrpSpPr/>
            <p:nvPr/>
          </p:nvGrpSpPr>
          <p:grpSpPr>
            <a:xfrm>
              <a:off x="669960" y="649440"/>
              <a:ext cx="470880" cy="471240"/>
              <a:chOff x="669960" y="649440"/>
              <a:chExt cx="470880" cy="471240"/>
            </a:xfrm>
          </p:grpSpPr>
          <p:sp>
            <p:nvSpPr>
              <p:cNvPr id="1278" name="Freeform: Shape 8"/>
              <p:cNvSpPr/>
              <p:nvPr/>
            </p:nvSpPr>
            <p:spPr>
              <a:xfrm>
                <a:off x="669960" y="650520"/>
                <a:ext cx="470880" cy="470160"/>
              </a:xfrm>
              <a:custGeom>
                <a:avLst/>
                <a:gdLst/>
                <a:ahLst/>
                <a:rect l="l" t="t" r="r" b="b"/>
                <a:pathLst>
                  <a:path w="773429" h="772477">
                    <a:moveTo>
                      <a:pt x="647700" y="772478"/>
                    </a:moveTo>
                    <a:lnTo>
                      <a:pt x="125730" y="772478"/>
                    </a:lnTo>
                    <a:cubicBezTo>
                      <a:pt x="56198" y="772478"/>
                      <a:pt x="0" y="716280"/>
                      <a:pt x="0" y="646748"/>
                    </a:cubicBezTo>
                    <a:lnTo>
                      <a:pt x="0" y="125730"/>
                    </a:lnTo>
                    <a:cubicBezTo>
                      <a:pt x="0" y="56198"/>
                      <a:pt x="56198" y="0"/>
                      <a:pt x="125730" y="0"/>
                    </a:cubicBezTo>
                    <a:lnTo>
                      <a:pt x="647700" y="0"/>
                    </a:lnTo>
                    <a:cubicBezTo>
                      <a:pt x="717233" y="0"/>
                      <a:pt x="773430" y="56198"/>
                      <a:pt x="773430" y="125730"/>
                    </a:cubicBezTo>
                    <a:lnTo>
                      <a:pt x="773430" y="647700"/>
                    </a:lnTo>
                    <a:cubicBezTo>
                      <a:pt x="772478" y="716280"/>
                      <a:pt x="716280" y="772478"/>
                      <a:pt x="647700" y="772478"/>
                    </a:cubicBezTo>
                    <a:close/>
                  </a:path>
                </a:pathLst>
              </a:custGeom>
              <a:solidFill>
                <a:srgbClr val="d5b66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9" name="Freeform: Shape 9"/>
              <p:cNvSpPr/>
              <p:nvPr/>
            </p:nvSpPr>
            <p:spPr>
              <a:xfrm>
                <a:off x="669960" y="649440"/>
                <a:ext cx="470520" cy="446040"/>
              </a:xfrm>
              <a:custGeom>
                <a:avLst/>
                <a:gdLst/>
                <a:ahLst/>
                <a:rect l="l" t="t" r="r" b="b"/>
                <a:pathLst>
                  <a:path w="772477" h="732472">
                    <a:moveTo>
                      <a:pt x="32385" y="339090"/>
                    </a:moveTo>
                    <a:cubicBezTo>
                      <a:pt x="32385" y="337185"/>
                      <a:pt x="32385" y="335280"/>
                      <a:pt x="32385" y="333375"/>
                    </a:cubicBezTo>
                    <a:cubicBezTo>
                      <a:pt x="32385" y="263843"/>
                      <a:pt x="32385" y="195263"/>
                      <a:pt x="32385" y="125730"/>
                    </a:cubicBezTo>
                    <a:cubicBezTo>
                      <a:pt x="204788" y="125730"/>
                      <a:pt x="378143" y="125730"/>
                      <a:pt x="550545" y="125730"/>
                    </a:cubicBezTo>
                    <a:cubicBezTo>
                      <a:pt x="554355" y="125730"/>
                      <a:pt x="559118" y="125730"/>
                      <a:pt x="562928" y="125730"/>
                    </a:cubicBezTo>
                    <a:cubicBezTo>
                      <a:pt x="632460" y="125730"/>
                      <a:pt x="702945" y="125730"/>
                      <a:pt x="772478" y="125730"/>
                    </a:cubicBezTo>
                    <a:cubicBezTo>
                      <a:pt x="772478" y="56198"/>
                      <a:pt x="716280" y="0"/>
                      <a:pt x="646748" y="0"/>
                    </a:cubicBezTo>
                    <a:lnTo>
                      <a:pt x="125730" y="0"/>
                    </a:lnTo>
                    <a:cubicBezTo>
                      <a:pt x="56198" y="952"/>
                      <a:pt x="0" y="57150"/>
                      <a:pt x="0" y="126683"/>
                    </a:cubicBezTo>
                    <a:lnTo>
                      <a:pt x="0" y="648653"/>
                    </a:lnTo>
                    <a:cubicBezTo>
                      <a:pt x="0" y="681038"/>
                      <a:pt x="12383" y="709613"/>
                      <a:pt x="32385" y="732473"/>
                    </a:cubicBezTo>
                    <a:cubicBezTo>
                      <a:pt x="32385" y="601028"/>
                      <a:pt x="32385" y="470535"/>
                      <a:pt x="32385" y="339090"/>
                    </a:cubicBezTo>
                    <a:close/>
                  </a:path>
                </a:pathLst>
              </a:cu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0" name="Freeform: Shape 10"/>
              <p:cNvSpPr/>
              <p:nvPr/>
            </p:nvSpPr>
            <p:spPr>
              <a:xfrm>
                <a:off x="691200" y="726480"/>
                <a:ext cx="449640" cy="394200"/>
              </a:xfrm>
              <a:custGeom>
                <a:avLst/>
                <a:gdLst/>
                <a:ahLst/>
                <a:rect l="l" t="t" r="r" b="b"/>
                <a:pathLst>
                  <a:path w="738187" h="647699">
                    <a:moveTo>
                      <a:pt x="726758" y="113348"/>
                    </a:moveTo>
                    <a:cubicBezTo>
                      <a:pt x="725805" y="114300"/>
                      <a:pt x="724853" y="115252"/>
                      <a:pt x="723900" y="116205"/>
                    </a:cubicBezTo>
                    <a:cubicBezTo>
                      <a:pt x="722948" y="115252"/>
                      <a:pt x="721995" y="115252"/>
                      <a:pt x="721043" y="114300"/>
                    </a:cubicBezTo>
                    <a:cubicBezTo>
                      <a:pt x="719138" y="112395"/>
                      <a:pt x="716280" y="111443"/>
                      <a:pt x="713423" y="111443"/>
                    </a:cubicBezTo>
                    <a:cubicBezTo>
                      <a:pt x="710565" y="110490"/>
                      <a:pt x="707708" y="109538"/>
                      <a:pt x="705803" y="107633"/>
                    </a:cubicBezTo>
                    <a:cubicBezTo>
                      <a:pt x="702945" y="105727"/>
                      <a:pt x="699135" y="103823"/>
                      <a:pt x="696278" y="103823"/>
                    </a:cubicBezTo>
                    <a:cubicBezTo>
                      <a:pt x="694373" y="103823"/>
                      <a:pt x="692468" y="103823"/>
                      <a:pt x="689610" y="104775"/>
                    </a:cubicBezTo>
                    <a:cubicBezTo>
                      <a:pt x="687705" y="105727"/>
                      <a:pt x="684848" y="105727"/>
                      <a:pt x="681990" y="105727"/>
                    </a:cubicBezTo>
                    <a:cubicBezTo>
                      <a:pt x="678180" y="104775"/>
                      <a:pt x="675323" y="104775"/>
                      <a:pt x="671513" y="106680"/>
                    </a:cubicBezTo>
                    <a:cubicBezTo>
                      <a:pt x="670560" y="107633"/>
                      <a:pt x="668655" y="106680"/>
                      <a:pt x="667703" y="106680"/>
                    </a:cubicBezTo>
                    <a:cubicBezTo>
                      <a:pt x="664845" y="106680"/>
                      <a:pt x="662940" y="105727"/>
                      <a:pt x="660083" y="104775"/>
                    </a:cubicBezTo>
                    <a:cubicBezTo>
                      <a:pt x="657225" y="103823"/>
                      <a:pt x="655320" y="104775"/>
                      <a:pt x="653415" y="106680"/>
                    </a:cubicBezTo>
                    <a:cubicBezTo>
                      <a:pt x="651510" y="109538"/>
                      <a:pt x="649605" y="112395"/>
                      <a:pt x="648653" y="114300"/>
                    </a:cubicBezTo>
                    <a:cubicBezTo>
                      <a:pt x="648653" y="115252"/>
                      <a:pt x="647700" y="116205"/>
                      <a:pt x="647700" y="117158"/>
                    </a:cubicBezTo>
                    <a:cubicBezTo>
                      <a:pt x="645795" y="117158"/>
                      <a:pt x="643890" y="117158"/>
                      <a:pt x="641985" y="118110"/>
                    </a:cubicBezTo>
                    <a:cubicBezTo>
                      <a:pt x="641033" y="118110"/>
                      <a:pt x="640080" y="118110"/>
                      <a:pt x="639128" y="118110"/>
                    </a:cubicBezTo>
                    <a:cubicBezTo>
                      <a:pt x="635318" y="120015"/>
                      <a:pt x="631508" y="119063"/>
                      <a:pt x="628650" y="119063"/>
                    </a:cubicBezTo>
                    <a:cubicBezTo>
                      <a:pt x="628650" y="119063"/>
                      <a:pt x="627698" y="119063"/>
                      <a:pt x="627698" y="119063"/>
                    </a:cubicBezTo>
                    <a:cubicBezTo>
                      <a:pt x="619125" y="119063"/>
                      <a:pt x="618173" y="121920"/>
                      <a:pt x="617220" y="128588"/>
                    </a:cubicBezTo>
                    <a:cubicBezTo>
                      <a:pt x="617220" y="130493"/>
                      <a:pt x="617220" y="132398"/>
                      <a:pt x="617220" y="135255"/>
                    </a:cubicBezTo>
                    <a:cubicBezTo>
                      <a:pt x="607695" y="135255"/>
                      <a:pt x="599123" y="135255"/>
                      <a:pt x="589598" y="136208"/>
                    </a:cubicBezTo>
                    <a:cubicBezTo>
                      <a:pt x="589598" y="134303"/>
                      <a:pt x="589598" y="133350"/>
                      <a:pt x="589598" y="131445"/>
                    </a:cubicBezTo>
                    <a:cubicBezTo>
                      <a:pt x="590550" y="123825"/>
                      <a:pt x="589598" y="117158"/>
                      <a:pt x="589598" y="110490"/>
                    </a:cubicBezTo>
                    <a:cubicBezTo>
                      <a:pt x="588645" y="105727"/>
                      <a:pt x="589598" y="100013"/>
                      <a:pt x="589598" y="95250"/>
                    </a:cubicBezTo>
                    <a:cubicBezTo>
                      <a:pt x="589598" y="95250"/>
                      <a:pt x="589598" y="94298"/>
                      <a:pt x="589598" y="94298"/>
                    </a:cubicBezTo>
                    <a:cubicBezTo>
                      <a:pt x="591503" y="91440"/>
                      <a:pt x="592455" y="88583"/>
                      <a:pt x="594360" y="85725"/>
                    </a:cubicBezTo>
                    <a:cubicBezTo>
                      <a:pt x="596265" y="86677"/>
                      <a:pt x="597218" y="87630"/>
                      <a:pt x="598170" y="87630"/>
                    </a:cubicBezTo>
                    <a:cubicBezTo>
                      <a:pt x="600075" y="88583"/>
                      <a:pt x="601980" y="88583"/>
                      <a:pt x="604838" y="88583"/>
                    </a:cubicBezTo>
                    <a:cubicBezTo>
                      <a:pt x="606743" y="88583"/>
                      <a:pt x="608648" y="87630"/>
                      <a:pt x="608648" y="85725"/>
                    </a:cubicBezTo>
                    <a:cubicBezTo>
                      <a:pt x="608648" y="83820"/>
                      <a:pt x="609600" y="82868"/>
                      <a:pt x="609600" y="80963"/>
                    </a:cubicBezTo>
                    <a:cubicBezTo>
                      <a:pt x="609600" y="74295"/>
                      <a:pt x="608648" y="67627"/>
                      <a:pt x="603885" y="61913"/>
                    </a:cubicBezTo>
                    <a:cubicBezTo>
                      <a:pt x="599123" y="55245"/>
                      <a:pt x="593408" y="48577"/>
                      <a:pt x="587693" y="43815"/>
                    </a:cubicBezTo>
                    <a:cubicBezTo>
                      <a:pt x="585788" y="41910"/>
                      <a:pt x="583883" y="40005"/>
                      <a:pt x="582930" y="38100"/>
                    </a:cubicBezTo>
                    <a:cubicBezTo>
                      <a:pt x="581978" y="35243"/>
                      <a:pt x="580073" y="32385"/>
                      <a:pt x="579120" y="29527"/>
                    </a:cubicBezTo>
                    <a:cubicBezTo>
                      <a:pt x="576263" y="23813"/>
                      <a:pt x="572453" y="19050"/>
                      <a:pt x="567690" y="15240"/>
                    </a:cubicBezTo>
                    <a:cubicBezTo>
                      <a:pt x="562928" y="11430"/>
                      <a:pt x="558165" y="8573"/>
                      <a:pt x="552450" y="6667"/>
                    </a:cubicBezTo>
                    <a:cubicBezTo>
                      <a:pt x="546735" y="4763"/>
                      <a:pt x="541020" y="1905"/>
                      <a:pt x="535305" y="953"/>
                    </a:cubicBezTo>
                    <a:cubicBezTo>
                      <a:pt x="533400" y="953"/>
                      <a:pt x="531495" y="0"/>
                      <a:pt x="529590" y="0"/>
                    </a:cubicBezTo>
                    <a:cubicBezTo>
                      <a:pt x="525780" y="0"/>
                      <a:pt x="521018" y="0"/>
                      <a:pt x="517208" y="0"/>
                    </a:cubicBezTo>
                    <a:cubicBezTo>
                      <a:pt x="513398" y="953"/>
                      <a:pt x="508635" y="953"/>
                      <a:pt x="504825" y="1905"/>
                    </a:cubicBezTo>
                    <a:cubicBezTo>
                      <a:pt x="502920" y="1905"/>
                      <a:pt x="501015" y="2858"/>
                      <a:pt x="500063" y="3810"/>
                    </a:cubicBezTo>
                    <a:cubicBezTo>
                      <a:pt x="499110" y="4763"/>
                      <a:pt x="497205" y="5715"/>
                      <a:pt x="496253" y="5715"/>
                    </a:cubicBezTo>
                    <a:cubicBezTo>
                      <a:pt x="492443" y="5715"/>
                      <a:pt x="489585" y="7620"/>
                      <a:pt x="486728" y="8573"/>
                    </a:cubicBezTo>
                    <a:cubicBezTo>
                      <a:pt x="478155" y="12383"/>
                      <a:pt x="470535" y="17145"/>
                      <a:pt x="463868" y="22860"/>
                    </a:cubicBezTo>
                    <a:cubicBezTo>
                      <a:pt x="458153" y="27623"/>
                      <a:pt x="453390" y="33338"/>
                      <a:pt x="450533" y="40005"/>
                    </a:cubicBezTo>
                    <a:cubicBezTo>
                      <a:pt x="445770" y="50483"/>
                      <a:pt x="442913" y="61913"/>
                      <a:pt x="441960" y="74295"/>
                    </a:cubicBezTo>
                    <a:cubicBezTo>
                      <a:pt x="441008" y="82868"/>
                      <a:pt x="441008" y="91440"/>
                      <a:pt x="441008" y="99060"/>
                    </a:cubicBezTo>
                    <a:cubicBezTo>
                      <a:pt x="441008" y="100965"/>
                      <a:pt x="440055" y="102870"/>
                      <a:pt x="439103" y="103823"/>
                    </a:cubicBezTo>
                    <a:cubicBezTo>
                      <a:pt x="435293" y="106680"/>
                      <a:pt x="434340" y="111443"/>
                      <a:pt x="435293" y="116205"/>
                    </a:cubicBezTo>
                    <a:cubicBezTo>
                      <a:pt x="436245" y="118110"/>
                      <a:pt x="436245" y="120015"/>
                      <a:pt x="437198" y="122873"/>
                    </a:cubicBezTo>
                    <a:cubicBezTo>
                      <a:pt x="437198" y="124777"/>
                      <a:pt x="438150" y="126683"/>
                      <a:pt x="438150" y="128588"/>
                    </a:cubicBezTo>
                    <a:cubicBezTo>
                      <a:pt x="438150" y="130493"/>
                      <a:pt x="438150" y="132398"/>
                      <a:pt x="439103" y="134303"/>
                    </a:cubicBezTo>
                    <a:cubicBezTo>
                      <a:pt x="436245" y="134303"/>
                      <a:pt x="433388" y="134303"/>
                      <a:pt x="429578" y="134303"/>
                    </a:cubicBezTo>
                    <a:cubicBezTo>
                      <a:pt x="429578" y="137160"/>
                      <a:pt x="429578" y="140018"/>
                      <a:pt x="429578" y="142875"/>
                    </a:cubicBezTo>
                    <a:cubicBezTo>
                      <a:pt x="428625" y="142875"/>
                      <a:pt x="427673" y="142875"/>
                      <a:pt x="426720" y="142875"/>
                    </a:cubicBezTo>
                    <a:cubicBezTo>
                      <a:pt x="407670" y="143828"/>
                      <a:pt x="387668" y="143828"/>
                      <a:pt x="368618" y="144780"/>
                    </a:cubicBezTo>
                    <a:cubicBezTo>
                      <a:pt x="344805" y="145733"/>
                      <a:pt x="320040" y="146685"/>
                      <a:pt x="296228" y="147638"/>
                    </a:cubicBezTo>
                    <a:cubicBezTo>
                      <a:pt x="284798" y="147638"/>
                      <a:pt x="272415" y="148590"/>
                      <a:pt x="260985" y="148590"/>
                    </a:cubicBezTo>
                    <a:cubicBezTo>
                      <a:pt x="226695" y="149543"/>
                      <a:pt x="193358" y="151448"/>
                      <a:pt x="159068" y="152400"/>
                    </a:cubicBezTo>
                    <a:cubicBezTo>
                      <a:pt x="138113" y="153353"/>
                      <a:pt x="118110" y="153353"/>
                      <a:pt x="97155" y="154305"/>
                    </a:cubicBezTo>
                    <a:cubicBezTo>
                      <a:pt x="95250" y="154305"/>
                      <a:pt x="92393" y="154305"/>
                      <a:pt x="90488" y="154305"/>
                    </a:cubicBezTo>
                    <a:cubicBezTo>
                      <a:pt x="88583" y="154305"/>
                      <a:pt x="86678" y="155258"/>
                      <a:pt x="84773" y="153353"/>
                    </a:cubicBezTo>
                    <a:cubicBezTo>
                      <a:pt x="84773" y="153353"/>
                      <a:pt x="83820" y="153353"/>
                      <a:pt x="82868" y="153353"/>
                    </a:cubicBezTo>
                    <a:cubicBezTo>
                      <a:pt x="68580" y="153353"/>
                      <a:pt x="54293" y="153353"/>
                      <a:pt x="40005" y="154305"/>
                    </a:cubicBezTo>
                    <a:cubicBezTo>
                      <a:pt x="34290" y="155258"/>
                      <a:pt x="30480" y="157163"/>
                      <a:pt x="25717" y="160020"/>
                    </a:cubicBezTo>
                    <a:cubicBezTo>
                      <a:pt x="21908" y="162878"/>
                      <a:pt x="18098" y="166688"/>
                      <a:pt x="15240" y="171450"/>
                    </a:cubicBezTo>
                    <a:cubicBezTo>
                      <a:pt x="8573" y="181928"/>
                      <a:pt x="2858" y="192405"/>
                      <a:pt x="952" y="204788"/>
                    </a:cubicBezTo>
                    <a:cubicBezTo>
                      <a:pt x="952" y="205740"/>
                      <a:pt x="0" y="206693"/>
                      <a:pt x="0" y="207645"/>
                    </a:cubicBezTo>
                    <a:cubicBezTo>
                      <a:pt x="0" y="209550"/>
                      <a:pt x="0" y="211455"/>
                      <a:pt x="0" y="213360"/>
                    </a:cubicBezTo>
                    <a:cubicBezTo>
                      <a:pt x="0" y="214313"/>
                      <a:pt x="952" y="216218"/>
                      <a:pt x="952" y="217170"/>
                    </a:cubicBezTo>
                    <a:cubicBezTo>
                      <a:pt x="2858" y="221933"/>
                      <a:pt x="5715" y="225743"/>
                      <a:pt x="10477" y="227647"/>
                    </a:cubicBezTo>
                    <a:cubicBezTo>
                      <a:pt x="13335" y="228600"/>
                      <a:pt x="17145" y="228600"/>
                      <a:pt x="20955" y="228600"/>
                    </a:cubicBezTo>
                    <a:cubicBezTo>
                      <a:pt x="25717" y="227647"/>
                      <a:pt x="29528" y="225743"/>
                      <a:pt x="31433" y="220980"/>
                    </a:cubicBezTo>
                    <a:cubicBezTo>
                      <a:pt x="33338" y="218122"/>
                      <a:pt x="34290" y="215265"/>
                      <a:pt x="35243" y="212408"/>
                    </a:cubicBezTo>
                    <a:cubicBezTo>
                      <a:pt x="38100" y="197168"/>
                      <a:pt x="40005" y="182880"/>
                      <a:pt x="38100" y="168593"/>
                    </a:cubicBezTo>
                    <a:cubicBezTo>
                      <a:pt x="38100" y="166688"/>
                      <a:pt x="38100" y="165735"/>
                      <a:pt x="38100" y="163830"/>
                    </a:cubicBezTo>
                    <a:cubicBezTo>
                      <a:pt x="39053" y="163830"/>
                      <a:pt x="40005" y="163830"/>
                      <a:pt x="40958" y="163830"/>
                    </a:cubicBezTo>
                    <a:cubicBezTo>
                      <a:pt x="54293" y="163830"/>
                      <a:pt x="66675" y="162878"/>
                      <a:pt x="80010" y="162878"/>
                    </a:cubicBezTo>
                    <a:cubicBezTo>
                      <a:pt x="80963" y="162878"/>
                      <a:pt x="82868" y="162878"/>
                      <a:pt x="83820" y="162878"/>
                    </a:cubicBezTo>
                    <a:cubicBezTo>
                      <a:pt x="84773" y="162878"/>
                      <a:pt x="85725" y="161925"/>
                      <a:pt x="86678" y="161925"/>
                    </a:cubicBezTo>
                    <a:cubicBezTo>
                      <a:pt x="114300" y="160973"/>
                      <a:pt x="141923" y="160020"/>
                      <a:pt x="168593" y="159068"/>
                    </a:cubicBezTo>
                    <a:cubicBezTo>
                      <a:pt x="197168" y="158115"/>
                      <a:pt x="224790" y="157163"/>
                      <a:pt x="253365" y="156210"/>
                    </a:cubicBezTo>
                    <a:cubicBezTo>
                      <a:pt x="287655" y="155258"/>
                      <a:pt x="322898" y="154305"/>
                      <a:pt x="357188" y="153353"/>
                    </a:cubicBezTo>
                    <a:cubicBezTo>
                      <a:pt x="367665" y="153353"/>
                      <a:pt x="378143" y="152400"/>
                      <a:pt x="388620" y="152400"/>
                    </a:cubicBezTo>
                    <a:cubicBezTo>
                      <a:pt x="406718" y="152400"/>
                      <a:pt x="425768" y="151448"/>
                      <a:pt x="443865" y="151448"/>
                    </a:cubicBezTo>
                    <a:cubicBezTo>
                      <a:pt x="445770" y="151448"/>
                      <a:pt x="446723" y="151448"/>
                      <a:pt x="447675" y="153353"/>
                    </a:cubicBezTo>
                    <a:cubicBezTo>
                      <a:pt x="448628" y="155258"/>
                      <a:pt x="450533" y="156210"/>
                      <a:pt x="452438" y="157163"/>
                    </a:cubicBezTo>
                    <a:cubicBezTo>
                      <a:pt x="453390" y="157163"/>
                      <a:pt x="454343" y="158115"/>
                      <a:pt x="455295" y="158115"/>
                    </a:cubicBezTo>
                    <a:cubicBezTo>
                      <a:pt x="455295" y="160973"/>
                      <a:pt x="455295" y="164783"/>
                      <a:pt x="456248" y="167640"/>
                    </a:cubicBezTo>
                    <a:cubicBezTo>
                      <a:pt x="457200" y="175260"/>
                      <a:pt x="458153" y="182880"/>
                      <a:pt x="458153" y="190500"/>
                    </a:cubicBezTo>
                    <a:cubicBezTo>
                      <a:pt x="458153" y="191453"/>
                      <a:pt x="458153" y="192405"/>
                      <a:pt x="458153" y="192405"/>
                    </a:cubicBezTo>
                    <a:cubicBezTo>
                      <a:pt x="455295" y="193358"/>
                      <a:pt x="454343" y="191453"/>
                      <a:pt x="452438" y="191453"/>
                    </a:cubicBezTo>
                    <a:cubicBezTo>
                      <a:pt x="450533" y="190500"/>
                      <a:pt x="449580" y="190500"/>
                      <a:pt x="447675" y="190500"/>
                    </a:cubicBezTo>
                    <a:cubicBezTo>
                      <a:pt x="442913" y="191453"/>
                      <a:pt x="439103" y="192405"/>
                      <a:pt x="435293" y="195263"/>
                    </a:cubicBezTo>
                    <a:cubicBezTo>
                      <a:pt x="431483" y="197168"/>
                      <a:pt x="429578" y="200025"/>
                      <a:pt x="429578" y="204788"/>
                    </a:cubicBezTo>
                    <a:cubicBezTo>
                      <a:pt x="429578" y="204788"/>
                      <a:pt x="429578" y="204788"/>
                      <a:pt x="429578" y="205740"/>
                    </a:cubicBezTo>
                    <a:cubicBezTo>
                      <a:pt x="425768" y="205740"/>
                      <a:pt x="421958" y="207645"/>
                      <a:pt x="419100" y="209550"/>
                    </a:cubicBezTo>
                    <a:cubicBezTo>
                      <a:pt x="407670" y="214313"/>
                      <a:pt x="399098" y="220980"/>
                      <a:pt x="392430" y="231458"/>
                    </a:cubicBezTo>
                    <a:cubicBezTo>
                      <a:pt x="389573" y="236220"/>
                      <a:pt x="385763" y="240983"/>
                      <a:pt x="382905" y="246697"/>
                    </a:cubicBezTo>
                    <a:cubicBezTo>
                      <a:pt x="380048" y="250508"/>
                      <a:pt x="378143" y="254318"/>
                      <a:pt x="376238" y="259080"/>
                    </a:cubicBezTo>
                    <a:cubicBezTo>
                      <a:pt x="370523" y="271463"/>
                      <a:pt x="367665" y="283845"/>
                      <a:pt x="364808" y="297180"/>
                    </a:cubicBezTo>
                    <a:cubicBezTo>
                      <a:pt x="362903" y="306705"/>
                      <a:pt x="360998" y="317183"/>
                      <a:pt x="358140" y="326708"/>
                    </a:cubicBezTo>
                    <a:cubicBezTo>
                      <a:pt x="355283" y="336233"/>
                      <a:pt x="353378" y="345758"/>
                      <a:pt x="350520" y="355283"/>
                    </a:cubicBezTo>
                    <a:cubicBezTo>
                      <a:pt x="348615" y="361950"/>
                      <a:pt x="347663" y="368618"/>
                      <a:pt x="348615" y="375285"/>
                    </a:cubicBezTo>
                    <a:cubicBezTo>
                      <a:pt x="349568" y="380048"/>
                      <a:pt x="350520" y="384810"/>
                      <a:pt x="352425" y="389573"/>
                    </a:cubicBezTo>
                    <a:cubicBezTo>
                      <a:pt x="355283" y="398145"/>
                      <a:pt x="358140" y="405765"/>
                      <a:pt x="360998" y="413385"/>
                    </a:cubicBezTo>
                    <a:cubicBezTo>
                      <a:pt x="367665" y="432435"/>
                      <a:pt x="373380" y="451485"/>
                      <a:pt x="377190" y="471488"/>
                    </a:cubicBezTo>
                    <a:cubicBezTo>
                      <a:pt x="379095" y="479108"/>
                      <a:pt x="380048" y="486728"/>
                      <a:pt x="381953" y="493395"/>
                    </a:cubicBezTo>
                    <a:cubicBezTo>
                      <a:pt x="386715" y="508635"/>
                      <a:pt x="392430" y="524828"/>
                      <a:pt x="397193" y="540068"/>
                    </a:cubicBezTo>
                    <a:cubicBezTo>
                      <a:pt x="399098" y="546735"/>
                      <a:pt x="402908" y="553403"/>
                      <a:pt x="406718" y="560070"/>
                    </a:cubicBezTo>
                    <a:cubicBezTo>
                      <a:pt x="410528" y="564833"/>
                      <a:pt x="413385" y="570548"/>
                      <a:pt x="417195" y="575310"/>
                    </a:cubicBezTo>
                    <a:cubicBezTo>
                      <a:pt x="418148" y="576263"/>
                      <a:pt x="418148" y="577215"/>
                      <a:pt x="419100" y="579120"/>
                    </a:cubicBezTo>
                    <a:cubicBezTo>
                      <a:pt x="419100" y="585788"/>
                      <a:pt x="419100" y="591503"/>
                      <a:pt x="420053" y="598170"/>
                    </a:cubicBezTo>
                    <a:cubicBezTo>
                      <a:pt x="421005" y="606743"/>
                      <a:pt x="421958" y="615315"/>
                      <a:pt x="422910" y="622935"/>
                    </a:cubicBezTo>
                    <a:cubicBezTo>
                      <a:pt x="423863" y="631508"/>
                      <a:pt x="425768" y="639128"/>
                      <a:pt x="426720" y="647700"/>
                    </a:cubicBezTo>
                    <a:lnTo>
                      <a:pt x="612458" y="647700"/>
                    </a:lnTo>
                    <a:cubicBezTo>
                      <a:pt x="649605" y="647700"/>
                      <a:pt x="683895" y="631508"/>
                      <a:pt x="706755" y="604838"/>
                    </a:cubicBezTo>
                    <a:cubicBezTo>
                      <a:pt x="704850" y="593408"/>
                      <a:pt x="701993" y="581978"/>
                      <a:pt x="699135" y="571500"/>
                    </a:cubicBezTo>
                    <a:cubicBezTo>
                      <a:pt x="698183" y="567690"/>
                      <a:pt x="697230" y="563880"/>
                      <a:pt x="697230" y="560070"/>
                    </a:cubicBezTo>
                    <a:cubicBezTo>
                      <a:pt x="696278" y="547688"/>
                      <a:pt x="695325" y="535305"/>
                      <a:pt x="694373" y="521970"/>
                    </a:cubicBezTo>
                    <a:cubicBezTo>
                      <a:pt x="693420" y="512445"/>
                      <a:pt x="692468" y="503873"/>
                      <a:pt x="691515" y="494348"/>
                    </a:cubicBezTo>
                    <a:cubicBezTo>
                      <a:pt x="690563" y="485775"/>
                      <a:pt x="689610" y="477203"/>
                      <a:pt x="688658" y="467678"/>
                    </a:cubicBezTo>
                    <a:cubicBezTo>
                      <a:pt x="687705" y="456248"/>
                      <a:pt x="685800" y="444818"/>
                      <a:pt x="684848" y="433388"/>
                    </a:cubicBezTo>
                    <a:cubicBezTo>
                      <a:pt x="684848" y="430530"/>
                      <a:pt x="683895" y="428625"/>
                      <a:pt x="683895" y="425768"/>
                    </a:cubicBezTo>
                    <a:cubicBezTo>
                      <a:pt x="687705" y="426720"/>
                      <a:pt x="690563" y="426720"/>
                      <a:pt x="693420" y="427673"/>
                    </a:cubicBezTo>
                    <a:cubicBezTo>
                      <a:pt x="701040" y="428625"/>
                      <a:pt x="708660" y="430530"/>
                      <a:pt x="717233" y="430530"/>
                    </a:cubicBezTo>
                    <a:cubicBezTo>
                      <a:pt x="720090" y="430530"/>
                      <a:pt x="723900" y="430530"/>
                      <a:pt x="726758" y="429578"/>
                    </a:cubicBezTo>
                    <a:cubicBezTo>
                      <a:pt x="731520" y="428625"/>
                      <a:pt x="735330" y="426720"/>
                      <a:pt x="738188" y="423863"/>
                    </a:cubicBezTo>
                    <a:lnTo>
                      <a:pt x="738188" y="114300"/>
                    </a:lnTo>
                    <a:cubicBezTo>
                      <a:pt x="737235" y="113348"/>
                      <a:pt x="736283" y="113348"/>
                      <a:pt x="736283" y="112395"/>
                    </a:cubicBezTo>
                    <a:cubicBezTo>
                      <a:pt x="733425" y="110490"/>
                      <a:pt x="730568" y="110490"/>
                      <a:pt x="726758" y="113348"/>
                    </a:cubicBezTo>
                    <a:close/>
                    <a:moveTo>
                      <a:pt x="607695" y="191453"/>
                    </a:moveTo>
                    <a:cubicBezTo>
                      <a:pt x="594360" y="195263"/>
                      <a:pt x="581978" y="200978"/>
                      <a:pt x="569595" y="204788"/>
                    </a:cubicBezTo>
                    <a:cubicBezTo>
                      <a:pt x="568643" y="204788"/>
                      <a:pt x="567690" y="205740"/>
                      <a:pt x="565785" y="205740"/>
                    </a:cubicBezTo>
                    <a:cubicBezTo>
                      <a:pt x="566738" y="202883"/>
                      <a:pt x="568643" y="200025"/>
                      <a:pt x="569595" y="198120"/>
                    </a:cubicBezTo>
                    <a:cubicBezTo>
                      <a:pt x="571500" y="196215"/>
                      <a:pt x="573405" y="193358"/>
                      <a:pt x="574358" y="191453"/>
                    </a:cubicBezTo>
                    <a:cubicBezTo>
                      <a:pt x="580073" y="184785"/>
                      <a:pt x="582930" y="176213"/>
                      <a:pt x="584835" y="167640"/>
                    </a:cubicBezTo>
                    <a:cubicBezTo>
                      <a:pt x="585788" y="162878"/>
                      <a:pt x="586740" y="158115"/>
                      <a:pt x="587693" y="153353"/>
                    </a:cubicBezTo>
                    <a:cubicBezTo>
                      <a:pt x="587693" y="152400"/>
                      <a:pt x="587693" y="152400"/>
                      <a:pt x="588645" y="151448"/>
                    </a:cubicBezTo>
                    <a:cubicBezTo>
                      <a:pt x="594360" y="151448"/>
                      <a:pt x="599123" y="151448"/>
                      <a:pt x="604838" y="151448"/>
                    </a:cubicBezTo>
                    <a:cubicBezTo>
                      <a:pt x="605790" y="155258"/>
                      <a:pt x="608648" y="158115"/>
                      <a:pt x="611505" y="159068"/>
                    </a:cubicBezTo>
                    <a:cubicBezTo>
                      <a:pt x="616268" y="160020"/>
                      <a:pt x="621983" y="160973"/>
                      <a:pt x="626745" y="161925"/>
                    </a:cubicBezTo>
                    <a:cubicBezTo>
                      <a:pt x="631508" y="162878"/>
                      <a:pt x="636270" y="162878"/>
                      <a:pt x="640080" y="164783"/>
                    </a:cubicBezTo>
                    <a:cubicBezTo>
                      <a:pt x="642938" y="165735"/>
                      <a:pt x="644843" y="167640"/>
                      <a:pt x="646748" y="169545"/>
                    </a:cubicBezTo>
                    <a:cubicBezTo>
                      <a:pt x="647700" y="170498"/>
                      <a:pt x="649605" y="172403"/>
                      <a:pt x="651510" y="172403"/>
                    </a:cubicBezTo>
                    <a:cubicBezTo>
                      <a:pt x="654368" y="173355"/>
                      <a:pt x="657225" y="174308"/>
                      <a:pt x="660083" y="174308"/>
                    </a:cubicBezTo>
                    <a:cubicBezTo>
                      <a:pt x="659130" y="174308"/>
                      <a:pt x="658178" y="175260"/>
                      <a:pt x="657225" y="175260"/>
                    </a:cubicBezTo>
                    <a:cubicBezTo>
                      <a:pt x="641033" y="180975"/>
                      <a:pt x="623888" y="185738"/>
                      <a:pt x="607695" y="191453"/>
                    </a:cubicBezTo>
                    <a:close/>
                    <a:moveTo>
                      <a:pt x="711518" y="273368"/>
                    </a:moveTo>
                    <a:cubicBezTo>
                      <a:pt x="710565" y="280035"/>
                      <a:pt x="708660" y="285750"/>
                      <a:pt x="704850" y="291465"/>
                    </a:cubicBezTo>
                    <a:cubicBezTo>
                      <a:pt x="701040" y="297180"/>
                      <a:pt x="696278" y="303848"/>
                      <a:pt x="692468" y="309563"/>
                    </a:cubicBezTo>
                    <a:cubicBezTo>
                      <a:pt x="692468" y="310515"/>
                      <a:pt x="691515" y="310515"/>
                      <a:pt x="691515" y="311468"/>
                    </a:cubicBezTo>
                    <a:cubicBezTo>
                      <a:pt x="688658" y="310515"/>
                      <a:pt x="684848" y="308610"/>
                      <a:pt x="681990" y="307658"/>
                    </a:cubicBezTo>
                    <a:cubicBezTo>
                      <a:pt x="681038" y="307658"/>
                      <a:pt x="681038" y="306705"/>
                      <a:pt x="680085" y="305753"/>
                    </a:cubicBezTo>
                    <a:cubicBezTo>
                      <a:pt x="679133" y="303848"/>
                      <a:pt x="678180" y="301943"/>
                      <a:pt x="675323" y="301943"/>
                    </a:cubicBezTo>
                    <a:cubicBezTo>
                      <a:pt x="671513" y="301943"/>
                      <a:pt x="668655" y="300038"/>
                      <a:pt x="666750" y="298133"/>
                    </a:cubicBezTo>
                    <a:cubicBezTo>
                      <a:pt x="662940" y="295275"/>
                      <a:pt x="661035" y="292418"/>
                      <a:pt x="660083" y="287655"/>
                    </a:cubicBezTo>
                    <a:cubicBezTo>
                      <a:pt x="660083" y="285750"/>
                      <a:pt x="659130" y="283845"/>
                      <a:pt x="658178" y="280988"/>
                    </a:cubicBezTo>
                    <a:cubicBezTo>
                      <a:pt x="676275" y="275273"/>
                      <a:pt x="693420" y="269558"/>
                      <a:pt x="711518" y="263843"/>
                    </a:cubicBezTo>
                    <a:cubicBezTo>
                      <a:pt x="711518" y="267653"/>
                      <a:pt x="711518" y="270510"/>
                      <a:pt x="711518" y="2733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sp>
        <p:nvSpPr>
          <p:cNvPr id="1281" name="TextBox 2"/>
          <p:cNvSpPr/>
          <p:nvPr/>
        </p:nvSpPr>
        <p:spPr>
          <a:xfrm>
            <a:off x="7048440" y="2998800"/>
            <a:ext cx="4356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Welcome to Golferina. The Best Golf Club in New York</a:t>
            </a:r>
            <a:endParaRPr b="0" lang="en-US" sz="2600" spc="-1" strike="noStrike">
              <a:solidFill>
                <a:srgbClr val="000000"/>
              </a:solidFill>
              <a:latin typeface="Calibri"/>
            </a:endParaRPr>
          </a:p>
        </p:txBody>
      </p:sp>
      <p:sp>
        <p:nvSpPr>
          <p:cNvPr id="1282" name="TextBox 3"/>
          <p:cNvSpPr/>
          <p:nvPr/>
        </p:nvSpPr>
        <p:spPr>
          <a:xfrm>
            <a:off x="7048440" y="2722680"/>
            <a:ext cx="1612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SemiBold"/>
                <a:ea typeface="Poppins Medium"/>
              </a:rPr>
              <a:t>INTRODUCTION</a:t>
            </a:r>
            <a:endParaRPr b="0" lang="en-US" sz="1100" spc="-1" strike="noStrike">
              <a:solidFill>
                <a:srgbClr val="000000"/>
              </a:solidFill>
              <a:latin typeface="Calibri"/>
            </a:endParaRPr>
          </a:p>
        </p:txBody>
      </p:sp>
      <p:sp>
        <p:nvSpPr>
          <p:cNvPr id="1283" name="TextBox 4"/>
          <p:cNvSpPr/>
          <p:nvPr/>
        </p:nvSpPr>
        <p:spPr>
          <a:xfrm>
            <a:off x="7077240" y="4314960"/>
            <a:ext cx="4327200" cy="2352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 lorem ipsum dolor sit amet consecteur adipstic sesan.</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TextBox 60"/>
          <p:cNvSpPr/>
          <p:nvPr/>
        </p:nvSpPr>
        <p:spPr>
          <a:xfrm>
            <a:off x="3911760" y="3659040"/>
            <a:ext cx="436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Poppins"/>
                <a:ea typeface="Poppins"/>
              </a:rPr>
              <a:t>Golf Club Presentation Template</a:t>
            </a:r>
            <a:endParaRPr b="0" lang="en-US" sz="1600" spc="-1" strike="noStrike">
              <a:solidFill>
                <a:srgbClr val="000000"/>
              </a:solidFill>
              <a:latin typeface="Calibri"/>
            </a:endParaRPr>
          </a:p>
        </p:txBody>
      </p:sp>
      <p:sp>
        <p:nvSpPr>
          <p:cNvPr id="1594" name="TextBox 59"/>
          <p:cNvSpPr/>
          <p:nvPr/>
        </p:nvSpPr>
        <p:spPr>
          <a:xfrm>
            <a:off x="4162320" y="2828880"/>
            <a:ext cx="3867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5b665"/>
                </a:solidFill>
                <a:latin typeface="Montserrat ExtraBold"/>
                <a:ea typeface="Poppins"/>
              </a:rPr>
              <a:t>BREAK</a:t>
            </a:r>
            <a:r>
              <a:rPr b="0" lang="en-US" sz="4800" spc="-1" strike="noStrike">
                <a:solidFill>
                  <a:srgbClr val="000000"/>
                </a:solidFill>
                <a:latin typeface="Montserrat ExtraBold"/>
                <a:ea typeface="Poppins"/>
              </a:rPr>
              <a:t> SLID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Freeform: Shape 2"/>
          <p:cNvSpPr/>
          <p:nvPr/>
        </p:nvSpPr>
        <p:spPr>
          <a:xfrm flipH="1">
            <a:off x="550800" y="3878280"/>
            <a:ext cx="3733920" cy="2430360"/>
          </a:xfrm>
          <a:custGeom>
            <a:avLst/>
            <a:gdLst/>
            <a:ahLst/>
            <a:rect l="l" t="t" r="r" b="b"/>
            <a:pathLst>
              <a:path w="4323127" h="2286000">
                <a:moveTo>
                  <a:pt x="4323127" y="0"/>
                </a:moveTo>
                <a:lnTo>
                  <a:pt x="0" y="0"/>
                </a:lnTo>
                <a:lnTo>
                  <a:pt x="0" y="2286000"/>
                </a:lnTo>
                <a:lnTo>
                  <a:pt x="4323127" y="2286000"/>
                </a:lnTo>
                <a:lnTo>
                  <a:pt x="4323127" y="0"/>
                </a:lnTo>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596" name="TextBox 4"/>
          <p:cNvSpPr/>
          <p:nvPr/>
        </p:nvSpPr>
        <p:spPr>
          <a:xfrm>
            <a:off x="6294600" y="3780000"/>
            <a:ext cx="38908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We Are Golferina. </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The Best Golf Club in New York</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97" name="TextBox 5"/>
          <p:cNvSpPr/>
          <p:nvPr/>
        </p:nvSpPr>
        <p:spPr>
          <a:xfrm>
            <a:off x="6294600" y="3517920"/>
            <a:ext cx="2786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OUR GALLERY</a:t>
            </a:r>
            <a:endParaRPr b="0" lang="en-US" sz="1100" spc="-1" strike="noStrike">
              <a:solidFill>
                <a:srgbClr val="000000"/>
              </a:solidFill>
              <a:latin typeface="Calibri"/>
            </a:endParaRPr>
          </a:p>
        </p:txBody>
      </p:sp>
      <p:sp>
        <p:nvSpPr>
          <p:cNvPr id="1598" name="TextBox 6"/>
          <p:cNvSpPr/>
          <p:nvPr/>
        </p:nvSpPr>
        <p:spPr>
          <a:xfrm>
            <a:off x="6308640" y="5072040"/>
            <a:ext cx="38908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es amet consectetur adipiscing elit sed do eiusmod tempor incididunt ut labore et dolore magna aliqua ut enim ad minim veniam quis nostrud.</a:t>
            </a:r>
            <a:endParaRPr b="0" lang="en-US" sz="1100" spc="-1" strike="noStrike">
              <a:solidFill>
                <a:srgbClr val="000000"/>
              </a:solidFill>
              <a:latin typeface="Calibri"/>
            </a:endParaRPr>
          </a:p>
        </p:txBody>
      </p:sp>
      <p:sp>
        <p:nvSpPr>
          <p:cNvPr id="1599" name="Freeform: Shape 7"/>
          <p:cNvSpPr/>
          <p:nvPr/>
        </p:nvSpPr>
        <p:spPr>
          <a:xfrm flipH="1">
            <a:off x="6095880" y="1054080"/>
            <a:ext cx="2495520" cy="1928880"/>
          </a:xfrm>
          <a:custGeom>
            <a:avLst/>
            <a:gdLst/>
            <a:ahLst/>
            <a:rect l="l" t="t" r="r" b="b"/>
            <a:pathLst>
              <a:path w="4323127" h="2286000">
                <a:moveTo>
                  <a:pt x="4323127" y="0"/>
                </a:moveTo>
                <a:lnTo>
                  <a:pt x="0" y="0"/>
                </a:lnTo>
                <a:lnTo>
                  <a:pt x="0" y="2286000"/>
                </a:lnTo>
                <a:lnTo>
                  <a:pt x="4323127" y="2286000"/>
                </a:lnTo>
                <a:lnTo>
                  <a:pt x="4323127" y="0"/>
                </a:lnTo>
                <a:close/>
              </a:path>
            </a:pathLst>
          </a:custGeom>
          <a:gradFill rotWithShape="0">
            <a:gsLst>
              <a:gs pos="0">
                <a:srgbClr val="032932"/>
              </a:gs>
              <a:gs pos="100000">
                <a:srgbClr val="0e4d5b"/>
              </a:gs>
            </a:gsLst>
            <a:lin ang="18900000"/>
          </a:gradFill>
          <a:ln w="0">
            <a:noFill/>
          </a:ln>
          <a:effectLst>
            <a:outerShdw dist="685800" dir="54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600" name="Freeform: Shape 8"/>
          <p:cNvSpPr/>
          <p:nvPr/>
        </p:nvSpPr>
        <p:spPr>
          <a:xfrm flipH="1">
            <a:off x="8871120" y="1054080"/>
            <a:ext cx="2495520" cy="1928880"/>
          </a:xfrm>
          <a:custGeom>
            <a:avLst/>
            <a:gdLst/>
            <a:ahLst/>
            <a:rect l="l" t="t" r="r" b="b"/>
            <a:pathLst>
              <a:path w="4323127" h="2286000">
                <a:moveTo>
                  <a:pt x="4323127" y="0"/>
                </a:moveTo>
                <a:lnTo>
                  <a:pt x="0" y="0"/>
                </a:lnTo>
                <a:lnTo>
                  <a:pt x="0" y="2286000"/>
                </a:lnTo>
                <a:lnTo>
                  <a:pt x="4323127" y="2286000"/>
                </a:lnTo>
                <a:lnTo>
                  <a:pt x="4323127" y="0"/>
                </a:lnTo>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pic>
        <p:nvPicPr>
          <p:cNvPr id="1601" name="Graphic 8" descr="Golf Flag In Hole"/>
          <p:cNvPicPr/>
          <p:nvPr/>
        </p:nvPicPr>
        <p:blipFill>
          <a:blip r:embed="rId1"/>
          <a:stretch/>
        </p:blipFill>
        <p:spPr>
          <a:xfrm>
            <a:off x="1003320" y="4356000"/>
            <a:ext cx="507960" cy="444600"/>
          </a:xfrm>
          <a:prstGeom prst="rect">
            <a:avLst/>
          </a:prstGeom>
          <a:ln w="0">
            <a:noFill/>
          </a:ln>
        </p:spPr>
      </p:pic>
      <p:sp>
        <p:nvSpPr>
          <p:cNvPr id="1602" name="TextBox 11"/>
          <p:cNvSpPr/>
          <p:nvPr/>
        </p:nvSpPr>
        <p:spPr>
          <a:xfrm>
            <a:off x="1660680" y="4513320"/>
            <a:ext cx="1519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title here</a:t>
            </a:r>
            <a:endParaRPr b="0" lang="en-US" sz="1100" spc="-1" strike="noStrike">
              <a:solidFill>
                <a:srgbClr val="000000"/>
              </a:solidFill>
              <a:latin typeface="Calibri"/>
            </a:endParaRPr>
          </a:p>
        </p:txBody>
      </p:sp>
      <p:sp>
        <p:nvSpPr>
          <p:cNvPr id="1603" name="TextBox 16"/>
          <p:cNvSpPr/>
          <p:nvPr/>
        </p:nvSpPr>
        <p:spPr>
          <a:xfrm>
            <a:off x="1660680" y="4737240"/>
            <a:ext cx="215892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amet consectetur adipiscing elit sed do eiusmod tempor incididunt dolore minim veniam nostrud</a:t>
            </a:r>
            <a:endParaRPr b="0" lang="en-US" sz="1100" spc="-1" strike="noStrike">
              <a:solidFill>
                <a:srgbClr val="000000"/>
              </a:solidFill>
              <a:latin typeface="Calibri"/>
            </a:endParaRPr>
          </a:p>
        </p:txBody>
      </p:sp>
      <p:sp>
        <p:nvSpPr>
          <p:cNvPr id="1604" name="TextBox 19"/>
          <p:cNvSpPr/>
          <p:nvPr/>
        </p:nvSpPr>
        <p:spPr>
          <a:xfrm>
            <a:off x="6294600" y="1336680"/>
            <a:ext cx="741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oppins SemiBold"/>
                <a:ea typeface="Poppins SemiBold"/>
              </a:rPr>
              <a:t>74</a:t>
            </a:r>
            <a:r>
              <a:rPr b="0" lang="en-US" sz="2600" spc="-1" strike="noStrike" baseline="30000">
                <a:solidFill>
                  <a:srgbClr val="ffffff"/>
                </a:solidFill>
                <a:latin typeface="Poppins SemiBold"/>
                <a:ea typeface="Poppins SemiBold"/>
              </a:rPr>
              <a:t>%</a:t>
            </a:r>
            <a:endParaRPr b="0" lang="en-US" sz="2600" spc="-1" strike="noStrike">
              <a:solidFill>
                <a:srgbClr val="000000"/>
              </a:solidFill>
              <a:latin typeface="Calibri"/>
            </a:endParaRPr>
          </a:p>
        </p:txBody>
      </p:sp>
      <p:sp>
        <p:nvSpPr>
          <p:cNvPr id="1605" name="Isosceles Triangle 20"/>
          <p:cNvSpPr/>
          <p:nvPr/>
        </p:nvSpPr>
        <p:spPr>
          <a:xfrm>
            <a:off x="8078760" y="1455840"/>
            <a:ext cx="176400" cy="152280"/>
          </a:xfrm>
          <a:prstGeom prst="triangle">
            <a:avLst>
              <a:gd name="adj" fmla="val 50000"/>
            </a:avLst>
          </a:prstGeom>
          <a:solidFill>
            <a:srgbClr val="d5b665"/>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6" name="TextBox 21"/>
          <p:cNvSpPr/>
          <p:nvPr/>
        </p:nvSpPr>
        <p:spPr>
          <a:xfrm>
            <a:off x="6294600" y="1908000"/>
            <a:ext cx="151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Your title here</a:t>
            </a:r>
            <a:endParaRPr b="0" lang="en-US" sz="1100" spc="-1" strike="noStrike">
              <a:solidFill>
                <a:srgbClr val="000000"/>
              </a:solidFill>
              <a:latin typeface="Calibri"/>
            </a:endParaRPr>
          </a:p>
        </p:txBody>
      </p:sp>
      <p:sp>
        <p:nvSpPr>
          <p:cNvPr id="1607" name="TextBox 22"/>
          <p:cNvSpPr/>
          <p:nvPr/>
        </p:nvSpPr>
        <p:spPr>
          <a:xfrm>
            <a:off x="6294600" y="2109960"/>
            <a:ext cx="21589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Poppins Medium"/>
              </a:rPr>
              <a:t>Lorem ipsum dolor golf amet consectetur adipiscing elit</a:t>
            </a:r>
            <a:endParaRPr b="0" lang="en-US" sz="1100" spc="-1" strike="noStrike">
              <a:solidFill>
                <a:srgbClr val="000000"/>
              </a:solidFill>
              <a:latin typeface="Calibri"/>
            </a:endParaRPr>
          </a:p>
        </p:txBody>
      </p:sp>
      <p:grpSp>
        <p:nvGrpSpPr>
          <p:cNvPr id="1608" name="Group 27"/>
          <p:cNvGrpSpPr/>
          <p:nvPr/>
        </p:nvGrpSpPr>
        <p:grpSpPr>
          <a:xfrm>
            <a:off x="9039240" y="1336680"/>
            <a:ext cx="2160720" cy="1370160"/>
            <a:chOff x="9039240" y="1336680"/>
            <a:chExt cx="2160720" cy="1370160"/>
          </a:xfrm>
        </p:grpSpPr>
        <p:sp>
          <p:nvSpPr>
            <p:cNvPr id="1609" name="TextBox 23"/>
            <p:cNvSpPr/>
            <p:nvPr/>
          </p:nvSpPr>
          <p:spPr>
            <a:xfrm>
              <a:off x="9039240" y="1336680"/>
              <a:ext cx="923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30</a:t>
              </a:r>
              <a:r>
                <a:rPr b="0" lang="en-US" sz="2600" spc="-1" strike="noStrike" baseline="30000">
                  <a:solidFill>
                    <a:srgbClr val="000000"/>
                  </a:solidFill>
                  <a:latin typeface="Poppins SemiBold"/>
                  <a:ea typeface="Poppins SemiBold"/>
                </a:rPr>
                <a:t>%</a:t>
              </a:r>
              <a:endParaRPr b="0" lang="en-US" sz="2600" spc="-1" strike="noStrike">
                <a:solidFill>
                  <a:srgbClr val="000000"/>
                </a:solidFill>
                <a:latin typeface="Calibri"/>
              </a:endParaRPr>
            </a:p>
          </p:txBody>
        </p:sp>
        <p:sp>
          <p:nvSpPr>
            <p:cNvPr id="1610" name="Isosceles Triangle 24"/>
            <p:cNvSpPr/>
            <p:nvPr/>
          </p:nvSpPr>
          <p:spPr>
            <a:xfrm>
              <a:off x="10824840" y="1455840"/>
              <a:ext cx="176760" cy="152280"/>
            </a:xfrm>
            <a:prstGeom prst="triangle">
              <a:avLst>
                <a:gd name="adj" fmla="val 50000"/>
              </a:avLst>
            </a:prstGeom>
            <a:solidFill>
              <a:srgbClr val="d5b665"/>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1" name="TextBox 25"/>
            <p:cNvSpPr/>
            <p:nvPr/>
          </p:nvSpPr>
          <p:spPr>
            <a:xfrm>
              <a:off x="9039240" y="1909080"/>
              <a:ext cx="15195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title here</a:t>
              </a:r>
              <a:endParaRPr b="0" lang="en-US" sz="1100" spc="-1" strike="noStrike">
                <a:solidFill>
                  <a:srgbClr val="000000"/>
                </a:solidFill>
                <a:latin typeface="Calibri"/>
              </a:endParaRPr>
            </a:p>
          </p:txBody>
        </p:sp>
        <p:sp>
          <p:nvSpPr>
            <p:cNvPr id="1612" name="TextBox 26"/>
            <p:cNvSpPr/>
            <p:nvPr/>
          </p:nvSpPr>
          <p:spPr>
            <a:xfrm>
              <a:off x="9039240" y="2111040"/>
              <a:ext cx="21607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amet consectetur adipiscing elit</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Rounded Corners 8"/>
          <p:cNvSpPr/>
          <p:nvPr/>
        </p:nvSpPr>
        <p:spPr>
          <a:xfrm flipH="1">
            <a:off x="832680" y="2085840"/>
            <a:ext cx="2381400" cy="3778560"/>
          </a:xfrm>
          <a:custGeom>
            <a:avLst/>
            <a:gdLst>
              <a:gd name="textAreaLeft" fmla="*/ 47520 w 2381400"/>
              <a:gd name="textAreaRight" fmla="*/ 2333880 w 2381400"/>
              <a:gd name="textAreaTop" fmla="*/ 47520 h 3778560"/>
              <a:gd name="textAreaBottom" fmla="*/ 3731040 h 3778560"/>
            </a:gdLst>
            <a:ahLst/>
            <a:rect l="textAreaLeft" t="textAreaTop" r="textAreaRight" b="textAreaBottom"/>
            <a:pathLst>
              <a:path w="21600" h="34271">
                <a:moveTo>
                  <a:pt x="1477" y="0"/>
                </a:moveTo>
                <a:arcTo wR="1477" hR="1477" stAng="16200000" swAng="-5400000"/>
                <a:lnTo>
                  <a:pt x="0" y="32794"/>
                </a:lnTo>
                <a:arcTo wR="1477" hR="1477" stAng="10800000" swAng="-5400000"/>
                <a:lnTo>
                  <a:pt x="20123" y="34271"/>
                </a:lnTo>
                <a:arcTo wR="1477" hR="1477" stAng="5400000" swAng="-5400000"/>
                <a:lnTo>
                  <a:pt x="21600" y="1477"/>
                </a:lnTo>
                <a:arcTo wR="1477" hR="1477" stAng="0" swAng="-5400000"/>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14" name="Group 4"/>
          <p:cNvGrpSpPr/>
          <p:nvPr/>
        </p:nvGrpSpPr>
        <p:grpSpPr>
          <a:xfrm>
            <a:off x="1117440" y="4249800"/>
            <a:ext cx="1811520" cy="1609920"/>
            <a:chOff x="1117440" y="4249800"/>
            <a:chExt cx="1811520" cy="1609920"/>
          </a:xfrm>
        </p:grpSpPr>
        <p:sp>
          <p:nvSpPr>
            <p:cNvPr id="1615" name="TextBox 2"/>
            <p:cNvSpPr/>
            <p:nvPr/>
          </p:nvSpPr>
          <p:spPr>
            <a:xfrm>
              <a:off x="1117440" y="4249800"/>
              <a:ext cx="15188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oppins SemiBold"/>
                  <a:ea typeface="Poppins SemiBold"/>
                </a:rPr>
                <a:t>Your title here</a:t>
              </a:r>
              <a:endParaRPr b="0" lang="en-US" sz="1300" spc="-1" strike="noStrike">
                <a:solidFill>
                  <a:srgbClr val="000000"/>
                </a:solidFill>
                <a:latin typeface="Calibri"/>
              </a:endParaRPr>
            </a:p>
          </p:txBody>
        </p:sp>
        <p:sp>
          <p:nvSpPr>
            <p:cNvPr id="1616" name="TextBox 3"/>
            <p:cNvSpPr/>
            <p:nvPr/>
          </p:nvSpPr>
          <p:spPr>
            <a:xfrm>
              <a:off x="1117440" y="4511160"/>
              <a:ext cx="181152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es dolor golf amet consectetur eselit sedesa tempor incididunt minim veniam nostrud</a:t>
              </a:r>
              <a:endParaRPr b="0" lang="en-US" sz="1100" spc="-1" strike="noStrike">
                <a:solidFill>
                  <a:srgbClr val="000000"/>
                </a:solidFill>
                <a:latin typeface="Calibri"/>
              </a:endParaRPr>
            </a:p>
          </p:txBody>
        </p:sp>
      </p:grpSp>
      <p:sp>
        <p:nvSpPr>
          <p:cNvPr id="1617" name="Rectangle: Rounded Corners 17"/>
          <p:cNvSpPr/>
          <p:nvPr/>
        </p:nvSpPr>
        <p:spPr>
          <a:xfrm flipH="1">
            <a:off x="3548160" y="2085840"/>
            <a:ext cx="2381040" cy="3778560"/>
          </a:xfrm>
          <a:custGeom>
            <a:avLst/>
            <a:gdLst>
              <a:gd name="textAreaLeft" fmla="*/ 47520 w 2381040"/>
              <a:gd name="textAreaRight" fmla="*/ 2333520 w 2381040"/>
              <a:gd name="textAreaTop" fmla="*/ 47520 h 3778560"/>
              <a:gd name="textAreaBottom" fmla="*/ 3731040 h 3778560"/>
            </a:gdLst>
            <a:ahLst/>
            <a:rect l="textAreaLeft" t="textAreaTop" r="textAreaRight" b="textAreaBottom"/>
            <a:pathLst>
              <a:path w="21600" h="34276">
                <a:moveTo>
                  <a:pt x="1477" y="0"/>
                </a:moveTo>
                <a:arcTo wR="1477" hR="1477" stAng="16200000" swAng="-5400000"/>
                <a:lnTo>
                  <a:pt x="0" y="32799"/>
                </a:lnTo>
                <a:arcTo wR="1477" hR="1477" stAng="10800000" swAng="-5400000"/>
                <a:lnTo>
                  <a:pt x="20123" y="34276"/>
                </a:lnTo>
                <a:arcTo wR="1477" hR="1477" stAng="5400000" swAng="-5400000"/>
                <a:lnTo>
                  <a:pt x="21600" y="1477"/>
                </a:lnTo>
                <a:arcTo wR="1477" hR="1477" stAng="0" swAng="-5400000"/>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8" name="TextBox 12"/>
          <p:cNvSpPr/>
          <p:nvPr/>
        </p:nvSpPr>
        <p:spPr>
          <a:xfrm>
            <a:off x="3819600" y="2354400"/>
            <a:ext cx="15174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oppins SemiBold"/>
                <a:ea typeface="Poppins SemiBold"/>
              </a:rPr>
              <a:t>Your title here</a:t>
            </a:r>
            <a:endParaRPr b="0" lang="en-US" sz="1300" spc="-1" strike="noStrike">
              <a:solidFill>
                <a:srgbClr val="000000"/>
              </a:solidFill>
              <a:latin typeface="Calibri"/>
            </a:endParaRPr>
          </a:p>
        </p:txBody>
      </p:sp>
      <p:sp>
        <p:nvSpPr>
          <p:cNvPr id="1619" name="TextBox 14"/>
          <p:cNvSpPr/>
          <p:nvPr/>
        </p:nvSpPr>
        <p:spPr>
          <a:xfrm>
            <a:off x="3819600" y="2577960"/>
            <a:ext cx="151740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Your text here</a:t>
            </a:r>
            <a:endParaRPr b="0" lang="en-US" sz="1100" spc="-1" strike="noStrike">
              <a:solidFill>
                <a:srgbClr val="000000"/>
              </a:solidFill>
              <a:latin typeface="Calibri"/>
            </a:endParaRPr>
          </a:p>
        </p:txBody>
      </p:sp>
      <p:sp>
        <p:nvSpPr>
          <p:cNvPr id="1620" name="Rectangle: Rounded Corners 18"/>
          <p:cNvSpPr/>
          <p:nvPr/>
        </p:nvSpPr>
        <p:spPr>
          <a:xfrm flipH="1">
            <a:off x="6261840" y="2085840"/>
            <a:ext cx="2381400" cy="3778560"/>
          </a:xfrm>
          <a:custGeom>
            <a:avLst/>
            <a:gdLst>
              <a:gd name="textAreaLeft" fmla="*/ 47520 w 2381400"/>
              <a:gd name="textAreaRight" fmla="*/ 2333880 w 2381400"/>
              <a:gd name="textAreaTop" fmla="*/ 47520 h 3778560"/>
              <a:gd name="textAreaBottom" fmla="*/ 3731040 h 3778560"/>
            </a:gdLst>
            <a:ahLst/>
            <a:rect l="textAreaLeft" t="textAreaTop" r="textAreaRight" b="textAreaBottom"/>
            <a:pathLst>
              <a:path w="21600" h="34271">
                <a:moveTo>
                  <a:pt x="1477" y="0"/>
                </a:moveTo>
                <a:arcTo wR="1477" hR="1477" stAng="16200000" swAng="-5400000"/>
                <a:lnTo>
                  <a:pt x="0" y="32794"/>
                </a:lnTo>
                <a:arcTo wR="1477" hR="1477" stAng="10800000" swAng="-5400000"/>
                <a:lnTo>
                  <a:pt x="20123" y="34271"/>
                </a:lnTo>
                <a:arcTo wR="1477" hR="1477" stAng="5400000" swAng="-5400000"/>
                <a:lnTo>
                  <a:pt x="21600" y="1477"/>
                </a:lnTo>
                <a:arcTo wR="1477" hR="1477" stAng="0" swAng="-5400000"/>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1" name="TextBox 20"/>
          <p:cNvSpPr/>
          <p:nvPr/>
        </p:nvSpPr>
        <p:spPr>
          <a:xfrm>
            <a:off x="6534000" y="2354400"/>
            <a:ext cx="15177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oppins SemiBold"/>
                <a:ea typeface="Poppins SemiBold"/>
              </a:rPr>
              <a:t>Your title here</a:t>
            </a:r>
            <a:endParaRPr b="0" lang="en-US" sz="1300" spc="-1" strike="noStrike">
              <a:solidFill>
                <a:srgbClr val="000000"/>
              </a:solidFill>
              <a:latin typeface="Calibri"/>
            </a:endParaRPr>
          </a:p>
        </p:txBody>
      </p:sp>
      <p:sp>
        <p:nvSpPr>
          <p:cNvPr id="1622" name="TextBox 21"/>
          <p:cNvSpPr/>
          <p:nvPr/>
        </p:nvSpPr>
        <p:spPr>
          <a:xfrm>
            <a:off x="6534000" y="2577960"/>
            <a:ext cx="151776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Your text here</a:t>
            </a:r>
            <a:endParaRPr b="0" lang="en-US" sz="1100" spc="-1" strike="noStrike">
              <a:solidFill>
                <a:srgbClr val="000000"/>
              </a:solidFill>
              <a:latin typeface="Calibri"/>
            </a:endParaRPr>
          </a:p>
        </p:txBody>
      </p:sp>
      <p:sp>
        <p:nvSpPr>
          <p:cNvPr id="1623" name="Rectangle: Rounded Corners 22"/>
          <p:cNvSpPr/>
          <p:nvPr/>
        </p:nvSpPr>
        <p:spPr>
          <a:xfrm flipH="1">
            <a:off x="8976600" y="2085840"/>
            <a:ext cx="2381400" cy="3778560"/>
          </a:xfrm>
          <a:custGeom>
            <a:avLst/>
            <a:gdLst>
              <a:gd name="textAreaLeft" fmla="*/ 47520 w 2381400"/>
              <a:gd name="textAreaRight" fmla="*/ 2333880 w 2381400"/>
              <a:gd name="textAreaTop" fmla="*/ 47520 h 3778560"/>
              <a:gd name="textAreaBottom" fmla="*/ 3731040 h 3778560"/>
            </a:gdLst>
            <a:ahLst/>
            <a:rect l="textAreaLeft" t="textAreaTop" r="textAreaRight" b="textAreaBottom"/>
            <a:pathLst>
              <a:path w="21600" h="34271">
                <a:moveTo>
                  <a:pt x="1477" y="0"/>
                </a:moveTo>
                <a:arcTo wR="1477" hR="1477" stAng="16200000" swAng="-5400000"/>
                <a:lnTo>
                  <a:pt x="0" y="32794"/>
                </a:lnTo>
                <a:arcTo wR="1477" hR="1477" stAng="10800000" swAng="-5400000"/>
                <a:lnTo>
                  <a:pt x="20123" y="34271"/>
                </a:lnTo>
                <a:arcTo wR="1477" hR="1477" stAng="5400000" swAng="-5400000"/>
                <a:lnTo>
                  <a:pt x="21600" y="1477"/>
                </a:lnTo>
                <a:arcTo wR="1477" hR="1477" stAng="0" swAng="-5400000"/>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4" name="TextBox 24"/>
          <p:cNvSpPr/>
          <p:nvPr/>
        </p:nvSpPr>
        <p:spPr>
          <a:xfrm>
            <a:off x="9248760" y="2354400"/>
            <a:ext cx="1519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oppins SemiBold"/>
                <a:ea typeface="Poppins SemiBold"/>
              </a:rPr>
              <a:t>Your title here</a:t>
            </a:r>
            <a:endParaRPr b="0" lang="en-US" sz="1300" spc="-1" strike="noStrike">
              <a:solidFill>
                <a:srgbClr val="000000"/>
              </a:solidFill>
              <a:latin typeface="Calibri"/>
            </a:endParaRPr>
          </a:p>
        </p:txBody>
      </p:sp>
      <p:sp>
        <p:nvSpPr>
          <p:cNvPr id="1625" name="TextBox 25"/>
          <p:cNvSpPr/>
          <p:nvPr/>
        </p:nvSpPr>
        <p:spPr>
          <a:xfrm>
            <a:off x="9248760" y="2577960"/>
            <a:ext cx="151920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Your text here</a:t>
            </a:r>
            <a:endParaRPr b="0" lang="en-US" sz="1100" spc="-1" strike="noStrike">
              <a:solidFill>
                <a:srgbClr val="000000"/>
              </a:solidFill>
              <a:latin typeface="Calibri"/>
            </a:endParaRPr>
          </a:p>
        </p:txBody>
      </p:sp>
      <p:sp>
        <p:nvSpPr>
          <p:cNvPr id="1626" name="TextBox 32"/>
          <p:cNvSpPr/>
          <p:nvPr/>
        </p:nvSpPr>
        <p:spPr>
          <a:xfrm>
            <a:off x="2854440" y="1146240"/>
            <a:ext cx="6483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Experience a Premium Golf Course </a:t>
            </a:r>
            <a:endParaRPr b="0" lang="en-US" sz="2600" spc="-1" strike="noStrike">
              <a:solidFill>
                <a:srgbClr val="000000"/>
              </a:solidFill>
              <a:latin typeface="Calibri"/>
            </a:endParaRPr>
          </a:p>
        </p:txBody>
      </p:sp>
      <p:sp>
        <p:nvSpPr>
          <p:cNvPr id="1627" name="TextBox 33"/>
          <p:cNvSpPr/>
          <p:nvPr/>
        </p:nvSpPr>
        <p:spPr>
          <a:xfrm>
            <a:off x="4702320" y="884160"/>
            <a:ext cx="2787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OUR GALLERY</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Rounded Corners 33"/>
          <p:cNvSpPr/>
          <p:nvPr/>
        </p:nvSpPr>
        <p:spPr>
          <a:xfrm flipH="1">
            <a:off x="6234840" y="2085840"/>
            <a:ext cx="5262840" cy="3816360"/>
          </a:xfrm>
          <a:prstGeom prst="roundRect">
            <a:avLst>
              <a:gd name="adj" fmla="val 6838"/>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9" name="Rectangle: Rounded Corners 17"/>
          <p:cNvSpPr/>
          <p:nvPr/>
        </p:nvSpPr>
        <p:spPr>
          <a:xfrm flipH="1">
            <a:off x="693720" y="2085840"/>
            <a:ext cx="5262480" cy="3816360"/>
          </a:xfrm>
          <a:prstGeom prst="roundRect">
            <a:avLst>
              <a:gd name="adj" fmla="val 6838"/>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0" name="TextBox 7"/>
          <p:cNvSpPr/>
          <p:nvPr/>
        </p:nvSpPr>
        <p:spPr>
          <a:xfrm>
            <a:off x="2174760" y="4770360"/>
            <a:ext cx="15177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oppins SemiBold"/>
                <a:ea typeface="Poppins SemiBold"/>
              </a:rPr>
              <a:t>Your title here</a:t>
            </a:r>
            <a:endParaRPr b="0" lang="en-US" sz="1300" spc="-1" strike="noStrike">
              <a:solidFill>
                <a:srgbClr val="000000"/>
              </a:solidFill>
              <a:latin typeface="Calibri"/>
            </a:endParaRPr>
          </a:p>
        </p:txBody>
      </p:sp>
      <p:sp>
        <p:nvSpPr>
          <p:cNvPr id="1631" name="Rectangle: Rounded Corners 20"/>
          <p:cNvSpPr/>
          <p:nvPr/>
        </p:nvSpPr>
        <p:spPr>
          <a:xfrm flipH="1">
            <a:off x="923760" y="4738680"/>
            <a:ext cx="959040" cy="960480"/>
          </a:xfrm>
          <a:custGeom>
            <a:avLst/>
            <a:gdLst>
              <a:gd name="textAreaLeft" fmla="*/ 46800 w 959040"/>
              <a:gd name="textAreaRight" fmla="*/ 912240 w 959040"/>
              <a:gd name="textAreaTop" fmla="*/ 46800 h 960480"/>
              <a:gd name="textAreaBottom" fmla="*/ 913680 h 960480"/>
            </a:gdLst>
            <a:ahLst/>
            <a:rect l="textAreaLeft" t="textAreaTop" r="textAreaRight" b="textAreaBottom"/>
            <a:pathLst>
              <a:path w="21600" h="21632">
                <a:moveTo>
                  <a:pt x="3600" y="0"/>
                </a:moveTo>
                <a:arcTo wR="3600" hR="3600" stAng="16200000" swAng="-5400000"/>
                <a:lnTo>
                  <a:pt x="0" y="18032"/>
                </a:lnTo>
                <a:arcTo wR="3600" hR="3600" stAng="10800000" swAng="-5400000"/>
                <a:lnTo>
                  <a:pt x="18000" y="21632"/>
                </a:lnTo>
                <a:arcTo wR="3600" hR="3600" stAng="5400000" swAng="-5400000"/>
                <a:lnTo>
                  <a:pt x="21600" y="3600"/>
                </a:lnTo>
                <a:arcTo wR="3600" hR="3600" stAng="0" swAng="-5400000"/>
                <a:close/>
              </a:path>
            </a:pathLst>
          </a:custGeom>
          <a:gradFill rotWithShape="0">
            <a:gsLst>
              <a:gs pos="0">
                <a:srgbClr val="032932"/>
              </a:gs>
              <a:gs pos="100000">
                <a:srgbClr val="0e4d5b"/>
              </a:gs>
            </a:gsLst>
            <a:lin ang="18900000"/>
          </a:gra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2" name="TextBox 8"/>
          <p:cNvSpPr/>
          <p:nvPr/>
        </p:nvSpPr>
        <p:spPr>
          <a:xfrm>
            <a:off x="2174760" y="5032440"/>
            <a:ext cx="34909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amet consectetur elit sed tempor incididunt dolore minim veniam nostrud</a:t>
            </a:r>
            <a:endParaRPr b="0" lang="en-US" sz="1100" spc="-1" strike="noStrike">
              <a:solidFill>
                <a:srgbClr val="000000"/>
              </a:solidFill>
              <a:latin typeface="Calibri"/>
            </a:endParaRPr>
          </a:p>
        </p:txBody>
      </p:sp>
      <p:grpSp>
        <p:nvGrpSpPr>
          <p:cNvPr id="1633" name="Group 21"/>
          <p:cNvGrpSpPr/>
          <p:nvPr/>
        </p:nvGrpSpPr>
        <p:grpSpPr>
          <a:xfrm>
            <a:off x="965160" y="4900680"/>
            <a:ext cx="876240" cy="673200"/>
            <a:chOff x="965160" y="4900680"/>
            <a:chExt cx="876240" cy="673200"/>
          </a:xfrm>
        </p:grpSpPr>
        <p:sp>
          <p:nvSpPr>
            <p:cNvPr id="1634" name="TextBox 18"/>
            <p:cNvSpPr/>
            <p:nvPr/>
          </p:nvSpPr>
          <p:spPr>
            <a:xfrm>
              <a:off x="965160" y="4900680"/>
              <a:ext cx="876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oppins SemiBold"/>
                  <a:ea typeface="Poppins SemiBold"/>
                </a:rPr>
                <a:t>5</a:t>
              </a:r>
              <a:r>
                <a:rPr b="0" lang="en-US" sz="2600" spc="-1" strike="noStrike" baseline="30000">
                  <a:solidFill>
                    <a:srgbClr val="ffffff"/>
                  </a:solidFill>
                  <a:latin typeface="Poppins SemiBold"/>
                  <a:ea typeface="Poppins SemiBold"/>
                </a:rPr>
                <a:t>Th</a:t>
              </a:r>
              <a:r>
                <a:rPr b="0" lang="en-US" sz="2600" spc="-1" strike="noStrike">
                  <a:solidFill>
                    <a:srgbClr val="ffffff"/>
                  </a:solidFill>
                  <a:latin typeface="Poppins SemiBold"/>
                  <a:ea typeface="Poppins SemiBold"/>
                </a:rPr>
                <a:t> </a:t>
              </a:r>
              <a:endParaRPr b="0" lang="en-US" sz="2600" spc="-1" strike="noStrike">
                <a:solidFill>
                  <a:srgbClr val="000000"/>
                </a:solidFill>
                <a:latin typeface="Calibri"/>
              </a:endParaRPr>
            </a:p>
          </p:txBody>
        </p:sp>
        <p:sp>
          <p:nvSpPr>
            <p:cNvPr id="1635" name="TextBox 19"/>
            <p:cNvSpPr/>
            <p:nvPr/>
          </p:nvSpPr>
          <p:spPr>
            <a:xfrm>
              <a:off x="965160" y="5281920"/>
              <a:ext cx="876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Poppins Medium"/>
                  <a:ea typeface="Poppins Medium"/>
                </a:rPr>
                <a:t>MAY</a:t>
              </a:r>
              <a:endParaRPr b="0" lang="en-US" sz="1300" spc="-1" strike="noStrike">
                <a:solidFill>
                  <a:srgbClr val="000000"/>
                </a:solidFill>
                <a:latin typeface="Calibri"/>
              </a:endParaRPr>
            </a:p>
          </p:txBody>
        </p:sp>
      </p:grpSp>
      <p:sp>
        <p:nvSpPr>
          <p:cNvPr id="1636" name="TextBox 24"/>
          <p:cNvSpPr/>
          <p:nvPr/>
        </p:nvSpPr>
        <p:spPr>
          <a:xfrm>
            <a:off x="6657840" y="2703600"/>
            <a:ext cx="25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oppins SemiBold"/>
                <a:ea typeface="Poppins SemiBold"/>
              </a:rPr>
              <a:t>Play the Ultimate Game</a:t>
            </a:r>
            <a:endParaRPr b="0" lang="en-US" sz="1400" spc="-1" strike="noStrike">
              <a:solidFill>
                <a:srgbClr val="000000"/>
              </a:solidFill>
              <a:latin typeface="Calibri"/>
            </a:endParaRPr>
          </a:p>
        </p:txBody>
      </p:sp>
      <p:sp>
        <p:nvSpPr>
          <p:cNvPr id="1637" name="TextBox 30"/>
          <p:cNvSpPr/>
          <p:nvPr/>
        </p:nvSpPr>
        <p:spPr>
          <a:xfrm>
            <a:off x="6657840" y="2436840"/>
            <a:ext cx="228600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d5b665"/>
                </a:solidFill>
                <a:latin typeface="Muli SemiBold"/>
                <a:ea typeface="Open Sans SemiBold"/>
              </a:rPr>
              <a:t>Your text here</a:t>
            </a:r>
            <a:endParaRPr b="0" lang="en-US" sz="1100" spc="-1" strike="noStrike">
              <a:solidFill>
                <a:srgbClr val="000000"/>
              </a:solidFill>
              <a:latin typeface="Calibri"/>
            </a:endParaRPr>
          </a:p>
        </p:txBody>
      </p:sp>
      <p:sp>
        <p:nvSpPr>
          <p:cNvPr id="1638" name="TextBox 15"/>
          <p:cNvSpPr/>
          <p:nvPr/>
        </p:nvSpPr>
        <p:spPr>
          <a:xfrm>
            <a:off x="2854440" y="1146240"/>
            <a:ext cx="6483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Experience a Premium Golf Course </a:t>
            </a:r>
            <a:endParaRPr b="0" lang="en-US" sz="2600" spc="-1" strike="noStrike">
              <a:solidFill>
                <a:srgbClr val="000000"/>
              </a:solidFill>
              <a:latin typeface="Calibri"/>
            </a:endParaRPr>
          </a:p>
        </p:txBody>
      </p:sp>
      <p:sp>
        <p:nvSpPr>
          <p:cNvPr id="1639" name="TextBox 16"/>
          <p:cNvSpPr/>
          <p:nvPr/>
        </p:nvSpPr>
        <p:spPr>
          <a:xfrm>
            <a:off x="4702320" y="884160"/>
            <a:ext cx="2787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OUR GALLERY</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TextBox 1"/>
          <p:cNvSpPr/>
          <p:nvPr/>
        </p:nvSpPr>
        <p:spPr>
          <a:xfrm>
            <a:off x="797040" y="1463760"/>
            <a:ext cx="3457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Golferina Events</a:t>
            </a:r>
            <a:endParaRPr b="0" lang="en-US" sz="2600" spc="-1" strike="noStrike">
              <a:solidFill>
                <a:srgbClr val="000000"/>
              </a:solidFill>
              <a:latin typeface="Calibri"/>
            </a:endParaRPr>
          </a:p>
        </p:txBody>
      </p:sp>
      <p:sp>
        <p:nvSpPr>
          <p:cNvPr id="1641" name="TextBox 2"/>
          <p:cNvSpPr/>
          <p:nvPr/>
        </p:nvSpPr>
        <p:spPr>
          <a:xfrm>
            <a:off x="797040" y="1201680"/>
            <a:ext cx="2787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OUR CALENDER</a:t>
            </a:r>
            <a:endParaRPr b="0" lang="en-US" sz="1100" spc="-1" strike="noStrike">
              <a:solidFill>
                <a:srgbClr val="000000"/>
              </a:solidFill>
              <a:latin typeface="Calibri"/>
            </a:endParaRPr>
          </a:p>
        </p:txBody>
      </p:sp>
      <p:grpSp>
        <p:nvGrpSpPr>
          <p:cNvPr id="1642" name="Group 98"/>
          <p:cNvGrpSpPr/>
          <p:nvPr/>
        </p:nvGrpSpPr>
        <p:grpSpPr>
          <a:xfrm>
            <a:off x="4511520" y="851040"/>
            <a:ext cx="6897960" cy="5155920"/>
            <a:chOff x="4511520" y="851040"/>
            <a:chExt cx="6897960" cy="5155920"/>
          </a:xfrm>
        </p:grpSpPr>
        <p:sp>
          <p:nvSpPr>
            <p:cNvPr id="1643" name="Rectangle 4"/>
            <p:cNvSpPr/>
            <p:nvPr/>
          </p:nvSpPr>
          <p:spPr>
            <a:xfrm>
              <a:off x="4511520" y="851040"/>
              <a:ext cx="6897960" cy="5155920"/>
            </a:xfrm>
            <a:prstGeom prst="rect">
              <a:avLst/>
            </a:prstGeom>
            <a:solidFill>
              <a:srgbClr val="ffffff"/>
            </a:solidFill>
            <a:ln w="0">
              <a:noFill/>
            </a:ln>
            <a:effectLst>
              <a:outerShdw dist="165240" dir="5400000" blurRad="0" rotWithShape="0">
                <a:srgbClr val="000000">
                  <a:alpha val="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4" name="Rectangle 5"/>
            <p:cNvSpPr/>
            <p:nvPr/>
          </p:nvSpPr>
          <p:spPr>
            <a:xfrm flipV="1" rot="5400000">
              <a:off x="2563200" y="2799000"/>
              <a:ext cx="5155920" cy="1259640"/>
            </a:xfrm>
            <a:prstGeom prst="rect">
              <a:avLst/>
            </a:prstGeom>
            <a:gradFill rotWithShape="0">
              <a:gsLst>
                <a:gs pos="0">
                  <a:srgbClr val="032932"/>
                </a:gs>
                <a:gs pos="100000">
                  <a:srgbClr val="0e4d5b"/>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45" name="TextBox 7" descr=""/>
            <p:cNvPicPr/>
            <p:nvPr/>
          </p:nvPicPr>
          <p:blipFill>
            <a:blip r:embed="rId1"/>
            <a:stretch/>
          </p:blipFill>
          <p:spPr>
            <a:xfrm>
              <a:off x="4583880" y="1752120"/>
              <a:ext cx="1104840" cy="342720"/>
            </a:xfrm>
            <a:prstGeom prst="rect">
              <a:avLst/>
            </a:prstGeom>
            <a:ln w="0">
              <a:noFill/>
            </a:ln>
          </p:spPr>
        </p:pic>
        <p:pic>
          <p:nvPicPr>
            <p:cNvPr id="1646" name="TextBox 8" descr=""/>
            <p:cNvPicPr/>
            <p:nvPr/>
          </p:nvPicPr>
          <p:blipFill>
            <a:blip r:embed="rId2"/>
            <a:stretch/>
          </p:blipFill>
          <p:spPr>
            <a:xfrm>
              <a:off x="4583880" y="5563080"/>
              <a:ext cx="1104840" cy="342720"/>
            </a:xfrm>
            <a:prstGeom prst="rect">
              <a:avLst/>
            </a:prstGeom>
            <a:ln w="0">
              <a:noFill/>
            </a:ln>
          </p:spPr>
        </p:pic>
        <p:pic>
          <p:nvPicPr>
            <p:cNvPr id="1647" name="TextBox 9" descr=""/>
            <p:cNvPicPr/>
            <p:nvPr/>
          </p:nvPicPr>
          <p:blipFill>
            <a:blip r:embed="rId3"/>
            <a:stretch/>
          </p:blipFill>
          <p:spPr>
            <a:xfrm>
              <a:off x="4583880" y="5181840"/>
              <a:ext cx="1104840" cy="342720"/>
            </a:xfrm>
            <a:prstGeom prst="rect">
              <a:avLst/>
            </a:prstGeom>
            <a:ln w="0">
              <a:noFill/>
            </a:ln>
          </p:spPr>
        </p:pic>
        <p:pic>
          <p:nvPicPr>
            <p:cNvPr id="1648" name="TextBox 10" descr=""/>
            <p:cNvPicPr/>
            <p:nvPr/>
          </p:nvPicPr>
          <p:blipFill>
            <a:blip r:embed="rId4"/>
            <a:stretch/>
          </p:blipFill>
          <p:spPr>
            <a:xfrm>
              <a:off x="4583880" y="4800960"/>
              <a:ext cx="1104840" cy="342720"/>
            </a:xfrm>
            <a:prstGeom prst="rect">
              <a:avLst/>
            </a:prstGeom>
            <a:ln w="0">
              <a:noFill/>
            </a:ln>
          </p:spPr>
        </p:pic>
        <p:pic>
          <p:nvPicPr>
            <p:cNvPr id="1649" name="TextBox 11" descr=""/>
            <p:cNvPicPr/>
            <p:nvPr/>
          </p:nvPicPr>
          <p:blipFill>
            <a:blip r:embed="rId5"/>
            <a:stretch/>
          </p:blipFill>
          <p:spPr>
            <a:xfrm>
              <a:off x="4583880" y="4419720"/>
              <a:ext cx="1104840" cy="342720"/>
            </a:xfrm>
            <a:prstGeom prst="rect">
              <a:avLst/>
            </a:prstGeom>
            <a:ln w="0">
              <a:noFill/>
            </a:ln>
          </p:spPr>
        </p:pic>
        <p:pic>
          <p:nvPicPr>
            <p:cNvPr id="1650" name="TextBox 12" descr=""/>
            <p:cNvPicPr/>
            <p:nvPr/>
          </p:nvPicPr>
          <p:blipFill>
            <a:blip r:embed="rId6"/>
            <a:stretch/>
          </p:blipFill>
          <p:spPr>
            <a:xfrm>
              <a:off x="4583880" y="4038840"/>
              <a:ext cx="1104840" cy="342720"/>
            </a:xfrm>
            <a:prstGeom prst="rect">
              <a:avLst/>
            </a:prstGeom>
            <a:ln w="0">
              <a:noFill/>
            </a:ln>
          </p:spPr>
        </p:pic>
        <p:pic>
          <p:nvPicPr>
            <p:cNvPr id="1651" name="TextBox 13" descr=""/>
            <p:cNvPicPr/>
            <p:nvPr/>
          </p:nvPicPr>
          <p:blipFill>
            <a:blip r:embed="rId7"/>
            <a:stretch/>
          </p:blipFill>
          <p:spPr>
            <a:xfrm>
              <a:off x="4583880" y="3657600"/>
              <a:ext cx="1104840" cy="342720"/>
            </a:xfrm>
            <a:prstGeom prst="rect">
              <a:avLst/>
            </a:prstGeom>
            <a:ln w="0">
              <a:noFill/>
            </a:ln>
          </p:spPr>
        </p:pic>
        <p:sp>
          <p:nvSpPr>
            <p:cNvPr id="1652" name="TextBox 14"/>
            <p:cNvSpPr/>
            <p:nvPr/>
          </p:nvSpPr>
          <p:spPr>
            <a:xfrm>
              <a:off x="4599000" y="3292560"/>
              <a:ext cx="108468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Jun</a:t>
              </a:r>
              <a:endParaRPr b="0" lang="en-US" sz="1200" spc="-1" strike="noStrike">
                <a:solidFill>
                  <a:srgbClr val="000000"/>
                </a:solidFill>
                <a:latin typeface="Calibri"/>
              </a:endParaRPr>
            </a:p>
          </p:txBody>
        </p:sp>
        <p:pic>
          <p:nvPicPr>
            <p:cNvPr id="1653" name="TextBox 15" descr=""/>
            <p:cNvPicPr/>
            <p:nvPr/>
          </p:nvPicPr>
          <p:blipFill>
            <a:blip r:embed="rId8"/>
            <a:stretch/>
          </p:blipFill>
          <p:spPr>
            <a:xfrm>
              <a:off x="4583880" y="2895480"/>
              <a:ext cx="1104840" cy="342720"/>
            </a:xfrm>
            <a:prstGeom prst="rect">
              <a:avLst/>
            </a:prstGeom>
            <a:ln w="0">
              <a:noFill/>
            </a:ln>
          </p:spPr>
        </p:pic>
        <p:pic>
          <p:nvPicPr>
            <p:cNvPr id="1654" name="TextBox 16" descr=""/>
            <p:cNvPicPr/>
            <p:nvPr/>
          </p:nvPicPr>
          <p:blipFill>
            <a:blip r:embed="rId9"/>
            <a:stretch/>
          </p:blipFill>
          <p:spPr>
            <a:xfrm>
              <a:off x="4583880" y="2514600"/>
              <a:ext cx="1104840" cy="342720"/>
            </a:xfrm>
            <a:prstGeom prst="rect">
              <a:avLst/>
            </a:prstGeom>
            <a:ln w="0">
              <a:noFill/>
            </a:ln>
          </p:spPr>
        </p:pic>
        <p:pic>
          <p:nvPicPr>
            <p:cNvPr id="1655" name="TextBox 17" descr=""/>
            <p:cNvPicPr/>
            <p:nvPr/>
          </p:nvPicPr>
          <p:blipFill>
            <a:blip r:embed="rId10"/>
            <a:stretch/>
          </p:blipFill>
          <p:spPr>
            <a:xfrm>
              <a:off x="4583880" y="2133360"/>
              <a:ext cx="1104840" cy="330120"/>
            </a:xfrm>
            <a:prstGeom prst="rect">
              <a:avLst/>
            </a:prstGeom>
            <a:ln w="0">
              <a:noFill/>
            </a:ln>
          </p:spPr>
        </p:pic>
        <p:pic>
          <p:nvPicPr>
            <p:cNvPr id="1656" name="TextBox 18" descr=""/>
            <p:cNvPicPr/>
            <p:nvPr/>
          </p:nvPicPr>
          <p:blipFill>
            <a:blip r:embed="rId11"/>
            <a:stretch/>
          </p:blipFill>
          <p:spPr>
            <a:xfrm>
              <a:off x="4583880" y="1371240"/>
              <a:ext cx="1104840" cy="330120"/>
            </a:xfrm>
            <a:prstGeom prst="rect">
              <a:avLst/>
            </a:prstGeom>
            <a:ln w="0">
              <a:noFill/>
            </a:ln>
          </p:spPr>
        </p:pic>
        <p:pic>
          <p:nvPicPr>
            <p:cNvPr id="1657" name="TextBox 19" descr=""/>
            <p:cNvPicPr/>
            <p:nvPr/>
          </p:nvPicPr>
          <p:blipFill>
            <a:blip r:embed="rId12"/>
            <a:stretch/>
          </p:blipFill>
          <p:spPr>
            <a:xfrm>
              <a:off x="4583880" y="990000"/>
              <a:ext cx="1104840" cy="342720"/>
            </a:xfrm>
            <a:prstGeom prst="rect">
              <a:avLst/>
            </a:prstGeom>
            <a:ln w="0">
              <a:noFill/>
            </a:ln>
          </p:spPr>
        </p:pic>
        <p:sp>
          <p:nvSpPr>
            <p:cNvPr id="1658" name="TextBox 21"/>
            <p:cNvSpPr/>
            <p:nvPr/>
          </p:nvSpPr>
          <p:spPr>
            <a:xfrm>
              <a:off x="5925240" y="973080"/>
              <a:ext cx="4039920" cy="3373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oppins SemiBold"/>
                  <a:ea typeface="Poppins SemiBold"/>
                </a:rPr>
                <a:t>JUNE</a:t>
              </a:r>
              <a:r>
                <a:rPr b="0" lang="id-ID" sz="1600" spc="-1" strike="noStrike">
                  <a:solidFill>
                    <a:srgbClr val="000000"/>
                  </a:solidFill>
                  <a:latin typeface="Poppins SemiBold"/>
                  <a:ea typeface="Poppins SemiBold"/>
                </a:rPr>
                <a:t>, </a:t>
              </a:r>
              <a:r>
                <a:rPr b="0" lang="en-US" sz="1600" spc="-1" strike="noStrike">
                  <a:solidFill>
                    <a:srgbClr val="595959"/>
                  </a:solidFill>
                  <a:latin typeface="Poppins SemiBold"/>
                  <a:ea typeface="Poppins SemiBold"/>
                </a:rPr>
                <a:t>2020</a:t>
              </a:r>
              <a:endParaRPr b="0" lang="en-US" sz="1600" spc="-1" strike="noStrike">
                <a:solidFill>
                  <a:srgbClr val="000000"/>
                </a:solidFill>
                <a:latin typeface="Calibri"/>
              </a:endParaRPr>
            </a:p>
          </p:txBody>
        </p:sp>
        <p:sp>
          <p:nvSpPr>
            <p:cNvPr id="1659" name="Rectangle 22"/>
            <p:cNvSpPr/>
            <p:nvPr/>
          </p:nvSpPr>
          <p:spPr>
            <a:xfrm>
              <a:off x="5934240" y="1793880"/>
              <a:ext cx="756720" cy="672840"/>
            </a:xfrm>
            <a:prstGeom prst="rect">
              <a:avLst/>
            </a:prstGeom>
            <a:blipFill rotWithShape="0">
              <a:blip r:embed="rId13"/>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31</a:t>
              </a:r>
              <a:endParaRPr b="0" lang="en-US" sz="1200" spc="-1" strike="noStrike">
                <a:solidFill>
                  <a:srgbClr val="000000"/>
                </a:solidFill>
                <a:latin typeface="Calibri"/>
              </a:endParaRPr>
            </a:p>
          </p:txBody>
        </p:sp>
        <p:sp>
          <p:nvSpPr>
            <p:cNvPr id="1660" name="Rectangle 23"/>
            <p:cNvSpPr/>
            <p:nvPr/>
          </p:nvSpPr>
          <p:spPr>
            <a:xfrm>
              <a:off x="6690960" y="1793880"/>
              <a:ext cx="756720" cy="672840"/>
            </a:xfrm>
            <a:prstGeom prst="rect">
              <a:avLst/>
            </a:prstGeom>
            <a:solidFill>
              <a:srgbClr val="ffffff"/>
            </a:solid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1</a:t>
              </a:r>
              <a:endParaRPr b="0" lang="en-US" sz="1200" spc="-1" strike="noStrike">
                <a:solidFill>
                  <a:srgbClr val="000000"/>
                </a:solidFill>
                <a:latin typeface="Calibri"/>
              </a:endParaRPr>
            </a:p>
          </p:txBody>
        </p:sp>
        <p:sp>
          <p:nvSpPr>
            <p:cNvPr id="1661" name="Rectangle 24"/>
            <p:cNvSpPr/>
            <p:nvPr/>
          </p:nvSpPr>
          <p:spPr>
            <a:xfrm>
              <a:off x="7448040" y="1793880"/>
              <a:ext cx="756720" cy="672840"/>
            </a:xfrm>
            <a:prstGeom prst="rect">
              <a:avLst/>
            </a:prstGeom>
            <a:solidFill>
              <a:srgbClr val="ffffff"/>
            </a:solid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2</a:t>
              </a:r>
              <a:endParaRPr b="0" lang="en-US" sz="1200" spc="-1" strike="noStrike">
                <a:solidFill>
                  <a:srgbClr val="000000"/>
                </a:solidFill>
                <a:latin typeface="Calibri"/>
              </a:endParaRPr>
            </a:p>
          </p:txBody>
        </p:sp>
        <p:sp>
          <p:nvSpPr>
            <p:cNvPr id="1662" name="Rectangle 25"/>
            <p:cNvSpPr/>
            <p:nvPr/>
          </p:nvSpPr>
          <p:spPr>
            <a:xfrm>
              <a:off x="8204760" y="1793880"/>
              <a:ext cx="756720" cy="672840"/>
            </a:xfrm>
            <a:prstGeom prst="rect">
              <a:avLst/>
            </a:prstGeom>
            <a:solidFill>
              <a:srgbClr val="ffffff"/>
            </a:solid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3</a:t>
              </a:r>
              <a:endParaRPr b="0" lang="en-US" sz="1200" spc="-1" strike="noStrike">
                <a:solidFill>
                  <a:srgbClr val="000000"/>
                </a:solidFill>
                <a:latin typeface="Calibri"/>
              </a:endParaRPr>
            </a:p>
          </p:txBody>
        </p:sp>
        <p:sp>
          <p:nvSpPr>
            <p:cNvPr id="1663" name="Rectangle 26"/>
            <p:cNvSpPr/>
            <p:nvPr/>
          </p:nvSpPr>
          <p:spPr>
            <a:xfrm>
              <a:off x="8961480" y="1793880"/>
              <a:ext cx="756720" cy="672840"/>
            </a:xfrm>
            <a:prstGeom prst="rect">
              <a:avLst/>
            </a:prstGeom>
            <a:solidFill>
              <a:srgbClr val="ffffff"/>
            </a:solid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4</a:t>
              </a:r>
              <a:endParaRPr b="0" lang="en-US" sz="1200" spc="-1" strike="noStrike">
                <a:solidFill>
                  <a:srgbClr val="000000"/>
                </a:solidFill>
                <a:latin typeface="Calibri"/>
              </a:endParaRPr>
            </a:p>
          </p:txBody>
        </p:sp>
        <p:sp>
          <p:nvSpPr>
            <p:cNvPr id="1664" name="Rectangle 27"/>
            <p:cNvSpPr/>
            <p:nvPr/>
          </p:nvSpPr>
          <p:spPr>
            <a:xfrm>
              <a:off x="9718200" y="1793880"/>
              <a:ext cx="756720" cy="672840"/>
            </a:xfrm>
            <a:prstGeom prst="rect">
              <a:avLst/>
            </a:prstGeom>
            <a:solidFill>
              <a:srgbClr val="fbf8ef"/>
            </a:solid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5</a:t>
              </a:r>
              <a:endParaRPr b="0" lang="en-US" sz="1200" spc="-1" strike="noStrike">
                <a:solidFill>
                  <a:srgbClr val="000000"/>
                </a:solidFill>
                <a:latin typeface="Calibri"/>
              </a:endParaRPr>
            </a:p>
          </p:txBody>
        </p:sp>
        <p:sp>
          <p:nvSpPr>
            <p:cNvPr id="1665" name="Rectangle 28"/>
            <p:cNvSpPr/>
            <p:nvPr/>
          </p:nvSpPr>
          <p:spPr>
            <a:xfrm>
              <a:off x="10474920" y="1793880"/>
              <a:ext cx="756720" cy="672840"/>
            </a:xfrm>
            <a:prstGeom prst="rect">
              <a:avLst/>
            </a:prstGeom>
            <a:solidFill>
              <a:srgbClr val="ffffff"/>
            </a:solid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6</a:t>
              </a:r>
              <a:endParaRPr b="0" lang="en-US" sz="1200" spc="-1" strike="noStrike">
                <a:solidFill>
                  <a:srgbClr val="000000"/>
                </a:solidFill>
                <a:latin typeface="Calibri"/>
              </a:endParaRPr>
            </a:p>
          </p:txBody>
        </p:sp>
        <p:sp>
          <p:nvSpPr>
            <p:cNvPr id="1666" name="Rectangle 29"/>
            <p:cNvSpPr/>
            <p:nvPr/>
          </p:nvSpPr>
          <p:spPr>
            <a:xfrm>
              <a:off x="5934240" y="246708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7</a:t>
              </a:r>
              <a:endParaRPr b="0" lang="en-US" sz="1200" spc="-1" strike="noStrike">
                <a:solidFill>
                  <a:srgbClr val="000000"/>
                </a:solidFill>
                <a:latin typeface="Calibri"/>
              </a:endParaRPr>
            </a:p>
          </p:txBody>
        </p:sp>
        <p:sp>
          <p:nvSpPr>
            <p:cNvPr id="1667" name="Rectangle 30"/>
            <p:cNvSpPr/>
            <p:nvPr/>
          </p:nvSpPr>
          <p:spPr>
            <a:xfrm>
              <a:off x="7448040" y="246708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9</a:t>
              </a:r>
              <a:endParaRPr b="0" lang="en-US" sz="1200" spc="-1" strike="noStrike">
                <a:solidFill>
                  <a:srgbClr val="000000"/>
                </a:solidFill>
                <a:latin typeface="Calibri"/>
              </a:endParaRPr>
            </a:p>
          </p:txBody>
        </p:sp>
        <p:sp>
          <p:nvSpPr>
            <p:cNvPr id="1668" name="Rectangle 31"/>
            <p:cNvSpPr/>
            <p:nvPr/>
          </p:nvSpPr>
          <p:spPr>
            <a:xfrm>
              <a:off x="8204760" y="2467080"/>
              <a:ext cx="756720" cy="672840"/>
            </a:xfrm>
            <a:prstGeom prst="rect">
              <a:avLst/>
            </a:prstGeom>
            <a:solidFill>
              <a:srgbClr val="fbf8ef"/>
            </a:solid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10</a:t>
              </a:r>
              <a:endParaRPr b="0" lang="en-US" sz="1200" spc="-1" strike="noStrike">
                <a:solidFill>
                  <a:srgbClr val="000000"/>
                </a:solidFill>
                <a:latin typeface="Calibri"/>
              </a:endParaRPr>
            </a:p>
          </p:txBody>
        </p:sp>
        <p:sp>
          <p:nvSpPr>
            <p:cNvPr id="1669" name="Rectangle 32"/>
            <p:cNvSpPr/>
            <p:nvPr/>
          </p:nvSpPr>
          <p:spPr>
            <a:xfrm>
              <a:off x="8961480" y="246708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11</a:t>
              </a:r>
              <a:endParaRPr b="0" lang="en-US" sz="1200" spc="-1" strike="noStrike">
                <a:solidFill>
                  <a:srgbClr val="000000"/>
                </a:solidFill>
                <a:latin typeface="Calibri"/>
              </a:endParaRPr>
            </a:p>
          </p:txBody>
        </p:sp>
        <p:sp>
          <p:nvSpPr>
            <p:cNvPr id="1670" name="Rectangle 33"/>
            <p:cNvSpPr/>
            <p:nvPr/>
          </p:nvSpPr>
          <p:spPr>
            <a:xfrm>
              <a:off x="10474920" y="246708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13</a:t>
              </a:r>
              <a:endParaRPr b="0" lang="en-US" sz="1200" spc="-1" strike="noStrike">
                <a:solidFill>
                  <a:srgbClr val="000000"/>
                </a:solidFill>
                <a:latin typeface="Calibri"/>
              </a:endParaRPr>
            </a:p>
          </p:txBody>
        </p:sp>
        <p:sp>
          <p:nvSpPr>
            <p:cNvPr id="1671" name="Rectangle 34"/>
            <p:cNvSpPr/>
            <p:nvPr/>
          </p:nvSpPr>
          <p:spPr>
            <a:xfrm>
              <a:off x="5934240" y="314136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14</a:t>
              </a:r>
              <a:endParaRPr b="0" lang="en-US" sz="1200" spc="-1" strike="noStrike">
                <a:solidFill>
                  <a:srgbClr val="000000"/>
                </a:solidFill>
                <a:latin typeface="Calibri"/>
              </a:endParaRPr>
            </a:p>
          </p:txBody>
        </p:sp>
        <p:sp>
          <p:nvSpPr>
            <p:cNvPr id="1672" name="Rectangle 35"/>
            <p:cNvSpPr/>
            <p:nvPr/>
          </p:nvSpPr>
          <p:spPr>
            <a:xfrm>
              <a:off x="6690960" y="314136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15</a:t>
              </a:r>
              <a:endParaRPr b="0" lang="en-US" sz="1200" spc="-1" strike="noStrike">
                <a:solidFill>
                  <a:srgbClr val="000000"/>
                </a:solidFill>
                <a:latin typeface="Calibri"/>
              </a:endParaRPr>
            </a:p>
          </p:txBody>
        </p:sp>
        <p:sp>
          <p:nvSpPr>
            <p:cNvPr id="1673" name="Rectangle 36"/>
            <p:cNvSpPr/>
            <p:nvPr/>
          </p:nvSpPr>
          <p:spPr>
            <a:xfrm>
              <a:off x="7448040" y="314136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16</a:t>
              </a:r>
              <a:endParaRPr b="0" lang="en-US" sz="1200" spc="-1" strike="noStrike">
                <a:solidFill>
                  <a:srgbClr val="000000"/>
                </a:solidFill>
                <a:latin typeface="Calibri"/>
              </a:endParaRPr>
            </a:p>
          </p:txBody>
        </p:sp>
        <p:sp>
          <p:nvSpPr>
            <p:cNvPr id="1674" name="Rectangle 37"/>
            <p:cNvSpPr/>
            <p:nvPr/>
          </p:nvSpPr>
          <p:spPr>
            <a:xfrm>
              <a:off x="8204760" y="314136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17</a:t>
              </a:r>
              <a:endParaRPr b="0" lang="en-US" sz="1200" spc="-1" strike="noStrike">
                <a:solidFill>
                  <a:srgbClr val="000000"/>
                </a:solidFill>
                <a:latin typeface="Calibri"/>
              </a:endParaRPr>
            </a:p>
          </p:txBody>
        </p:sp>
        <p:sp>
          <p:nvSpPr>
            <p:cNvPr id="1675" name="Rectangle 38"/>
            <p:cNvSpPr/>
            <p:nvPr/>
          </p:nvSpPr>
          <p:spPr>
            <a:xfrm>
              <a:off x="8961480" y="314136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18</a:t>
              </a:r>
              <a:endParaRPr b="0" lang="en-US" sz="1200" spc="-1" strike="noStrike">
                <a:solidFill>
                  <a:srgbClr val="000000"/>
                </a:solidFill>
                <a:latin typeface="Calibri"/>
              </a:endParaRPr>
            </a:p>
          </p:txBody>
        </p:sp>
        <p:sp>
          <p:nvSpPr>
            <p:cNvPr id="1676" name="Rectangle 39"/>
            <p:cNvSpPr/>
            <p:nvPr/>
          </p:nvSpPr>
          <p:spPr>
            <a:xfrm>
              <a:off x="9718200" y="314136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19</a:t>
              </a:r>
              <a:endParaRPr b="0" lang="en-US" sz="1200" spc="-1" strike="noStrike">
                <a:solidFill>
                  <a:srgbClr val="000000"/>
                </a:solidFill>
                <a:latin typeface="Calibri"/>
              </a:endParaRPr>
            </a:p>
          </p:txBody>
        </p:sp>
        <p:sp>
          <p:nvSpPr>
            <p:cNvPr id="1677" name="Rectangle 40"/>
            <p:cNvSpPr/>
            <p:nvPr/>
          </p:nvSpPr>
          <p:spPr>
            <a:xfrm>
              <a:off x="10474920" y="314136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20</a:t>
              </a:r>
              <a:endParaRPr b="0" lang="en-US" sz="1200" spc="-1" strike="noStrike">
                <a:solidFill>
                  <a:srgbClr val="000000"/>
                </a:solidFill>
                <a:latin typeface="Calibri"/>
              </a:endParaRPr>
            </a:p>
          </p:txBody>
        </p:sp>
        <p:sp>
          <p:nvSpPr>
            <p:cNvPr id="1678" name="Rectangle 41"/>
            <p:cNvSpPr/>
            <p:nvPr/>
          </p:nvSpPr>
          <p:spPr>
            <a:xfrm>
              <a:off x="5934240" y="381672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21</a:t>
              </a:r>
              <a:endParaRPr b="0" lang="en-US" sz="1200" spc="-1" strike="noStrike">
                <a:solidFill>
                  <a:srgbClr val="000000"/>
                </a:solidFill>
                <a:latin typeface="Calibri"/>
              </a:endParaRPr>
            </a:p>
          </p:txBody>
        </p:sp>
        <p:sp>
          <p:nvSpPr>
            <p:cNvPr id="1679" name="Rectangle 42"/>
            <p:cNvSpPr/>
            <p:nvPr/>
          </p:nvSpPr>
          <p:spPr>
            <a:xfrm>
              <a:off x="6690960" y="381672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22</a:t>
              </a:r>
              <a:endParaRPr b="0" lang="en-US" sz="1200" spc="-1" strike="noStrike">
                <a:solidFill>
                  <a:srgbClr val="000000"/>
                </a:solidFill>
                <a:latin typeface="Calibri"/>
              </a:endParaRPr>
            </a:p>
          </p:txBody>
        </p:sp>
        <p:sp>
          <p:nvSpPr>
            <p:cNvPr id="1680" name="Rectangle 43"/>
            <p:cNvSpPr/>
            <p:nvPr/>
          </p:nvSpPr>
          <p:spPr>
            <a:xfrm>
              <a:off x="7448040" y="3816720"/>
              <a:ext cx="756720" cy="672840"/>
            </a:xfrm>
            <a:prstGeom prst="rect">
              <a:avLst/>
            </a:prstGeom>
            <a:solidFill>
              <a:srgbClr val="fbf8ef"/>
            </a:solid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23</a:t>
              </a:r>
              <a:endParaRPr b="0" lang="en-US" sz="1200" spc="-1" strike="noStrike">
                <a:solidFill>
                  <a:srgbClr val="000000"/>
                </a:solidFill>
                <a:latin typeface="Calibri"/>
              </a:endParaRPr>
            </a:p>
          </p:txBody>
        </p:sp>
        <p:sp>
          <p:nvSpPr>
            <p:cNvPr id="1681" name="Rectangle 44"/>
            <p:cNvSpPr/>
            <p:nvPr/>
          </p:nvSpPr>
          <p:spPr>
            <a:xfrm>
              <a:off x="8204760" y="381672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24</a:t>
              </a:r>
              <a:endParaRPr b="0" lang="en-US" sz="1200" spc="-1" strike="noStrike">
                <a:solidFill>
                  <a:srgbClr val="000000"/>
                </a:solidFill>
                <a:latin typeface="Calibri"/>
              </a:endParaRPr>
            </a:p>
          </p:txBody>
        </p:sp>
        <p:sp>
          <p:nvSpPr>
            <p:cNvPr id="1682" name="Rectangle 45"/>
            <p:cNvSpPr/>
            <p:nvPr/>
          </p:nvSpPr>
          <p:spPr>
            <a:xfrm>
              <a:off x="8961480" y="381672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25</a:t>
              </a:r>
              <a:endParaRPr b="0" lang="en-US" sz="1200" spc="-1" strike="noStrike">
                <a:solidFill>
                  <a:srgbClr val="000000"/>
                </a:solidFill>
                <a:latin typeface="Calibri"/>
              </a:endParaRPr>
            </a:p>
          </p:txBody>
        </p:sp>
        <p:sp>
          <p:nvSpPr>
            <p:cNvPr id="1683" name="Rectangle 46"/>
            <p:cNvSpPr/>
            <p:nvPr/>
          </p:nvSpPr>
          <p:spPr>
            <a:xfrm>
              <a:off x="9718200" y="381672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26</a:t>
              </a:r>
              <a:endParaRPr b="0" lang="en-US" sz="1200" spc="-1" strike="noStrike">
                <a:solidFill>
                  <a:srgbClr val="000000"/>
                </a:solidFill>
                <a:latin typeface="Calibri"/>
              </a:endParaRPr>
            </a:p>
          </p:txBody>
        </p:sp>
        <p:sp>
          <p:nvSpPr>
            <p:cNvPr id="1684" name="Rectangle 47"/>
            <p:cNvSpPr/>
            <p:nvPr/>
          </p:nvSpPr>
          <p:spPr>
            <a:xfrm>
              <a:off x="10474920" y="381672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27</a:t>
              </a:r>
              <a:endParaRPr b="0" lang="en-US" sz="1200" spc="-1" strike="noStrike">
                <a:solidFill>
                  <a:srgbClr val="000000"/>
                </a:solidFill>
                <a:latin typeface="Calibri"/>
              </a:endParaRPr>
            </a:p>
          </p:txBody>
        </p:sp>
        <p:sp>
          <p:nvSpPr>
            <p:cNvPr id="1685" name="Rectangle 48"/>
            <p:cNvSpPr/>
            <p:nvPr/>
          </p:nvSpPr>
          <p:spPr>
            <a:xfrm>
              <a:off x="5934240" y="449280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28</a:t>
              </a:r>
              <a:endParaRPr b="0" lang="en-US" sz="1200" spc="-1" strike="noStrike">
                <a:solidFill>
                  <a:srgbClr val="000000"/>
                </a:solidFill>
                <a:latin typeface="Calibri"/>
              </a:endParaRPr>
            </a:p>
          </p:txBody>
        </p:sp>
        <p:sp>
          <p:nvSpPr>
            <p:cNvPr id="1686" name="Rectangle 49"/>
            <p:cNvSpPr/>
            <p:nvPr/>
          </p:nvSpPr>
          <p:spPr>
            <a:xfrm>
              <a:off x="6690960" y="449280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29</a:t>
              </a:r>
              <a:endParaRPr b="0" lang="en-US" sz="1200" spc="-1" strike="noStrike">
                <a:solidFill>
                  <a:srgbClr val="000000"/>
                </a:solidFill>
                <a:latin typeface="Calibri"/>
              </a:endParaRPr>
            </a:p>
          </p:txBody>
        </p:sp>
        <p:sp>
          <p:nvSpPr>
            <p:cNvPr id="1687" name="Rectangle 50"/>
            <p:cNvSpPr/>
            <p:nvPr/>
          </p:nvSpPr>
          <p:spPr>
            <a:xfrm>
              <a:off x="7448040" y="449280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30</a:t>
              </a:r>
              <a:endParaRPr b="0" lang="en-US" sz="1200" spc="-1" strike="noStrike">
                <a:solidFill>
                  <a:srgbClr val="000000"/>
                </a:solidFill>
                <a:latin typeface="Calibri"/>
              </a:endParaRPr>
            </a:p>
          </p:txBody>
        </p:sp>
        <p:sp>
          <p:nvSpPr>
            <p:cNvPr id="1688" name="Rectangle 51"/>
            <p:cNvSpPr/>
            <p:nvPr/>
          </p:nvSpPr>
          <p:spPr>
            <a:xfrm>
              <a:off x="8204760" y="4492800"/>
              <a:ext cx="756720" cy="672840"/>
            </a:xfrm>
            <a:prstGeom prst="rect">
              <a:avLst/>
            </a:prstGeom>
            <a:blipFill rotWithShape="0">
              <a:blip r:embed="rId14"/>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1</a:t>
              </a:r>
              <a:endParaRPr b="0" lang="en-US" sz="1200" spc="-1" strike="noStrike">
                <a:solidFill>
                  <a:srgbClr val="000000"/>
                </a:solidFill>
                <a:latin typeface="Calibri"/>
              </a:endParaRPr>
            </a:p>
          </p:txBody>
        </p:sp>
        <p:sp>
          <p:nvSpPr>
            <p:cNvPr id="1689" name="Rectangle 52"/>
            <p:cNvSpPr/>
            <p:nvPr/>
          </p:nvSpPr>
          <p:spPr>
            <a:xfrm>
              <a:off x="8961480" y="4492800"/>
              <a:ext cx="756720" cy="672840"/>
            </a:xfrm>
            <a:prstGeom prst="rect">
              <a:avLst/>
            </a:prstGeom>
            <a:blipFill rotWithShape="0">
              <a:blip r:embed="rId15"/>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2</a:t>
              </a:r>
              <a:endParaRPr b="0" lang="en-US" sz="1200" spc="-1" strike="noStrike">
                <a:solidFill>
                  <a:srgbClr val="000000"/>
                </a:solidFill>
                <a:latin typeface="Calibri"/>
              </a:endParaRPr>
            </a:p>
          </p:txBody>
        </p:sp>
        <p:sp>
          <p:nvSpPr>
            <p:cNvPr id="1690" name="Rectangle 53"/>
            <p:cNvSpPr/>
            <p:nvPr/>
          </p:nvSpPr>
          <p:spPr>
            <a:xfrm>
              <a:off x="9718200" y="4492800"/>
              <a:ext cx="756720" cy="672840"/>
            </a:xfrm>
            <a:prstGeom prst="rect">
              <a:avLst/>
            </a:prstGeom>
            <a:blipFill rotWithShape="0">
              <a:blip r:embed="rId16"/>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3</a:t>
              </a:r>
              <a:endParaRPr b="0" lang="en-US" sz="1200" spc="-1" strike="noStrike">
                <a:solidFill>
                  <a:srgbClr val="000000"/>
                </a:solidFill>
                <a:latin typeface="Calibri"/>
              </a:endParaRPr>
            </a:p>
          </p:txBody>
        </p:sp>
        <p:sp>
          <p:nvSpPr>
            <p:cNvPr id="1691" name="Rectangle 54"/>
            <p:cNvSpPr/>
            <p:nvPr/>
          </p:nvSpPr>
          <p:spPr>
            <a:xfrm>
              <a:off x="10474920" y="4492800"/>
              <a:ext cx="756720" cy="672840"/>
            </a:xfrm>
            <a:prstGeom prst="rect">
              <a:avLst/>
            </a:prstGeom>
            <a:blipFill rotWithShape="0">
              <a:blip r:embed="rId17"/>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4</a:t>
              </a:r>
              <a:endParaRPr b="0" lang="en-US" sz="1200" spc="-1" strike="noStrike">
                <a:solidFill>
                  <a:srgbClr val="000000"/>
                </a:solidFill>
                <a:latin typeface="Calibri"/>
              </a:endParaRPr>
            </a:p>
          </p:txBody>
        </p:sp>
        <p:sp>
          <p:nvSpPr>
            <p:cNvPr id="1692" name="Rectangle 55"/>
            <p:cNvSpPr/>
            <p:nvPr/>
          </p:nvSpPr>
          <p:spPr>
            <a:xfrm>
              <a:off x="5934240" y="5165640"/>
              <a:ext cx="756720" cy="672840"/>
            </a:xfrm>
            <a:prstGeom prst="rect">
              <a:avLst/>
            </a:prstGeom>
            <a:blipFill rotWithShape="0">
              <a:blip r:embed="rId18"/>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5</a:t>
              </a:r>
              <a:endParaRPr b="0" lang="en-US" sz="1200" spc="-1" strike="noStrike">
                <a:solidFill>
                  <a:srgbClr val="000000"/>
                </a:solidFill>
                <a:latin typeface="Calibri"/>
              </a:endParaRPr>
            </a:p>
          </p:txBody>
        </p:sp>
        <p:sp>
          <p:nvSpPr>
            <p:cNvPr id="1693" name="Rectangle 56"/>
            <p:cNvSpPr/>
            <p:nvPr/>
          </p:nvSpPr>
          <p:spPr>
            <a:xfrm>
              <a:off x="6690960" y="5165640"/>
              <a:ext cx="756720" cy="672840"/>
            </a:xfrm>
            <a:prstGeom prst="rect">
              <a:avLst/>
            </a:prstGeom>
            <a:blipFill rotWithShape="0">
              <a:blip r:embed="rId19"/>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6</a:t>
              </a:r>
              <a:endParaRPr b="0" lang="en-US" sz="1200" spc="-1" strike="noStrike">
                <a:solidFill>
                  <a:srgbClr val="000000"/>
                </a:solidFill>
                <a:latin typeface="Calibri"/>
              </a:endParaRPr>
            </a:p>
          </p:txBody>
        </p:sp>
        <p:sp>
          <p:nvSpPr>
            <p:cNvPr id="1694" name="Rectangle 57"/>
            <p:cNvSpPr/>
            <p:nvPr/>
          </p:nvSpPr>
          <p:spPr>
            <a:xfrm>
              <a:off x="7448040" y="5165640"/>
              <a:ext cx="756720" cy="672840"/>
            </a:xfrm>
            <a:prstGeom prst="rect">
              <a:avLst/>
            </a:prstGeom>
            <a:blipFill rotWithShape="0">
              <a:blip r:embed="rId20"/>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7</a:t>
              </a:r>
              <a:endParaRPr b="0" lang="en-US" sz="1200" spc="-1" strike="noStrike">
                <a:solidFill>
                  <a:srgbClr val="000000"/>
                </a:solidFill>
                <a:latin typeface="Calibri"/>
              </a:endParaRPr>
            </a:p>
          </p:txBody>
        </p:sp>
        <p:sp>
          <p:nvSpPr>
            <p:cNvPr id="1695" name="Rectangle 58"/>
            <p:cNvSpPr/>
            <p:nvPr/>
          </p:nvSpPr>
          <p:spPr>
            <a:xfrm>
              <a:off x="8204760" y="5165640"/>
              <a:ext cx="756720" cy="672840"/>
            </a:xfrm>
            <a:prstGeom prst="rect">
              <a:avLst/>
            </a:prstGeom>
            <a:blipFill rotWithShape="0">
              <a:blip r:embed="rId21"/>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8</a:t>
              </a:r>
              <a:endParaRPr b="0" lang="en-US" sz="1200" spc="-1" strike="noStrike">
                <a:solidFill>
                  <a:srgbClr val="000000"/>
                </a:solidFill>
                <a:latin typeface="Calibri"/>
              </a:endParaRPr>
            </a:p>
          </p:txBody>
        </p:sp>
        <p:sp>
          <p:nvSpPr>
            <p:cNvPr id="1696" name="Rectangle 59"/>
            <p:cNvSpPr/>
            <p:nvPr/>
          </p:nvSpPr>
          <p:spPr>
            <a:xfrm>
              <a:off x="8961480" y="5165640"/>
              <a:ext cx="756720" cy="672840"/>
            </a:xfrm>
            <a:prstGeom prst="rect">
              <a:avLst/>
            </a:prstGeom>
            <a:blipFill rotWithShape="0">
              <a:blip r:embed="rId22"/>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9</a:t>
              </a:r>
              <a:endParaRPr b="0" lang="en-US" sz="1200" spc="-1" strike="noStrike">
                <a:solidFill>
                  <a:srgbClr val="000000"/>
                </a:solidFill>
                <a:latin typeface="Calibri"/>
              </a:endParaRPr>
            </a:p>
          </p:txBody>
        </p:sp>
        <p:sp>
          <p:nvSpPr>
            <p:cNvPr id="1697" name="Rectangle 60"/>
            <p:cNvSpPr/>
            <p:nvPr/>
          </p:nvSpPr>
          <p:spPr>
            <a:xfrm>
              <a:off x="9718200" y="5165640"/>
              <a:ext cx="756720" cy="672840"/>
            </a:xfrm>
            <a:prstGeom prst="rect">
              <a:avLst/>
            </a:prstGeom>
            <a:blipFill rotWithShape="0">
              <a:blip r:embed="rId23"/>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10</a:t>
              </a:r>
              <a:endParaRPr b="0" lang="en-US" sz="1200" spc="-1" strike="noStrike">
                <a:solidFill>
                  <a:srgbClr val="000000"/>
                </a:solidFill>
                <a:latin typeface="Calibri"/>
              </a:endParaRPr>
            </a:p>
          </p:txBody>
        </p:sp>
        <p:sp>
          <p:nvSpPr>
            <p:cNvPr id="1698" name="Rectangle 61"/>
            <p:cNvSpPr/>
            <p:nvPr/>
          </p:nvSpPr>
          <p:spPr>
            <a:xfrm>
              <a:off x="10474920" y="5165640"/>
              <a:ext cx="756720" cy="672840"/>
            </a:xfrm>
            <a:prstGeom prst="rect">
              <a:avLst/>
            </a:prstGeom>
            <a:blipFill rotWithShape="0">
              <a:blip r:embed="rId24"/>
              <a:srcRect/>
              <a:tile tx="0" ty="0" sx="100000" sy="100000" algn="ctr"/>
            </a:blip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Muli"/>
                  <a:ea typeface="Poppins"/>
                </a:rPr>
                <a:t>11</a:t>
              </a:r>
              <a:endParaRPr b="0" lang="en-US" sz="1200" spc="-1" strike="noStrike">
                <a:solidFill>
                  <a:srgbClr val="000000"/>
                </a:solidFill>
                <a:latin typeface="Calibri"/>
              </a:endParaRPr>
            </a:p>
          </p:txBody>
        </p:sp>
        <p:sp>
          <p:nvSpPr>
            <p:cNvPr id="1699" name="Rectangle 62"/>
            <p:cNvSpPr/>
            <p:nvPr/>
          </p:nvSpPr>
          <p:spPr>
            <a:xfrm>
              <a:off x="9718200" y="2467080"/>
              <a:ext cx="756720" cy="672840"/>
            </a:xfrm>
            <a:prstGeom prst="rect">
              <a:avLst/>
            </a:prstGeom>
            <a:noFill/>
            <a:ln w="12600">
              <a:solidFill>
                <a:srgbClr val="d9d9d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12</a:t>
              </a:r>
              <a:endParaRPr b="0" lang="en-US" sz="1200" spc="-1" strike="noStrike">
                <a:solidFill>
                  <a:srgbClr val="000000"/>
                </a:solidFill>
                <a:latin typeface="Calibri"/>
              </a:endParaRPr>
            </a:p>
          </p:txBody>
        </p:sp>
        <p:sp>
          <p:nvSpPr>
            <p:cNvPr id="1700" name="Rectangle: Top Corners Rounded 65"/>
            <p:cNvSpPr/>
            <p:nvPr/>
          </p:nvSpPr>
          <p:spPr>
            <a:xfrm>
              <a:off x="5934240" y="1421280"/>
              <a:ext cx="5297400" cy="370800"/>
            </a:xfrm>
            <a:custGeom>
              <a:avLst/>
              <a:gdLst/>
              <a:ahLst/>
              <a:rect l="l" t="t" r="r" b="b"/>
              <a:pathLst>
                <a:path w="5296228" h="370800">
                  <a:moveTo>
                    <a:pt x="61801" y="0"/>
                  </a:moveTo>
                  <a:lnTo>
                    <a:pt x="5234427" y="0"/>
                  </a:lnTo>
                  <a:cubicBezTo>
                    <a:pt x="5268559" y="0"/>
                    <a:pt x="5296228" y="27669"/>
                    <a:pt x="5296228" y="61801"/>
                  </a:cubicBezTo>
                  <a:lnTo>
                    <a:pt x="5296228" y="370800"/>
                  </a:lnTo>
                  <a:lnTo>
                    <a:pt x="5296228" y="370800"/>
                  </a:lnTo>
                  <a:lnTo>
                    <a:pt x="0" y="370800"/>
                  </a:lnTo>
                  <a:lnTo>
                    <a:pt x="0" y="370800"/>
                  </a:lnTo>
                  <a:lnTo>
                    <a:pt x="0" y="61801"/>
                  </a:lnTo>
                  <a:cubicBezTo>
                    <a:pt x="0" y="27669"/>
                    <a:pt x="27669" y="0"/>
                    <a:pt x="61801" y="0"/>
                  </a:cubicBezTo>
                  <a:close/>
                </a:path>
              </a:pathLst>
            </a:custGeom>
            <a:solidFill>
              <a:srgbClr val="d5b665"/>
            </a:solidFill>
            <a:ln w="12600">
              <a:solidFill>
                <a:srgbClr val="d9d9d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1" name="Rectangle 66"/>
            <p:cNvSpPr/>
            <p:nvPr/>
          </p:nvSpPr>
          <p:spPr>
            <a:xfrm>
              <a:off x="5934240" y="1424880"/>
              <a:ext cx="756720" cy="36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Poppins"/>
                  <a:ea typeface="Poppins"/>
                </a:rPr>
                <a:t>SUN</a:t>
              </a:r>
              <a:endParaRPr b="0" lang="en-US" sz="1200" spc="-1" strike="noStrike">
                <a:solidFill>
                  <a:srgbClr val="000000"/>
                </a:solidFill>
                <a:latin typeface="Calibri"/>
              </a:endParaRPr>
            </a:p>
          </p:txBody>
        </p:sp>
        <p:sp>
          <p:nvSpPr>
            <p:cNvPr id="1702" name="Rectangle 67"/>
            <p:cNvSpPr/>
            <p:nvPr/>
          </p:nvSpPr>
          <p:spPr>
            <a:xfrm>
              <a:off x="6690960" y="1424880"/>
              <a:ext cx="756720" cy="36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Poppins"/>
                  <a:ea typeface="Poppins"/>
                </a:rPr>
                <a:t>MON</a:t>
              </a:r>
              <a:endParaRPr b="0" lang="en-US" sz="1200" spc="-1" strike="noStrike">
                <a:solidFill>
                  <a:srgbClr val="000000"/>
                </a:solidFill>
                <a:latin typeface="Calibri"/>
              </a:endParaRPr>
            </a:p>
          </p:txBody>
        </p:sp>
        <p:sp>
          <p:nvSpPr>
            <p:cNvPr id="1703" name="Rectangle 68"/>
            <p:cNvSpPr/>
            <p:nvPr/>
          </p:nvSpPr>
          <p:spPr>
            <a:xfrm>
              <a:off x="7448040" y="1424880"/>
              <a:ext cx="756720" cy="36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Poppins"/>
                  <a:ea typeface="Poppins"/>
                </a:rPr>
                <a:t>TUE</a:t>
              </a:r>
              <a:endParaRPr b="0" lang="en-US" sz="1200" spc="-1" strike="noStrike">
                <a:solidFill>
                  <a:srgbClr val="000000"/>
                </a:solidFill>
                <a:latin typeface="Calibri"/>
              </a:endParaRPr>
            </a:p>
          </p:txBody>
        </p:sp>
        <p:sp>
          <p:nvSpPr>
            <p:cNvPr id="1704" name="Rectangle 69"/>
            <p:cNvSpPr/>
            <p:nvPr/>
          </p:nvSpPr>
          <p:spPr>
            <a:xfrm>
              <a:off x="8204760" y="1424880"/>
              <a:ext cx="756720" cy="36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Poppins"/>
                  <a:ea typeface="Poppins"/>
                </a:rPr>
                <a:t>WED</a:t>
              </a:r>
              <a:endParaRPr b="0" lang="en-US" sz="1200" spc="-1" strike="noStrike">
                <a:solidFill>
                  <a:srgbClr val="000000"/>
                </a:solidFill>
                <a:latin typeface="Calibri"/>
              </a:endParaRPr>
            </a:p>
          </p:txBody>
        </p:sp>
        <p:sp>
          <p:nvSpPr>
            <p:cNvPr id="1705" name="Rectangle 70"/>
            <p:cNvSpPr/>
            <p:nvPr/>
          </p:nvSpPr>
          <p:spPr>
            <a:xfrm>
              <a:off x="8961480" y="1424880"/>
              <a:ext cx="756720" cy="36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Poppins"/>
                  <a:ea typeface="Poppins"/>
                </a:rPr>
                <a:t>THU</a:t>
              </a:r>
              <a:endParaRPr b="0" lang="en-US" sz="1200" spc="-1" strike="noStrike">
                <a:solidFill>
                  <a:srgbClr val="000000"/>
                </a:solidFill>
                <a:latin typeface="Calibri"/>
              </a:endParaRPr>
            </a:p>
          </p:txBody>
        </p:sp>
        <p:sp>
          <p:nvSpPr>
            <p:cNvPr id="1706" name="Rectangle 71"/>
            <p:cNvSpPr/>
            <p:nvPr/>
          </p:nvSpPr>
          <p:spPr>
            <a:xfrm>
              <a:off x="9718200" y="1424880"/>
              <a:ext cx="756720" cy="36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Poppins"/>
                  <a:ea typeface="Poppins"/>
                </a:rPr>
                <a:t>FRI</a:t>
              </a:r>
              <a:endParaRPr b="0" lang="en-US" sz="1200" spc="-1" strike="noStrike">
                <a:solidFill>
                  <a:srgbClr val="000000"/>
                </a:solidFill>
                <a:latin typeface="Calibri"/>
              </a:endParaRPr>
            </a:p>
          </p:txBody>
        </p:sp>
        <p:sp>
          <p:nvSpPr>
            <p:cNvPr id="1707" name="Rectangle 72"/>
            <p:cNvSpPr/>
            <p:nvPr/>
          </p:nvSpPr>
          <p:spPr>
            <a:xfrm>
              <a:off x="10474920" y="1424880"/>
              <a:ext cx="756720" cy="36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Poppins"/>
                  <a:ea typeface="Poppins"/>
                </a:rPr>
                <a:t>SAT</a:t>
              </a:r>
              <a:endParaRPr b="0" lang="en-US" sz="1200" spc="-1" strike="noStrike">
                <a:solidFill>
                  <a:srgbClr val="000000"/>
                </a:solidFill>
                <a:latin typeface="Calibri"/>
              </a:endParaRPr>
            </a:p>
          </p:txBody>
        </p:sp>
        <p:sp>
          <p:nvSpPr>
            <p:cNvPr id="1708" name="Rectangle 74"/>
            <p:cNvSpPr/>
            <p:nvPr/>
          </p:nvSpPr>
          <p:spPr>
            <a:xfrm>
              <a:off x="6690960" y="2467080"/>
              <a:ext cx="756720" cy="67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Muli"/>
                  <a:ea typeface="Poppins"/>
                </a:rPr>
                <a:t>8</a:t>
              </a:r>
              <a:endParaRPr b="0" lang="en-US" sz="1200" spc="-1" strike="noStrike">
                <a:solidFill>
                  <a:srgbClr val="000000"/>
                </a:solidFill>
                <a:latin typeface="Calibri"/>
              </a:endParaRPr>
            </a:p>
          </p:txBody>
        </p:sp>
      </p:grpSp>
      <p:sp>
        <p:nvSpPr>
          <p:cNvPr id="1709" name="Rectangle: Rounded Corners 76"/>
          <p:cNvSpPr/>
          <p:nvPr/>
        </p:nvSpPr>
        <p:spPr>
          <a:xfrm flipH="1">
            <a:off x="817560" y="3484440"/>
            <a:ext cx="960480" cy="960480"/>
          </a:xfrm>
          <a:prstGeom prst="roundRect">
            <a:avLst>
              <a:gd name="adj" fmla="val 16667"/>
            </a:avLst>
          </a:prstGeom>
          <a:solidFill>
            <a:srgbClr val="d5b665"/>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0" name="Group 77"/>
          <p:cNvGrpSpPr/>
          <p:nvPr/>
        </p:nvGrpSpPr>
        <p:grpSpPr>
          <a:xfrm>
            <a:off x="860400" y="3627360"/>
            <a:ext cx="876240" cy="674280"/>
            <a:chOff x="860400" y="3627360"/>
            <a:chExt cx="876240" cy="674280"/>
          </a:xfrm>
        </p:grpSpPr>
        <p:sp>
          <p:nvSpPr>
            <p:cNvPr id="1711" name="TextBox 78"/>
            <p:cNvSpPr/>
            <p:nvPr/>
          </p:nvSpPr>
          <p:spPr>
            <a:xfrm>
              <a:off x="860400" y="3627360"/>
              <a:ext cx="876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oppins SemiBold"/>
                  <a:ea typeface="Poppins SemiBold"/>
                </a:rPr>
                <a:t>10</a:t>
              </a:r>
              <a:endParaRPr b="0" lang="en-US" sz="2600" spc="-1" strike="noStrike">
                <a:solidFill>
                  <a:srgbClr val="000000"/>
                </a:solidFill>
                <a:latin typeface="Calibri"/>
              </a:endParaRPr>
            </a:p>
          </p:txBody>
        </p:sp>
        <p:sp>
          <p:nvSpPr>
            <p:cNvPr id="1712" name="TextBox 79"/>
            <p:cNvSpPr/>
            <p:nvPr/>
          </p:nvSpPr>
          <p:spPr>
            <a:xfrm>
              <a:off x="860400" y="4009680"/>
              <a:ext cx="876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Poppins Medium"/>
                  <a:ea typeface="Poppins Medium"/>
                </a:rPr>
                <a:t>JUN</a:t>
              </a:r>
              <a:endParaRPr b="0" lang="en-US" sz="1300" spc="-1" strike="noStrike">
                <a:solidFill>
                  <a:srgbClr val="000000"/>
                </a:solidFill>
                <a:latin typeface="Calibri"/>
              </a:endParaRPr>
            </a:p>
          </p:txBody>
        </p:sp>
      </p:grpSp>
      <p:sp>
        <p:nvSpPr>
          <p:cNvPr id="1713" name="TextBox 81"/>
          <p:cNvSpPr/>
          <p:nvPr/>
        </p:nvSpPr>
        <p:spPr>
          <a:xfrm>
            <a:off x="1892160" y="3594240"/>
            <a:ext cx="1519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title here</a:t>
            </a:r>
            <a:endParaRPr b="0" lang="en-US" sz="1100" spc="-1" strike="noStrike">
              <a:solidFill>
                <a:srgbClr val="000000"/>
              </a:solidFill>
              <a:latin typeface="Calibri"/>
            </a:endParaRPr>
          </a:p>
        </p:txBody>
      </p:sp>
      <p:sp>
        <p:nvSpPr>
          <p:cNvPr id="1714" name="TextBox 82"/>
          <p:cNvSpPr/>
          <p:nvPr/>
        </p:nvSpPr>
        <p:spPr>
          <a:xfrm>
            <a:off x="1892160" y="3809880"/>
            <a:ext cx="21132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amet consectetur tempor minim</a:t>
            </a:r>
            <a:endParaRPr b="0" lang="en-US" sz="1100" spc="-1" strike="noStrike">
              <a:solidFill>
                <a:srgbClr val="000000"/>
              </a:solidFill>
              <a:latin typeface="Calibri"/>
            </a:endParaRPr>
          </a:p>
        </p:txBody>
      </p:sp>
      <p:sp>
        <p:nvSpPr>
          <p:cNvPr id="1715" name="Rectangle: Rounded Corners 84"/>
          <p:cNvSpPr/>
          <p:nvPr/>
        </p:nvSpPr>
        <p:spPr>
          <a:xfrm flipH="1">
            <a:off x="817560" y="4746600"/>
            <a:ext cx="960480" cy="960480"/>
          </a:xfrm>
          <a:prstGeom prst="roundRect">
            <a:avLst>
              <a:gd name="adj" fmla="val 16667"/>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6" name="Group 85"/>
          <p:cNvGrpSpPr/>
          <p:nvPr/>
        </p:nvGrpSpPr>
        <p:grpSpPr>
          <a:xfrm>
            <a:off x="860400" y="4889520"/>
            <a:ext cx="876240" cy="674280"/>
            <a:chOff x="860400" y="4889520"/>
            <a:chExt cx="876240" cy="674280"/>
          </a:xfrm>
        </p:grpSpPr>
        <p:sp>
          <p:nvSpPr>
            <p:cNvPr id="1717" name="TextBox 86"/>
            <p:cNvSpPr/>
            <p:nvPr/>
          </p:nvSpPr>
          <p:spPr>
            <a:xfrm>
              <a:off x="860400" y="4889520"/>
              <a:ext cx="876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23</a:t>
              </a:r>
              <a:endParaRPr b="0" lang="en-US" sz="2600" spc="-1" strike="noStrike">
                <a:solidFill>
                  <a:srgbClr val="000000"/>
                </a:solidFill>
                <a:latin typeface="Calibri"/>
              </a:endParaRPr>
            </a:p>
          </p:txBody>
        </p:sp>
        <p:sp>
          <p:nvSpPr>
            <p:cNvPr id="1718" name="TextBox 87"/>
            <p:cNvSpPr/>
            <p:nvPr/>
          </p:nvSpPr>
          <p:spPr>
            <a:xfrm>
              <a:off x="860400" y="5271840"/>
              <a:ext cx="876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Poppins Medium"/>
                  <a:ea typeface="Poppins Medium"/>
                </a:rPr>
                <a:t>JUN</a:t>
              </a:r>
              <a:endParaRPr b="0" lang="en-US" sz="1300" spc="-1" strike="noStrike">
                <a:solidFill>
                  <a:srgbClr val="000000"/>
                </a:solidFill>
                <a:latin typeface="Calibri"/>
              </a:endParaRPr>
            </a:p>
          </p:txBody>
        </p:sp>
      </p:grpSp>
      <p:sp>
        <p:nvSpPr>
          <p:cNvPr id="1719" name="TextBox 89"/>
          <p:cNvSpPr/>
          <p:nvPr/>
        </p:nvSpPr>
        <p:spPr>
          <a:xfrm>
            <a:off x="1892160" y="4856040"/>
            <a:ext cx="1519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title here</a:t>
            </a:r>
            <a:endParaRPr b="0" lang="en-US" sz="1100" spc="-1" strike="noStrike">
              <a:solidFill>
                <a:srgbClr val="000000"/>
              </a:solidFill>
              <a:latin typeface="Calibri"/>
            </a:endParaRPr>
          </a:p>
        </p:txBody>
      </p:sp>
      <p:sp>
        <p:nvSpPr>
          <p:cNvPr id="1720" name="TextBox 90"/>
          <p:cNvSpPr/>
          <p:nvPr/>
        </p:nvSpPr>
        <p:spPr>
          <a:xfrm>
            <a:off x="1892160" y="5072040"/>
            <a:ext cx="21132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amet consectetur tempor minim</a:t>
            </a:r>
            <a:endParaRPr b="0" lang="en-US" sz="1100" spc="-1" strike="noStrike">
              <a:solidFill>
                <a:srgbClr val="000000"/>
              </a:solidFill>
              <a:latin typeface="Calibri"/>
            </a:endParaRPr>
          </a:p>
        </p:txBody>
      </p:sp>
      <p:sp>
        <p:nvSpPr>
          <p:cNvPr id="1721" name="Rectangle: Rounded Corners 91"/>
          <p:cNvSpPr/>
          <p:nvPr/>
        </p:nvSpPr>
        <p:spPr>
          <a:xfrm flipH="1">
            <a:off x="817560" y="2206800"/>
            <a:ext cx="960480" cy="960120"/>
          </a:xfrm>
          <a:prstGeom prst="roundRect">
            <a:avLst>
              <a:gd name="adj" fmla="val 16667"/>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22" name="Group 92"/>
          <p:cNvGrpSpPr/>
          <p:nvPr/>
        </p:nvGrpSpPr>
        <p:grpSpPr>
          <a:xfrm>
            <a:off x="860400" y="2349360"/>
            <a:ext cx="876240" cy="674280"/>
            <a:chOff x="860400" y="2349360"/>
            <a:chExt cx="876240" cy="674280"/>
          </a:xfrm>
        </p:grpSpPr>
        <p:sp>
          <p:nvSpPr>
            <p:cNvPr id="1723" name="TextBox 93"/>
            <p:cNvSpPr/>
            <p:nvPr/>
          </p:nvSpPr>
          <p:spPr>
            <a:xfrm>
              <a:off x="860400" y="2349360"/>
              <a:ext cx="8762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05</a:t>
              </a:r>
              <a:endParaRPr b="0" lang="en-US" sz="2600" spc="-1" strike="noStrike">
                <a:solidFill>
                  <a:srgbClr val="000000"/>
                </a:solidFill>
                <a:latin typeface="Calibri"/>
              </a:endParaRPr>
            </a:p>
          </p:txBody>
        </p:sp>
        <p:sp>
          <p:nvSpPr>
            <p:cNvPr id="1724" name="TextBox 94"/>
            <p:cNvSpPr/>
            <p:nvPr/>
          </p:nvSpPr>
          <p:spPr>
            <a:xfrm>
              <a:off x="860400" y="2731680"/>
              <a:ext cx="876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Poppins Medium"/>
                  <a:ea typeface="Poppins Medium"/>
                </a:rPr>
                <a:t>JUN</a:t>
              </a:r>
              <a:endParaRPr b="0" lang="en-US" sz="1300" spc="-1" strike="noStrike">
                <a:solidFill>
                  <a:srgbClr val="000000"/>
                </a:solidFill>
                <a:latin typeface="Calibri"/>
              </a:endParaRPr>
            </a:p>
          </p:txBody>
        </p:sp>
      </p:grpSp>
      <p:sp>
        <p:nvSpPr>
          <p:cNvPr id="1725" name="TextBox 96"/>
          <p:cNvSpPr/>
          <p:nvPr/>
        </p:nvSpPr>
        <p:spPr>
          <a:xfrm>
            <a:off x="1892160" y="2316240"/>
            <a:ext cx="1519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title here</a:t>
            </a:r>
            <a:endParaRPr b="0" lang="en-US" sz="1100" spc="-1" strike="noStrike">
              <a:solidFill>
                <a:srgbClr val="000000"/>
              </a:solidFill>
              <a:latin typeface="Calibri"/>
            </a:endParaRPr>
          </a:p>
        </p:txBody>
      </p:sp>
      <p:sp>
        <p:nvSpPr>
          <p:cNvPr id="1726" name="TextBox 97"/>
          <p:cNvSpPr/>
          <p:nvPr/>
        </p:nvSpPr>
        <p:spPr>
          <a:xfrm>
            <a:off x="1892160" y="2532240"/>
            <a:ext cx="21132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amet consectetur tempor minim</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TextBox 18"/>
          <p:cNvSpPr/>
          <p:nvPr/>
        </p:nvSpPr>
        <p:spPr>
          <a:xfrm>
            <a:off x="952560" y="4533840"/>
            <a:ext cx="2152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oppins SemiBold"/>
                <a:ea typeface="Poppins SemiBold"/>
              </a:rPr>
              <a:t>Your title here</a:t>
            </a:r>
            <a:endParaRPr b="0" lang="en-US" sz="1300" spc="-1" strike="noStrike">
              <a:solidFill>
                <a:srgbClr val="000000"/>
              </a:solidFill>
              <a:latin typeface="Calibri"/>
            </a:endParaRPr>
          </a:p>
        </p:txBody>
      </p:sp>
      <p:sp>
        <p:nvSpPr>
          <p:cNvPr id="1728" name="Rectangle: Rounded Corners 50"/>
          <p:cNvSpPr/>
          <p:nvPr/>
        </p:nvSpPr>
        <p:spPr>
          <a:xfrm flipH="1">
            <a:off x="3905280" y="2641680"/>
            <a:ext cx="1541520" cy="1541520"/>
          </a:xfrm>
          <a:prstGeom prst="roundRect">
            <a:avLst>
              <a:gd name="adj" fmla="val 16667"/>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9" name="TextBox 19"/>
          <p:cNvSpPr/>
          <p:nvPr/>
        </p:nvSpPr>
        <p:spPr>
          <a:xfrm>
            <a:off x="952560" y="4827600"/>
            <a:ext cx="2152440" cy="1348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amet  esa consectetur elit sedesa tempor saesa incidie dunt dolore minim iam nostrud mesna interasas besesu</a:t>
            </a:r>
            <a:endParaRPr b="0" lang="en-US" sz="1100" spc="-1" strike="noStrike">
              <a:solidFill>
                <a:srgbClr val="000000"/>
              </a:solidFill>
              <a:latin typeface="Calibri"/>
            </a:endParaRPr>
          </a:p>
        </p:txBody>
      </p:sp>
      <p:grpSp>
        <p:nvGrpSpPr>
          <p:cNvPr id="1730" name="Group 47"/>
          <p:cNvGrpSpPr/>
          <p:nvPr/>
        </p:nvGrpSpPr>
        <p:grpSpPr>
          <a:xfrm>
            <a:off x="3986280" y="2944800"/>
            <a:ext cx="1412640" cy="934560"/>
            <a:chOff x="3986280" y="2944800"/>
            <a:chExt cx="1412640" cy="934560"/>
          </a:xfrm>
        </p:grpSpPr>
        <p:sp>
          <p:nvSpPr>
            <p:cNvPr id="1731" name="TextBox 21"/>
            <p:cNvSpPr/>
            <p:nvPr/>
          </p:nvSpPr>
          <p:spPr>
            <a:xfrm>
              <a:off x="4254840" y="2944800"/>
              <a:ext cx="875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b665"/>
                  </a:solidFill>
                  <a:latin typeface="Muli SemiBold"/>
                  <a:ea typeface="Poppins"/>
                </a:rPr>
                <a:t>27</a:t>
              </a:r>
              <a:endParaRPr b="0" lang="en-US" sz="4400" spc="-1" strike="noStrike">
                <a:solidFill>
                  <a:srgbClr val="000000"/>
                </a:solidFill>
                <a:latin typeface="Calibri"/>
              </a:endParaRPr>
            </a:p>
          </p:txBody>
        </p:sp>
        <p:sp>
          <p:nvSpPr>
            <p:cNvPr id="1732" name="TextBox 22"/>
            <p:cNvSpPr/>
            <p:nvPr/>
          </p:nvSpPr>
          <p:spPr>
            <a:xfrm>
              <a:off x="3986280" y="3618000"/>
              <a:ext cx="14126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AUGUST 2020</a:t>
              </a:r>
              <a:endParaRPr b="0" lang="en-US" sz="1100" spc="-1" strike="noStrike">
                <a:solidFill>
                  <a:srgbClr val="000000"/>
                </a:solidFill>
                <a:latin typeface="Calibri"/>
              </a:endParaRPr>
            </a:p>
          </p:txBody>
        </p:sp>
      </p:grpSp>
      <p:sp>
        <p:nvSpPr>
          <p:cNvPr id="1733" name="TextBox 23"/>
          <p:cNvSpPr/>
          <p:nvPr/>
        </p:nvSpPr>
        <p:spPr>
          <a:xfrm>
            <a:off x="3616200" y="4533840"/>
            <a:ext cx="2152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oppins SemiBold"/>
                <a:ea typeface="Poppins SemiBold"/>
              </a:rPr>
              <a:t>Your title here</a:t>
            </a:r>
            <a:endParaRPr b="0" lang="en-US" sz="1300" spc="-1" strike="noStrike">
              <a:solidFill>
                <a:srgbClr val="000000"/>
              </a:solidFill>
              <a:latin typeface="Calibri"/>
            </a:endParaRPr>
          </a:p>
        </p:txBody>
      </p:sp>
      <p:sp>
        <p:nvSpPr>
          <p:cNvPr id="1734" name="Rectangle: Rounded Corners 52"/>
          <p:cNvSpPr/>
          <p:nvPr/>
        </p:nvSpPr>
        <p:spPr>
          <a:xfrm flipH="1">
            <a:off x="6585840" y="2641680"/>
            <a:ext cx="1539720" cy="1541520"/>
          </a:xfrm>
          <a:custGeom>
            <a:avLst/>
            <a:gdLst>
              <a:gd name="textAreaLeft" fmla="*/ 74880 w 1539720"/>
              <a:gd name="textAreaRight" fmla="*/ 1464840 w 1539720"/>
              <a:gd name="textAreaTop" fmla="*/ 74880 h 1541520"/>
              <a:gd name="textAreaBottom" fmla="*/ 1466640 h 1541520"/>
            </a:gdLst>
            <a:ahLst/>
            <a:rect l="textAreaLeft" t="textAreaTop" r="textAreaRight" b="textAreaBottom"/>
            <a:pathLst>
              <a:path w="21600" h="21625">
                <a:moveTo>
                  <a:pt x="3600" y="0"/>
                </a:moveTo>
                <a:arcTo wR="3600" hR="3600" stAng="16200000" swAng="-5400000"/>
                <a:lnTo>
                  <a:pt x="0" y="18025"/>
                </a:lnTo>
                <a:arcTo wR="3600" hR="3600" stAng="10800000" swAng="-5400000"/>
                <a:lnTo>
                  <a:pt x="18000" y="21625"/>
                </a:lnTo>
                <a:arcTo wR="3600" hR="3600" stAng="5400000" swAng="-5400000"/>
                <a:lnTo>
                  <a:pt x="21600" y="3600"/>
                </a:lnTo>
                <a:arcTo wR="3600" hR="3600" stAng="0" swAng="-5400000"/>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5" name="TextBox 24"/>
          <p:cNvSpPr/>
          <p:nvPr/>
        </p:nvSpPr>
        <p:spPr>
          <a:xfrm>
            <a:off x="3616200" y="4827600"/>
            <a:ext cx="2152800" cy="1348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amet  esa consectetur elit sedesa tempor saesa incidie dunt dolore minim iam nostrud mesna interasas besesu</a:t>
            </a:r>
            <a:endParaRPr b="0" lang="en-US" sz="1100" spc="-1" strike="noStrike">
              <a:solidFill>
                <a:srgbClr val="000000"/>
              </a:solidFill>
              <a:latin typeface="Calibri"/>
            </a:endParaRPr>
          </a:p>
        </p:txBody>
      </p:sp>
      <p:grpSp>
        <p:nvGrpSpPr>
          <p:cNvPr id="1736" name="Group 48"/>
          <p:cNvGrpSpPr/>
          <p:nvPr/>
        </p:nvGrpSpPr>
        <p:grpSpPr>
          <a:xfrm>
            <a:off x="6380280" y="2944800"/>
            <a:ext cx="1952640" cy="934560"/>
            <a:chOff x="6380280" y="2944800"/>
            <a:chExt cx="1952640" cy="934560"/>
          </a:xfrm>
        </p:grpSpPr>
        <p:sp>
          <p:nvSpPr>
            <p:cNvPr id="1737" name="TextBox 32"/>
            <p:cNvSpPr/>
            <p:nvPr/>
          </p:nvSpPr>
          <p:spPr>
            <a:xfrm>
              <a:off x="6918120" y="2944800"/>
              <a:ext cx="8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b665"/>
                  </a:solidFill>
                  <a:latin typeface="Muli SemiBold"/>
                  <a:ea typeface="Poppins"/>
                </a:rPr>
                <a:t>05</a:t>
              </a:r>
              <a:endParaRPr b="0" lang="en-US" sz="4400" spc="-1" strike="noStrike">
                <a:solidFill>
                  <a:srgbClr val="000000"/>
                </a:solidFill>
                <a:latin typeface="Calibri"/>
              </a:endParaRPr>
            </a:p>
          </p:txBody>
        </p:sp>
        <p:sp>
          <p:nvSpPr>
            <p:cNvPr id="1738" name="TextBox 33"/>
            <p:cNvSpPr/>
            <p:nvPr/>
          </p:nvSpPr>
          <p:spPr>
            <a:xfrm>
              <a:off x="6380280" y="3618000"/>
              <a:ext cx="19526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OCTOBER 2020</a:t>
              </a:r>
              <a:endParaRPr b="0" lang="en-US" sz="1100" spc="-1" strike="noStrike">
                <a:solidFill>
                  <a:srgbClr val="000000"/>
                </a:solidFill>
                <a:latin typeface="Calibri"/>
              </a:endParaRPr>
            </a:p>
          </p:txBody>
        </p:sp>
      </p:grpSp>
      <p:sp>
        <p:nvSpPr>
          <p:cNvPr id="1739" name="TextBox 34"/>
          <p:cNvSpPr/>
          <p:nvPr/>
        </p:nvSpPr>
        <p:spPr>
          <a:xfrm>
            <a:off x="6280200" y="4533840"/>
            <a:ext cx="2152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oppins SemiBold"/>
                <a:ea typeface="Poppins SemiBold"/>
              </a:rPr>
              <a:t>Your title here</a:t>
            </a:r>
            <a:endParaRPr b="0" lang="en-US" sz="1300" spc="-1" strike="noStrike">
              <a:solidFill>
                <a:srgbClr val="000000"/>
              </a:solidFill>
              <a:latin typeface="Calibri"/>
            </a:endParaRPr>
          </a:p>
        </p:txBody>
      </p:sp>
      <p:sp>
        <p:nvSpPr>
          <p:cNvPr id="1740" name="Rectangle: Rounded Corners 53"/>
          <p:cNvSpPr/>
          <p:nvPr/>
        </p:nvSpPr>
        <p:spPr>
          <a:xfrm flipH="1">
            <a:off x="9250200" y="2641680"/>
            <a:ext cx="1540080" cy="1541520"/>
          </a:xfrm>
          <a:custGeom>
            <a:avLst/>
            <a:gdLst>
              <a:gd name="textAreaLeft" fmla="*/ 74880 w 1540080"/>
              <a:gd name="textAreaRight" fmla="*/ 1465200 w 1540080"/>
              <a:gd name="textAreaTop" fmla="*/ 74880 h 1541520"/>
              <a:gd name="textAreaBottom" fmla="*/ 1466640 h 1541520"/>
            </a:gdLst>
            <a:ahLst/>
            <a:rect l="textAreaLeft" t="textAreaTop" r="textAreaRight" b="textAreaBottom"/>
            <a:pathLst>
              <a:path w="21600" h="21620">
                <a:moveTo>
                  <a:pt x="3600" y="0"/>
                </a:moveTo>
                <a:arcTo wR="3600" hR="3600" stAng="16200000" swAng="-5400000"/>
                <a:lnTo>
                  <a:pt x="0" y="18020"/>
                </a:lnTo>
                <a:arcTo wR="3600" hR="3600" stAng="10800000" swAng="-5400000"/>
                <a:lnTo>
                  <a:pt x="18000" y="21620"/>
                </a:lnTo>
                <a:arcTo wR="3600" hR="3600" stAng="5400000" swAng="-5400000"/>
                <a:lnTo>
                  <a:pt x="21600" y="3600"/>
                </a:lnTo>
                <a:arcTo wR="3600" hR="3600" stAng="0" swAng="-5400000"/>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1" name="TextBox 35"/>
          <p:cNvSpPr/>
          <p:nvPr/>
        </p:nvSpPr>
        <p:spPr>
          <a:xfrm>
            <a:off x="6280200" y="4827600"/>
            <a:ext cx="2152440" cy="1348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amet  esa consectetur elit sedesa tempor saesa incidie dunt dolore minim iam nostrud mesna interasas besesu</a:t>
            </a:r>
            <a:endParaRPr b="0" lang="en-US" sz="1100" spc="-1" strike="noStrike">
              <a:solidFill>
                <a:srgbClr val="000000"/>
              </a:solidFill>
              <a:latin typeface="Calibri"/>
            </a:endParaRPr>
          </a:p>
        </p:txBody>
      </p:sp>
      <p:grpSp>
        <p:nvGrpSpPr>
          <p:cNvPr id="1742" name="Group 49"/>
          <p:cNvGrpSpPr/>
          <p:nvPr/>
        </p:nvGrpSpPr>
        <p:grpSpPr>
          <a:xfrm>
            <a:off x="9067680" y="2944800"/>
            <a:ext cx="1905120" cy="934560"/>
            <a:chOff x="9067680" y="2944800"/>
            <a:chExt cx="1905120" cy="934560"/>
          </a:xfrm>
        </p:grpSpPr>
        <p:sp>
          <p:nvSpPr>
            <p:cNvPr id="1743" name="TextBox 37"/>
            <p:cNvSpPr/>
            <p:nvPr/>
          </p:nvSpPr>
          <p:spPr>
            <a:xfrm>
              <a:off x="9582120" y="2944800"/>
              <a:ext cx="876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b665"/>
                  </a:solidFill>
                  <a:latin typeface="Muli SemiBold"/>
                  <a:ea typeface="Poppins"/>
                </a:rPr>
                <a:t>29</a:t>
              </a:r>
              <a:endParaRPr b="0" lang="en-US" sz="4400" spc="-1" strike="noStrike">
                <a:solidFill>
                  <a:srgbClr val="000000"/>
                </a:solidFill>
                <a:latin typeface="Calibri"/>
              </a:endParaRPr>
            </a:p>
          </p:txBody>
        </p:sp>
        <p:sp>
          <p:nvSpPr>
            <p:cNvPr id="1744" name="TextBox 38"/>
            <p:cNvSpPr/>
            <p:nvPr/>
          </p:nvSpPr>
          <p:spPr>
            <a:xfrm>
              <a:off x="9067680" y="3618000"/>
              <a:ext cx="1905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DECEMBER 2020</a:t>
              </a:r>
              <a:endParaRPr b="0" lang="en-US" sz="1100" spc="-1" strike="noStrike">
                <a:solidFill>
                  <a:srgbClr val="000000"/>
                </a:solidFill>
                <a:latin typeface="Calibri"/>
              </a:endParaRPr>
            </a:p>
          </p:txBody>
        </p:sp>
      </p:grpSp>
      <p:sp>
        <p:nvSpPr>
          <p:cNvPr id="1745" name="TextBox 39"/>
          <p:cNvSpPr/>
          <p:nvPr/>
        </p:nvSpPr>
        <p:spPr>
          <a:xfrm>
            <a:off x="8943840" y="4533840"/>
            <a:ext cx="2152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oppins SemiBold"/>
                <a:ea typeface="Poppins SemiBold"/>
              </a:rPr>
              <a:t>Your title here</a:t>
            </a:r>
            <a:endParaRPr b="0" lang="en-US" sz="1300" spc="-1" strike="noStrike">
              <a:solidFill>
                <a:srgbClr val="000000"/>
              </a:solidFill>
              <a:latin typeface="Calibri"/>
            </a:endParaRPr>
          </a:p>
        </p:txBody>
      </p:sp>
      <p:sp>
        <p:nvSpPr>
          <p:cNvPr id="1746" name="TextBox 40"/>
          <p:cNvSpPr/>
          <p:nvPr/>
        </p:nvSpPr>
        <p:spPr>
          <a:xfrm>
            <a:off x="8943840" y="4827600"/>
            <a:ext cx="2152800" cy="1348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amet  esa consectetur elit sedesa tempor saesa incidie dunt dolore minim iam nostrud mesna interasas besesu</a:t>
            </a:r>
            <a:endParaRPr b="0" lang="en-US" sz="1100" spc="-1" strike="noStrike">
              <a:solidFill>
                <a:srgbClr val="000000"/>
              </a:solidFill>
              <a:latin typeface="Calibri"/>
            </a:endParaRPr>
          </a:p>
        </p:txBody>
      </p:sp>
      <p:sp>
        <p:nvSpPr>
          <p:cNvPr id="1747" name="TextBox 1"/>
          <p:cNvSpPr/>
          <p:nvPr/>
        </p:nvSpPr>
        <p:spPr>
          <a:xfrm>
            <a:off x="3959280" y="1387440"/>
            <a:ext cx="4273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oppins SemiBold"/>
                <a:ea typeface="Poppins SemiBold"/>
              </a:rPr>
              <a:t>Upcoming Events</a:t>
            </a:r>
            <a:endParaRPr b="0" lang="en-US" sz="2600" spc="-1" strike="noStrike">
              <a:solidFill>
                <a:srgbClr val="000000"/>
              </a:solidFill>
              <a:latin typeface="Calibri"/>
            </a:endParaRPr>
          </a:p>
        </p:txBody>
      </p:sp>
      <p:sp>
        <p:nvSpPr>
          <p:cNvPr id="1748" name="Rectangle: Rounded Corners 51"/>
          <p:cNvSpPr/>
          <p:nvPr/>
        </p:nvSpPr>
        <p:spPr>
          <a:xfrm flipH="1">
            <a:off x="1280520" y="2641680"/>
            <a:ext cx="1541160" cy="1541520"/>
          </a:xfrm>
          <a:custGeom>
            <a:avLst/>
            <a:gdLst>
              <a:gd name="textAreaLeft" fmla="*/ 75240 w 1541160"/>
              <a:gd name="textAreaRight" fmla="*/ 1465920 w 1541160"/>
              <a:gd name="textAreaTop" fmla="*/ 75240 h 1541520"/>
              <a:gd name="textAreaBottom" fmla="*/ 1466280 h 1541520"/>
            </a:gdLst>
            <a:ahLst/>
            <a:rect l="textAreaLeft" t="textAreaTop" r="textAreaRight" b="textAreaBottom"/>
            <a:pathLst>
              <a:path w="21600" h="21605">
                <a:moveTo>
                  <a:pt x="3600" y="0"/>
                </a:moveTo>
                <a:arcTo wR="3600" hR="3600" stAng="16200000" swAng="-5400000"/>
                <a:lnTo>
                  <a:pt x="0" y="18005"/>
                </a:lnTo>
                <a:arcTo wR="3600" hR="3600" stAng="10800000" swAng="-5400000"/>
                <a:lnTo>
                  <a:pt x="18000" y="21605"/>
                </a:lnTo>
                <a:arcTo wR="3600" hR="3600" stAng="5400000" swAng="-5400000"/>
                <a:lnTo>
                  <a:pt x="21600" y="3600"/>
                </a:lnTo>
                <a:arcTo wR="3600" hR="3600" stAng="0" swAng="-5400000"/>
                <a:close/>
              </a:path>
            </a:pathLst>
          </a:cu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9" name="TextBox 2"/>
          <p:cNvSpPr/>
          <p:nvPr/>
        </p:nvSpPr>
        <p:spPr>
          <a:xfrm>
            <a:off x="4702320" y="1084320"/>
            <a:ext cx="2787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Medium"/>
                <a:ea typeface="Poppins Medium"/>
              </a:rPr>
              <a:t>GOLFERINA CALENDAR</a:t>
            </a:r>
            <a:endParaRPr b="0" lang="en-US" sz="1100" spc="-1" strike="noStrike">
              <a:solidFill>
                <a:srgbClr val="000000"/>
              </a:solidFill>
              <a:latin typeface="Calibri"/>
            </a:endParaRPr>
          </a:p>
        </p:txBody>
      </p:sp>
      <p:grpSp>
        <p:nvGrpSpPr>
          <p:cNvPr id="1750" name="Group 46"/>
          <p:cNvGrpSpPr/>
          <p:nvPr/>
        </p:nvGrpSpPr>
        <p:grpSpPr>
          <a:xfrm>
            <a:off x="1322280" y="2944800"/>
            <a:ext cx="1413000" cy="934560"/>
            <a:chOff x="1322280" y="2944800"/>
            <a:chExt cx="1413000" cy="934560"/>
          </a:xfrm>
        </p:grpSpPr>
        <p:sp>
          <p:nvSpPr>
            <p:cNvPr id="1751" name="TextBox 14"/>
            <p:cNvSpPr/>
            <p:nvPr/>
          </p:nvSpPr>
          <p:spPr>
            <a:xfrm>
              <a:off x="1590840" y="2944800"/>
              <a:ext cx="875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b665"/>
                  </a:solidFill>
                  <a:latin typeface="Muli SemiBold"/>
                  <a:ea typeface="Poppins"/>
                </a:rPr>
                <a:t>10</a:t>
              </a:r>
              <a:endParaRPr b="0" lang="en-US" sz="4400" spc="-1" strike="noStrike">
                <a:solidFill>
                  <a:srgbClr val="000000"/>
                </a:solidFill>
                <a:latin typeface="Calibri"/>
              </a:endParaRPr>
            </a:p>
          </p:txBody>
        </p:sp>
        <p:sp>
          <p:nvSpPr>
            <p:cNvPr id="1752" name="TextBox 15"/>
            <p:cNvSpPr/>
            <p:nvPr/>
          </p:nvSpPr>
          <p:spPr>
            <a:xfrm>
              <a:off x="1322280" y="3618000"/>
              <a:ext cx="1413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JULY 2020</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3" name="Picture 1" descr=""/>
          <p:cNvPicPr/>
          <p:nvPr/>
        </p:nvPicPr>
        <p:blipFill>
          <a:blip r:embed="rId1"/>
          <a:stretch/>
        </p:blipFill>
        <p:spPr>
          <a:xfrm>
            <a:off x="2952720" y="2190600"/>
            <a:ext cx="6286680" cy="3498840"/>
          </a:xfrm>
          <a:prstGeom prst="rect">
            <a:avLst/>
          </a:prstGeom>
          <a:ln w="0">
            <a:noFill/>
          </a:ln>
        </p:spPr>
      </p:pic>
      <p:sp>
        <p:nvSpPr>
          <p:cNvPr id="1754" name="TextBox 2"/>
          <p:cNvSpPr/>
          <p:nvPr/>
        </p:nvSpPr>
        <p:spPr>
          <a:xfrm>
            <a:off x="4089240" y="765000"/>
            <a:ext cx="40132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Enjoy the Ultimate Golf Experience</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5" name="Speech Bubble: Rectangle 9"/>
          <p:cNvSpPr/>
          <p:nvPr/>
        </p:nvSpPr>
        <p:spPr>
          <a:xfrm>
            <a:off x="698400" y="1530360"/>
            <a:ext cx="2463840" cy="1285920"/>
          </a:xfrm>
          <a:prstGeom prst="wedgeRectCallout">
            <a:avLst>
              <a:gd name="adj1" fmla="val 63402"/>
              <a:gd name="adj2" fmla="val 35300"/>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56" name="Group 10"/>
          <p:cNvGrpSpPr/>
          <p:nvPr/>
        </p:nvGrpSpPr>
        <p:grpSpPr>
          <a:xfrm>
            <a:off x="922320" y="1787400"/>
            <a:ext cx="2030400" cy="1046160"/>
            <a:chOff x="922320" y="1787400"/>
            <a:chExt cx="2030400" cy="1046160"/>
          </a:xfrm>
        </p:grpSpPr>
        <p:sp>
          <p:nvSpPr>
            <p:cNvPr id="1757" name="TextBox 11"/>
            <p:cNvSpPr/>
            <p:nvPr/>
          </p:nvSpPr>
          <p:spPr>
            <a:xfrm>
              <a:off x="922320" y="1986840"/>
              <a:ext cx="2030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Poppins Medium"/>
                </a:rPr>
                <a:t>Duis aute irure dolor in esse cillum dolore eu fugiat nulla</a:t>
              </a:r>
              <a:endParaRPr b="0" lang="en-US" sz="1100" spc="-1" strike="noStrike">
                <a:solidFill>
                  <a:srgbClr val="000000"/>
                </a:solidFill>
                <a:latin typeface="Calibri"/>
              </a:endParaRPr>
            </a:p>
          </p:txBody>
        </p:sp>
        <p:sp>
          <p:nvSpPr>
            <p:cNvPr id="1758" name="TextBox 12"/>
            <p:cNvSpPr/>
            <p:nvPr/>
          </p:nvSpPr>
          <p:spPr>
            <a:xfrm>
              <a:off x="922320" y="1787400"/>
              <a:ext cx="203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01. EXPLORE</a:t>
              </a:r>
              <a:endParaRPr b="0" lang="en-US" sz="1100" spc="-1" strike="noStrike">
                <a:solidFill>
                  <a:srgbClr val="000000"/>
                </a:solidFill>
                <a:latin typeface="Calibri"/>
              </a:endParaRPr>
            </a:p>
          </p:txBody>
        </p:sp>
      </p:grpSp>
      <p:sp>
        <p:nvSpPr>
          <p:cNvPr id="1759" name="Speech Bubble: Rectangle 13"/>
          <p:cNvSpPr/>
          <p:nvPr/>
        </p:nvSpPr>
        <p:spPr>
          <a:xfrm flipH="1">
            <a:off x="9029160" y="2173320"/>
            <a:ext cx="2463480" cy="1285920"/>
          </a:xfrm>
          <a:prstGeom prst="wedgeRectCallout">
            <a:avLst>
              <a:gd name="adj1" fmla="val 63402"/>
              <a:gd name="adj2" fmla="val 35300"/>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60" name="Group 14"/>
          <p:cNvGrpSpPr/>
          <p:nvPr/>
        </p:nvGrpSpPr>
        <p:grpSpPr>
          <a:xfrm>
            <a:off x="9253440" y="2432160"/>
            <a:ext cx="2030400" cy="1046160"/>
            <a:chOff x="9253440" y="2432160"/>
            <a:chExt cx="2030400" cy="1046160"/>
          </a:xfrm>
        </p:grpSpPr>
        <p:sp>
          <p:nvSpPr>
            <p:cNvPr id="1761" name="TextBox 15"/>
            <p:cNvSpPr/>
            <p:nvPr/>
          </p:nvSpPr>
          <p:spPr>
            <a:xfrm>
              <a:off x="9253440" y="2631600"/>
              <a:ext cx="2030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Poppins Medium"/>
                </a:rPr>
                <a:t>Duis aute irure dolor in esse cillum dolore eu fugiat nulla</a:t>
              </a:r>
              <a:endParaRPr b="0" lang="en-US" sz="1100" spc="-1" strike="noStrike">
                <a:solidFill>
                  <a:srgbClr val="000000"/>
                </a:solidFill>
                <a:latin typeface="Calibri"/>
              </a:endParaRPr>
            </a:p>
          </p:txBody>
        </p:sp>
        <p:sp>
          <p:nvSpPr>
            <p:cNvPr id="1762" name="TextBox 16"/>
            <p:cNvSpPr/>
            <p:nvPr/>
          </p:nvSpPr>
          <p:spPr>
            <a:xfrm>
              <a:off x="9253440" y="2432160"/>
              <a:ext cx="203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03. PLAY THE GAME</a:t>
              </a:r>
              <a:endParaRPr b="0" lang="en-US" sz="1100" spc="-1" strike="noStrike">
                <a:solidFill>
                  <a:srgbClr val="000000"/>
                </a:solidFill>
                <a:latin typeface="Calibri"/>
              </a:endParaRPr>
            </a:p>
          </p:txBody>
        </p:sp>
      </p:grpSp>
      <p:grpSp>
        <p:nvGrpSpPr>
          <p:cNvPr id="1763" name="Group 24"/>
          <p:cNvGrpSpPr/>
          <p:nvPr/>
        </p:nvGrpSpPr>
        <p:grpSpPr>
          <a:xfrm>
            <a:off x="1368360" y="4910040"/>
            <a:ext cx="2463840" cy="1305000"/>
            <a:chOff x="1368360" y="4910040"/>
            <a:chExt cx="2463840" cy="1305000"/>
          </a:xfrm>
        </p:grpSpPr>
        <p:sp>
          <p:nvSpPr>
            <p:cNvPr id="1764" name="Speech Bubble: Rectangle 17"/>
            <p:cNvSpPr/>
            <p:nvPr/>
          </p:nvSpPr>
          <p:spPr>
            <a:xfrm>
              <a:off x="1368360" y="4910040"/>
              <a:ext cx="2463840" cy="1287720"/>
            </a:xfrm>
            <a:prstGeom prst="wedgeRectCallout">
              <a:avLst>
                <a:gd name="adj1" fmla="val 65171"/>
                <a:gd name="adj2" fmla="val -37796"/>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65" name="Group 18"/>
            <p:cNvGrpSpPr/>
            <p:nvPr/>
          </p:nvGrpSpPr>
          <p:grpSpPr>
            <a:xfrm>
              <a:off x="1592640" y="5168520"/>
              <a:ext cx="2030040" cy="1046520"/>
              <a:chOff x="1592640" y="5168520"/>
              <a:chExt cx="2030040" cy="1046520"/>
            </a:xfrm>
          </p:grpSpPr>
          <p:sp>
            <p:nvSpPr>
              <p:cNvPr id="1766" name="TextBox 19"/>
              <p:cNvSpPr/>
              <p:nvPr/>
            </p:nvSpPr>
            <p:spPr>
              <a:xfrm>
                <a:off x="1592640" y="5368320"/>
                <a:ext cx="20300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Poppins Medium"/>
                  </a:rPr>
                  <a:t>Duis aute irure dolor in esse cillum dolore eu fugiat nulla</a:t>
                </a:r>
                <a:endParaRPr b="0" lang="en-US" sz="1100" spc="-1" strike="noStrike">
                  <a:solidFill>
                    <a:srgbClr val="000000"/>
                  </a:solidFill>
                  <a:latin typeface="Calibri"/>
                </a:endParaRPr>
              </a:p>
            </p:txBody>
          </p:sp>
          <p:sp>
            <p:nvSpPr>
              <p:cNvPr id="1767" name="TextBox 20"/>
              <p:cNvSpPr/>
              <p:nvPr/>
            </p:nvSpPr>
            <p:spPr>
              <a:xfrm>
                <a:off x="1592640" y="5168520"/>
                <a:ext cx="203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02. COACHING </a:t>
                </a:r>
                <a:endParaRPr b="0" lang="en-US" sz="11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8" name="Picture 2" descr=""/>
          <p:cNvPicPr/>
          <p:nvPr/>
        </p:nvPicPr>
        <p:blipFill>
          <a:blip r:embed="rId1"/>
          <a:srcRect l="0" t="12755" r="0" b="2041"/>
          <a:stretch/>
        </p:blipFill>
        <p:spPr>
          <a:xfrm>
            <a:off x="3346560" y="817560"/>
            <a:ext cx="5499000" cy="4535640"/>
          </a:xfrm>
          <a:prstGeom prst="rect">
            <a:avLst/>
          </a:prstGeom>
          <a:ln w="0">
            <a:noFill/>
          </a:ln>
        </p:spPr>
      </p:pic>
      <p:sp>
        <p:nvSpPr>
          <p:cNvPr id="1769" name="TextBox 5"/>
          <p:cNvSpPr/>
          <p:nvPr/>
        </p:nvSpPr>
        <p:spPr>
          <a:xfrm>
            <a:off x="3618000" y="5470560"/>
            <a:ext cx="49561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Poppins Medium"/>
              </a:rPr>
              <a:t>Lorem ipsum dolor sit amet consectetur adipiscing elit sed do eiusmod tempor incididunt ut labore et dolore magna aliqua. </a:t>
            </a:r>
            <a:endParaRPr b="0" lang="en-US" sz="1100" spc="-1" strike="noStrike">
              <a:solidFill>
                <a:srgbClr val="000000"/>
              </a:solidFill>
              <a:latin typeface="Calibri"/>
            </a:endParaRPr>
          </a:p>
        </p:txBody>
      </p:sp>
      <p:sp>
        <p:nvSpPr>
          <p:cNvPr id="1770" name="Oval 66"/>
          <p:cNvSpPr/>
          <p:nvPr/>
        </p:nvSpPr>
        <p:spPr>
          <a:xfrm>
            <a:off x="1565280" y="914400"/>
            <a:ext cx="1019160" cy="1017720"/>
          </a:xfrm>
          <a:prstGeom prst="ellipse">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1" name="Oval 67"/>
          <p:cNvSpPr/>
          <p:nvPr/>
        </p:nvSpPr>
        <p:spPr>
          <a:xfrm>
            <a:off x="890640" y="2576520"/>
            <a:ext cx="1019160" cy="1017720"/>
          </a:xfrm>
          <a:prstGeom prst="ellipse">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2" name="Oval 68"/>
          <p:cNvSpPr/>
          <p:nvPr/>
        </p:nvSpPr>
        <p:spPr>
          <a:xfrm>
            <a:off x="1565280" y="4237200"/>
            <a:ext cx="1019160" cy="1019160"/>
          </a:xfrm>
          <a:prstGeom prst="ellipse">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3" name="Oval 71"/>
          <p:cNvSpPr/>
          <p:nvPr/>
        </p:nvSpPr>
        <p:spPr>
          <a:xfrm flipH="1">
            <a:off x="9606960" y="914400"/>
            <a:ext cx="1019160" cy="1017720"/>
          </a:xfrm>
          <a:prstGeom prst="ellipse">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4" name="Oval 72"/>
          <p:cNvSpPr/>
          <p:nvPr/>
        </p:nvSpPr>
        <p:spPr>
          <a:xfrm flipH="1">
            <a:off x="10281600" y="2576520"/>
            <a:ext cx="1019160" cy="1017720"/>
          </a:xfrm>
          <a:prstGeom prst="ellipse">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5" name="Oval 73"/>
          <p:cNvSpPr/>
          <p:nvPr/>
        </p:nvSpPr>
        <p:spPr>
          <a:xfrm flipH="1">
            <a:off x="9606960" y="4237200"/>
            <a:ext cx="1019160" cy="1019160"/>
          </a:xfrm>
          <a:prstGeom prst="ellipse">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6" name="Graphic 18" descr="Ribbon"/>
          <p:cNvPicPr/>
          <p:nvPr/>
        </p:nvPicPr>
        <p:blipFill>
          <a:blip r:embed="rId2"/>
          <a:stretch/>
        </p:blipFill>
        <p:spPr>
          <a:xfrm>
            <a:off x="1892160" y="1168560"/>
            <a:ext cx="355680" cy="495000"/>
          </a:xfrm>
          <a:prstGeom prst="rect">
            <a:avLst/>
          </a:prstGeom>
          <a:ln w="0">
            <a:noFill/>
          </a:ln>
        </p:spPr>
      </p:pic>
      <p:pic>
        <p:nvPicPr>
          <p:cNvPr id="1777" name="Graphic 10" descr="Golf"/>
          <p:cNvPicPr/>
          <p:nvPr/>
        </p:nvPicPr>
        <p:blipFill>
          <a:blip r:embed="rId3"/>
          <a:stretch/>
        </p:blipFill>
        <p:spPr>
          <a:xfrm>
            <a:off x="1257480" y="2832120"/>
            <a:ext cx="266400" cy="495360"/>
          </a:xfrm>
          <a:prstGeom prst="rect">
            <a:avLst/>
          </a:prstGeom>
          <a:ln w="0">
            <a:noFill/>
          </a:ln>
        </p:spPr>
      </p:pic>
      <p:pic>
        <p:nvPicPr>
          <p:cNvPr id="1778" name="Graphic 16" descr="Harvey Balls 35%"/>
          <p:cNvPicPr/>
          <p:nvPr/>
        </p:nvPicPr>
        <p:blipFill>
          <a:blip r:embed="rId4"/>
          <a:stretch/>
        </p:blipFill>
        <p:spPr>
          <a:xfrm>
            <a:off x="9906120" y="1219320"/>
            <a:ext cx="419040" cy="406440"/>
          </a:xfrm>
          <a:prstGeom prst="rect">
            <a:avLst/>
          </a:prstGeom>
          <a:ln w="0">
            <a:noFill/>
          </a:ln>
        </p:spPr>
      </p:pic>
      <p:sp>
        <p:nvSpPr>
          <p:cNvPr id="1779" name="Graphic 20"/>
          <p:cNvSpPr/>
          <p:nvPr/>
        </p:nvSpPr>
        <p:spPr>
          <a:xfrm>
            <a:off x="10601280" y="2863800"/>
            <a:ext cx="380880" cy="441360"/>
          </a:xfrm>
          <a:custGeom>
            <a:avLst/>
            <a:gdLst/>
            <a:ahLst/>
            <a:rect l="l" t="t" r="r" b="b"/>
            <a:pathLst>
              <a:path w="649528" h="752475">
                <a:moveTo>
                  <a:pt x="533400" y="62551"/>
                </a:moveTo>
                <a:lnTo>
                  <a:pt x="533400" y="0"/>
                </a:lnTo>
                <a:lnTo>
                  <a:pt x="114300" y="0"/>
                </a:lnTo>
                <a:lnTo>
                  <a:pt x="114300" y="62551"/>
                </a:lnTo>
                <a:lnTo>
                  <a:pt x="0" y="62551"/>
                </a:lnTo>
                <a:lnTo>
                  <a:pt x="0" y="255908"/>
                </a:lnTo>
                <a:cubicBezTo>
                  <a:pt x="505" y="304067"/>
                  <a:pt x="19289" y="350235"/>
                  <a:pt x="52549" y="385067"/>
                </a:cubicBezTo>
                <a:cubicBezTo>
                  <a:pt x="104213" y="438626"/>
                  <a:pt x="165564" y="463039"/>
                  <a:pt x="256908" y="466392"/>
                </a:cubicBezTo>
                <a:lnTo>
                  <a:pt x="264947" y="475450"/>
                </a:lnTo>
                <a:cubicBezTo>
                  <a:pt x="275179" y="486450"/>
                  <a:pt x="282065" y="500139"/>
                  <a:pt x="284798" y="514912"/>
                </a:cubicBezTo>
                <a:cubicBezTo>
                  <a:pt x="285456" y="519195"/>
                  <a:pt x="285774" y="523524"/>
                  <a:pt x="285750" y="527856"/>
                </a:cubicBezTo>
                <a:lnTo>
                  <a:pt x="285750" y="638175"/>
                </a:lnTo>
                <a:lnTo>
                  <a:pt x="247650" y="638175"/>
                </a:lnTo>
                <a:cubicBezTo>
                  <a:pt x="221360" y="638206"/>
                  <a:pt x="200056" y="659510"/>
                  <a:pt x="200025" y="685800"/>
                </a:cubicBezTo>
                <a:lnTo>
                  <a:pt x="171450" y="685800"/>
                </a:lnTo>
                <a:cubicBezTo>
                  <a:pt x="145173" y="685863"/>
                  <a:pt x="123888" y="707148"/>
                  <a:pt x="123825" y="733425"/>
                </a:cubicBezTo>
                <a:lnTo>
                  <a:pt x="123825" y="752475"/>
                </a:lnTo>
                <a:lnTo>
                  <a:pt x="523875" y="752475"/>
                </a:lnTo>
                <a:lnTo>
                  <a:pt x="523875" y="733425"/>
                </a:lnTo>
                <a:cubicBezTo>
                  <a:pt x="523827" y="707142"/>
                  <a:pt x="502533" y="685848"/>
                  <a:pt x="476250" y="685800"/>
                </a:cubicBezTo>
                <a:lnTo>
                  <a:pt x="447675" y="685800"/>
                </a:lnTo>
                <a:cubicBezTo>
                  <a:pt x="447644" y="659510"/>
                  <a:pt x="426340" y="638206"/>
                  <a:pt x="400050" y="638175"/>
                </a:cubicBezTo>
                <a:lnTo>
                  <a:pt x="361950" y="638175"/>
                </a:lnTo>
                <a:lnTo>
                  <a:pt x="361950" y="528809"/>
                </a:lnTo>
                <a:cubicBezTo>
                  <a:pt x="361949" y="522327"/>
                  <a:pt x="362720" y="515868"/>
                  <a:pt x="364246" y="509568"/>
                </a:cubicBezTo>
                <a:cubicBezTo>
                  <a:pt x="367438" y="497482"/>
                  <a:pt x="373514" y="486349"/>
                  <a:pt x="381953" y="477126"/>
                </a:cubicBezTo>
                <a:lnTo>
                  <a:pt x="391297" y="466411"/>
                </a:lnTo>
                <a:cubicBezTo>
                  <a:pt x="483365" y="463248"/>
                  <a:pt x="545106" y="438788"/>
                  <a:pt x="597037" y="384981"/>
                </a:cubicBezTo>
                <a:cubicBezTo>
                  <a:pt x="630267" y="350158"/>
                  <a:pt x="649031" y="304012"/>
                  <a:pt x="649529" y="255880"/>
                </a:cubicBezTo>
                <a:lnTo>
                  <a:pt x="649529" y="62522"/>
                </a:lnTo>
                <a:lnTo>
                  <a:pt x="533400" y="62551"/>
                </a:lnTo>
                <a:close/>
                <a:moveTo>
                  <a:pt x="66313" y="371866"/>
                </a:moveTo>
                <a:cubicBezTo>
                  <a:pt x="36646" y="340450"/>
                  <a:pt x="19789" y="299083"/>
                  <a:pt x="19050" y="255880"/>
                </a:cubicBezTo>
                <a:lnTo>
                  <a:pt x="19050" y="81572"/>
                </a:lnTo>
                <a:lnTo>
                  <a:pt x="114300" y="81572"/>
                </a:lnTo>
                <a:lnTo>
                  <a:pt x="114300" y="242983"/>
                </a:lnTo>
                <a:cubicBezTo>
                  <a:pt x="114301" y="276697"/>
                  <a:pt x="123684" y="309747"/>
                  <a:pt x="141399" y="338433"/>
                </a:cubicBezTo>
                <a:lnTo>
                  <a:pt x="141608" y="338309"/>
                </a:lnTo>
                <a:cubicBezTo>
                  <a:pt x="148261" y="348962"/>
                  <a:pt x="155844" y="359006"/>
                  <a:pt x="164268" y="368322"/>
                </a:cubicBezTo>
                <a:lnTo>
                  <a:pt x="164268" y="368322"/>
                </a:lnTo>
                <a:cubicBezTo>
                  <a:pt x="178241" y="384400"/>
                  <a:pt x="192538" y="398288"/>
                  <a:pt x="206369" y="411718"/>
                </a:cubicBezTo>
                <a:lnTo>
                  <a:pt x="212941" y="418109"/>
                </a:lnTo>
                <a:cubicBezTo>
                  <a:pt x="218399" y="423453"/>
                  <a:pt x="223952" y="429301"/>
                  <a:pt x="229905" y="435988"/>
                </a:cubicBezTo>
                <a:lnTo>
                  <a:pt x="239087" y="446322"/>
                </a:lnTo>
                <a:cubicBezTo>
                  <a:pt x="162487" y="440788"/>
                  <a:pt x="111300" y="418500"/>
                  <a:pt x="66313" y="371866"/>
                </a:cubicBezTo>
                <a:close/>
                <a:moveTo>
                  <a:pt x="476250" y="704850"/>
                </a:moveTo>
                <a:lnTo>
                  <a:pt x="476250" y="704850"/>
                </a:lnTo>
                <a:cubicBezTo>
                  <a:pt x="492010" y="704902"/>
                  <a:pt x="504773" y="717665"/>
                  <a:pt x="504825" y="733425"/>
                </a:cubicBezTo>
                <a:lnTo>
                  <a:pt x="142875" y="733425"/>
                </a:lnTo>
                <a:lnTo>
                  <a:pt x="142875" y="733425"/>
                </a:lnTo>
                <a:cubicBezTo>
                  <a:pt x="142932" y="717667"/>
                  <a:pt x="155693" y="704907"/>
                  <a:pt x="171450" y="704850"/>
                </a:cubicBezTo>
                <a:lnTo>
                  <a:pt x="476250" y="704850"/>
                </a:lnTo>
                <a:close/>
                <a:moveTo>
                  <a:pt x="400050" y="657225"/>
                </a:moveTo>
                <a:cubicBezTo>
                  <a:pt x="415832" y="657225"/>
                  <a:pt x="428625" y="670018"/>
                  <a:pt x="428625" y="685800"/>
                </a:cubicBezTo>
                <a:lnTo>
                  <a:pt x="219075" y="685800"/>
                </a:lnTo>
                <a:cubicBezTo>
                  <a:pt x="219075" y="670018"/>
                  <a:pt x="231868" y="657225"/>
                  <a:pt x="247650" y="657225"/>
                </a:cubicBezTo>
                <a:lnTo>
                  <a:pt x="295275" y="657225"/>
                </a:lnTo>
                <a:lnTo>
                  <a:pt x="352425" y="657225"/>
                </a:lnTo>
                <a:lnTo>
                  <a:pt x="400050" y="657225"/>
                </a:lnTo>
                <a:close/>
                <a:moveTo>
                  <a:pt x="367608" y="464591"/>
                </a:moveTo>
                <a:cubicBezTo>
                  <a:pt x="357136" y="476117"/>
                  <a:pt x="349618" y="490011"/>
                  <a:pt x="345700" y="505082"/>
                </a:cubicBezTo>
                <a:cubicBezTo>
                  <a:pt x="343812" y="512850"/>
                  <a:pt x="342852" y="520815"/>
                  <a:pt x="342843" y="528809"/>
                </a:cubicBezTo>
                <a:lnTo>
                  <a:pt x="342843" y="638175"/>
                </a:lnTo>
                <a:lnTo>
                  <a:pt x="304800" y="638175"/>
                </a:lnTo>
                <a:lnTo>
                  <a:pt x="304800" y="527856"/>
                </a:lnTo>
                <a:cubicBezTo>
                  <a:pt x="304805" y="522510"/>
                  <a:pt x="304381" y="517171"/>
                  <a:pt x="303533" y="511893"/>
                </a:cubicBezTo>
                <a:cubicBezTo>
                  <a:pt x="300250" y="493534"/>
                  <a:pt x="291801" y="476491"/>
                  <a:pt x="279178" y="462763"/>
                </a:cubicBezTo>
                <a:lnTo>
                  <a:pt x="244126" y="423329"/>
                </a:lnTo>
                <a:cubicBezTo>
                  <a:pt x="237877" y="416300"/>
                  <a:pt x="232029" y="410137"/>
                  <a:pt x="226238" y="404479"/>
                </a:cubicBezTo>
                <a:lnTo>
                  <a:pt x="219627" y="398059"/>
                </a:lnTo>
                <a:cubicBezTo>
                  <a:pt x="206083" y="384896"/>
                  <a:pt x="192081" y="371294"/>
                  <a:pt x="178184" y="355340"/>
                </a:cubicBezTo>
                <a:cubicBezTo>
                  <a:pt x="171259" y="347647"/>
                  <a:pt x="164872" y="339487"/>
                  <a:pt x="159068" y="330918"/>
                </a:cubicBezTo>
                <a:lnTo>
                  <a:pt x="157686" y="328546"/>
                </a:lnTo>
                <a:cubicBezTo>
                  <a:pt x="141792" y="302836"/>
                  <a:pt x="133365" y="273209"/>
                  <a:pt x="133350" y="242983"/>
                </a:cubicBezTo>
                <a:lnTo>
                  <a:pt x="133350" y="19050"/>
                </a:lnTo>
                <a:lnTo>
                  <a:pt x="514350" y="19050"/>
                </a:lnTo>
                <a:lnTo>
                  <a:pt x="514350" y="71323"/>
                </a:lnTo>
                <a:lnTo>
                  <a:pt x="513398" y="129597"/>
                </a:lnTo>
                <a:lnTo>
                  <a:pt x="513398" y="243897"/>
                </a:lnTo>
                <a:cubicBezTo>
                  <a:pt x="513382" y="274124"/>
                  <a:pt x="504956" y="303750"/>
                  <a:pt x="489061" y="329460"/>
                </a:cubicBezTo>
                <a:lnTo>
                  <a:pt x="487766" y="331594"/>
                </a:lnTo>
                <a:cubicBezTo>
                  <a:pt x="484432" y="336356"/>
                  <a:pt x="474355" y="349691"/>
                  <a:pt x="467954" y="356930"/>
                </a:cubicBezTo>
                <a:cubicBezTo>
                  <a:pt x="456173" y="370771"/>
                  <a:pt x="443577" y="383898"/>
                  <a:pt x="430235" y="396240"/>
                </a:cubicBezTo>
                <a:cubicBezTo>
                  <a:pt x="418462" y="407508"/>
                  <a:pt x="406927" y="419586"/>
                  <a:pt x="395945" y="432140"/>
                </a:cubicBezTo>
                <a:lnTo>
                  <a:pt x="367608" y="464591"/>
                </a:lnTo>
                <a:close/>
                <a:moveTo>
                  <a:pt x="630498" y="255880"/>
                </a:moveTo>
                <a:cubicBezTo>
                  <a:pt x="629765" y="299056"/>
                  <a:pt x="612929" y="340402"/>
                  <a:pt x="583292" y="371808"/>
                </a:cubicBezTo>
                <a:cubicBezTo>
                  <a:pt x="537943" y="418814"/>
                  <a:pt x="486280" y="441122"/>
                  <a:pt x="408737" y="446446"/>
                </a:cubicBezTo>
                <a:lnTo>
                  <a:pt x="410318" y="444637"/>
                </a:lnTo>
                <a:cubicBezTo>
                  <a:pt x="420900" y="432511"/>
                  <a:pt x="432035" y="420824"/>
                  <a:pt x="443408" y="409966"/>
                </a:cubicBezTo>
                <a:cubicBezTo>
                  <a:pt x="457224" y="397219"/>
                  <a:pt x="470265" y="383657"/>
                  <a:pt x="482460" y="369351"/>
                </a:cubicBezTo>
                <a:cubicBezTo>
                  <a:pt x="490864" y="359977"/>
                  <a:pt x="498455" y="349905"/>
                  <a:pt x="505149" y="339242"/>
                </a:cubicBezTo>
                <a:lnTo>
                  <a:pt x="505387" y="339385"/>
                </a:lnTo>
                <a:cubicBezTo>
                  <a:pt x="523090" y="310696"/>
                  <a:pt x="532460" y="277647"/>
                  <a:pt x="532448" y="243935"/>
                </a:cubicBezTo>
                <a:lnTo>
                  <a:pt x="532448" y="129759"/>
                </a:lnTo>
                <a:lnTo>
                  <a:pt x="533238" y="81601"/>
                </a:lnTo>
                <a:lnTo>
                  <a:pt x="630498" y="81601"/>
                </a:lnTo>
                <a:lnTo>
                  <a:pt x="630498" y="25588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780" name="Graphic 12" descr="Golf clubs"/>
          <p:cNvPicPr/>
          <p:nvPr/>
        </p:nvPicPr>
        <p:blipFill>
          <a:blip r:embed="rId5"/>
          <a:stretch/>
        </p:blipFill>
        <p:spPr>
          <a:xfrm>
            <a:off x="9982080" y="4495680"/>
            <a:ext cx="266760" cy="495360"/>
          </a:xfrm>
          <a:prstGeom prst="rect">
            <a:avLst/>
          </a:prstGeom>
          <a:ln w="0">
            <a:noFill/>
          </a:ln>
        </p:spPr>
      </p:pic>
      <p:pic>
        <p:nvPicPr>
          <p:cNvPr id="1781" name="Graphic 8" descr="Golf Flag In Hole"/>
          <p:cNvPicPr/>
          <p:nvPr/>
        </p:nvPicPr>
        <p:blipFill>
          <a:blip r:embed="rId6"/>
          <a:stretch/>
        </p:blipFill>
        <p:spPr>
          <a:xfrm>
            <a:off x="1803240" y="4508640"/>
            <a:ext cx="533520" cy="457200"/>
          </a:xfrm>
          <a:prstGeom prst="rect">
            <a:avLst/>
          </a:prstGeom>
          <a:ln w="0">
            <a:noFill/>
          </a:ln>
        </p:spPr>
      </p:pic>
      <p:sp>
        <p:nvSpPr>
          <p:cNvPr id="1782" name="Straight Connector 75"/>
          <p:cNvSpPr/>
          <p:nvPr/>
        </p:nvSpPr>
        <p:spPr>
          <a:xfrm>
            <a:off x="1909800" y="3084480"/>
            <a:ext cx="1436760" cy="0"/>
          </a:xfrm>
          <a:prstGeom prst="line">
            <a:avLst/>
          </a:prstGeom>
          <a:ln w="12600">
            <a:solidFill>
              <a:srgbClr val="134a5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3" name="Straight Connector 76"/>
          <p:cNvSpPr/>
          <p:nvPr/>
        </p:nvSpPr>
        <p:spPr>
          <a:xfrm>
            <a:off x="2584440" y="1424160"/>
            <a:ext cx="727200" cy="500040"/>
          </a:xfrm>
          <a:prstGeom prst="line">
            <a:avLst/>
          </a:prstGeom>
          <a:ln w="12600">
            <a:solidFill>
              <a:srgbClr val="134a5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4" name="Straight Connector 81"/>
          <p:cNvSpPr/>
          <p:nvPr/>
        </p:nvSpPr>
        <p:spPr>
          <a:xfrm flipV="1">
            <a:off x="2584440" y="4200120"/>
            <a:ext cx="760320" cy="546120"/>
          </a:xfrm>
          <a:prstGeom prst="line">
            <a:avLst/>
          </a:prstGeom>
          <a:ln w="12600">
            <a:solidFill>
              <a:srgbClr val="134a5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5" name="Straight Connector 85"/>
          <p:cNvSpPr/>
          <p:nvPr/>
        </p:nvSpPr>
        <p:spPr>
          <a:xfrm>
            <a:off x="8821800" y="3084480"/>
            <a:ext cx="1460520" cy="0"/>
          </a:xfrm>
          <a:prstGeom prst="line">
            <a:avLst/>
          </a:prstGeom>
          <a:ln w="12600">
            <a:solidFill>
              <a:srgbClr val="134a5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6" name="Straight Connector 87"/>
          <p:cNvSpPr/>
          <p:nvPr/>
        </p:nvSpPr>
        <p:spPr>
          <a:xfrm flipH="1">
            <a:off x="8851680" y="1424160"/>
            <a:ext cx="755640" cy="500040"/>
          </a:xfrm>
          <a:prstGeom prst="line">
            <a:avLst/>
          </a:prstGeom>
          <a:ln w="12600">
            <a:solidFill>
              <a:srgbClr val="134a5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7" name="Straight Connector 89"/>
          <p:cNvSpPr/>
          <p:nvPr/>
        </p:nvSpPr>
        <p:spPr>
          <a:xfrm flipH="1" flipV="1">
            <a:off x="8821440" y="4200120"/>
            <a:ext cx="785880" cy="546120"/>
          </a:xfrm>
          <a:prstGeom prst="line">
            <a:avLst/>
          </a:prstGeom>
          <a:ln w="12600">
            <a:solidFill>
              <a:srgbClr val="134a5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8" name="Picture 1" descr=""/>
          <p:cNvPicPr/>
          <p:nvPr/>
        </p:nvPicPr>
        <p:blipFill>
          <a:blip r:embed="rId1"/>
          <a:stretch/>
        </p:blipFill>
        <p:spPr>
          <a:xfrm>
            <a:off x="4724280" y="882720"/>
            <a:ext cx="2743200" cy="5092560"/>
          </a:xfrm>
          <a:prstGeom prst="rect">
            <a:avLst/>
          </a:prstGeom>
          <a:ln w="0">
            <a:noFill/>
          </a:ln>
        </p:spPr>
      </p:pic>
      <p:sp>
        <p:nvSpPr>
          <p:cNvPr id="1789" name="TextBox 3"/>
          <p:cNvSpPr/>
          <p:nvPr/>
        </p:nvSpPr>
        <p:spPr>
          <a:xfrm>
            <a:off x="825480" y="1857240"/>
            <a:ext cx="3289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Enjoy the Ultimate Golf Experience</a:t>
            </a:r>
            <a:endParaRPr b="0" lang="en-US" sz="2600" spc="-1" strike="noStrike">
              <a:solidFill>
                <a:srgbClr val="000000"/>
              </a:solidFill>
              <a:latin typeface="Calibri"/>
            </a:endParaRPr>
          </a:p>
        </p:txBody>
      </p:sp>
      <p:sp>
        <p:nvSpPr>
          <p:cNvPr id="1790" name="TextBox 6"/>
          <p:cNvSpPr/>
          <p:nvPr/>
        </p:nvSpPr>
        <p:spPr>
          <a:xfrm>
            <a:off x="825480" y="3243240"/>
            <a:ext cx="3220920" cy="2101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sit amet consectetur adipiscing elit sed do coaces eiusmod tempor incididunt ut labore et dolore magna aliqua. Ut enim ad minim veniam quis club gold nostrud exercitation ullamco laboris nisi ut aliquip ex ea commodo consequat. Duis aute irure dolor in reprehenderit in voluptate velit esse.</a:t>
            </a:r>
            <a:endParaRPr b="0" lang="en-US" sz="1100" spc="-1" strike="noStrike">
              <a:solidFill>
                <a:srgbClr val="000000"/>
              </a:solidFill>
              <a:latin typeface="Calibri"/>
            </a:endParaRPr>
          </a:p>
        </p:txBody>
      </p:sp>
      <p:sp>
        <p:nvSpPr>
          <p:cNvPr id="1791" name="TextBox 7"/>
          <p:cNvSpPr/>
          <p:nvPr/>
        </p:nvSpPr>
        <p:spPr>
          <a:xfrm>
            <a:off x="825480" y="3006720"/>
            <a:ext cx="2656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YOUR TITLE HERE</a:t>
            </a:r>
            <a:endParaRPr b="0" lang="en-US" sz="1100" spc="-1" strike="noStrike">
              <a:solidFill>
                <a:srgbClr val="000000"/>
              </a:solidFill>
              <a:latin typeface="Calibri"/>
            </a:endParaRPr>
          </a:p>
        </p:txBody>
      </p:sp>
      <p:sp>
        <p:nvSpPr>
          <p:cNvPr id="1792" name="Speech Bubble: Rectangle 8"/>
          <p:cNvSpPr/>
          <p:nvPr/>
        </p:nvSpPr>
        <p:spPr>
          <a:xfrm flipH="1">
            <a:off x="8419320" y="1254240"/>
            <a:ext cx="2946600" cy="3660840"/>
          </a:xfrm>
          <a:prstGeom prst="wedgeRectCallout">
            <a:avLst>
              <a:gd name="adj1" fmla="val 102328"/>
              <a:gd name="adj2" fmla="val -38736"/>
            </a:avLst>
          </a:prstGeom>
          <a:solidFill>
            <a:srgbClr val="152d3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93" name="Group 23"/>
          <p:cNvGrpSpPr/>
          <p:nvPr/>
        </p:nvGrpSpPr>
        <p:grpSpPr>
          <a:xfrm>
            <a:off x="9212400" y="1700280"/>
            <a:ext cx="1361880" cy="1361880"/>
            <a:chOff x="9212400" y="1700280"/>
            <a:chExt cx="1361880" cy="1361880"/>
          </a:xfrm>
        </p:grpSpPr>
        <p:sp>
          <p:nvSpPr>
            <p:cNvPr id="1794" name="Oval 9"/>
            <p:cNvSpPr/>
            <p:nvPr/>
          </p:nvSpPr>
          <p:spPr>
            <a:xfrm>
              <a:off x="9212400" y="1700280"/>
              <a:ext cx="1361880" cy="1361880"/>
            </a:xfrm>
            <a:prstGeom prst="ellipse">
              <a:avLst/>
            </a:prstGeom>
            <a:noFill/>
            <a:ln w="38160">
              <a:solidFill>
                <a:srgbClr val="ffffff">
                  <a:alpha val="2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5" name="Arc 10"/>
            <p:cNvSpPr/>
            <p:nvPr/>
          </p:nvSpPr>
          <p:spPr>
            <a:xfrm>
              <a:off x="9212400" y="1700280"/>
              <a:ext cx="1361880" cy="1361880"/>
            </a:xfrm>
            <a:custGeom>
              <a:avLst/>
              <a:gdLst/>
              <a:ahLst/>
              <a:rect l="l" t="t" r="r" b="b"/>
              <a:pathLst>
                <a:path stroke="0" w="1425330" h="1425325">
                  <a:moveTo>
                    <a:pt x="1399041" y="520884"/>
                  </a:moveTo>
                  <a:cubicBezTo>
                    <a:pt x="1480921" y="813932"/>
                    <a:pt x="1367717" y="1126641"/>
                    <a:pt x="1117223" y="1299367"/>
                  </a:cubicBezTo>
                  <a:cubicBezTo>
                    <a:pt x="866729" y="1472092"/>
                    <a:pt x="534204" y="1466732"/>
                    <a:pt x="289408" y="1286023"/>
                  </a:cubicBezTo>
                  <a:cubicBezTo>
                    <a:pt x="44611" y="1105313"/>
                    <a:pt x="-58456" y="789118"/>
                    <a:pt x="32827" y="498861"/>
                  </a:cubicBezTo>
                  <a:cubicBezTo>
                    <a:pt x="124109" y="208605"/>
                    <a:pt x="389603" y="8318"/>
                    <a:pt x="693768" y="250"/>
                  </a:cubicBezTo>
                  <a:lnTo>
                    <a:pt x="712665" y="712663"/>
                  </a:lnTo>
                  <a:lnTo>
                    <a:pt x="1399041" y="520884"/>
                  </a:lnTo>
                  <a:close/>
                </a:path>
                <a:path fill="none" w="1425330" h="1425325">
                  <a:moveTo>
                    <a:pt x="1399041" y="520884"/>
                  </a:moveTo>
                  <a:cubicBezTo>
                    <a:pt x="1480921" y="813932"/>
                    <a:pt x="1367717" y="1126641"/>
                    <a:pt x="1117223" y="1299367"/>
                  </a:cubicBezTo>
                  <a:cubicBezTo>
                    <a:pt x="866729" y="1472092"/>
                    <a:pt x="534204" y="1466732"/>
                    <a:pt x="289408" y="1286023"/>
                  </a:cubicBezTo>
                  <a:cubicBezTo>
                    <a:pt x="44611" y="1105313"/>
                    <a:pt x="-58456" y="789118"/>
                    <a:pt x="32827" y="498861"/>
                  </a:cubicBezTo>
                  <a:cubicBezTo>
                    <a:pt x="124109" y="208605"/>
                    <a:pt x="389603" y="8318"/>
                    <a:pt x="693768" y="250"/>
                  </a:cubicBezTo>
                </a:path>
              </a:pathLst>
            </a:custGeom>
            <a:noFill/>
            <a:ln cap="rnd" w="38160">
              <a:solidFill>
                <a:srgbClr val="d5b66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796" name="TextBox 12"/>
          <p:cNvSpPr/>
          <p:nvPr/>
        </p:nvSpPr>
        <p:spPr>
          <a:xfrm>
            <a:off x="9180360" y="2151000"/>
            <a:ext cx="142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SemiBold"/>
                <a:ea typeface="Poppins SemiBold"/>
              </a:rPr>
              <a:t>75%</a:t>
            </a:r>
            <a:endParaRPr b="0" lang="en-US" sz="2400" spc="-1" strike="noStrike">
              <a:solidFill>
                <a:srgbClr val="000000"/>
              </a:solidFill>
              <a:latin typeface="Calibri"/>
            </a:endParaRPr>
          </a:p>
        </p:txBody>
      </p:sp>
      <p:grpSp>
        <p:nvGrpSpPr>
          <p:cNvPr id="1797" name="Group 14"/>
          <p:cNvGrpSpPr/>
          <p:nvPr/>
        </p:nvGrpSpPr>
        <p:grpSpPr>
          <a:xfrm>
            <a:off x="8829720" y="3657600"/>
            <a:ext cx="2127240" cy="795240"/>
            <a:chOff x="8829720" y="3657600"/>
            <a:chExt cx="2127240" cy="795240"/>
          </a:xfrm>
        </p:grpSpPr>
        <p:sp>
          <p:nvSpPr>
            <p:cNvPr id="1798" name="TextBox 15"/>
            <p:cNvSpPr/>
            <p:nvPr/>
          </p:nvSpPr>
          <p:spPr>
            <a:xfrm>
              <a:off x="8829720" y="3857040"/>
              <a:ext cx="21272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Poppins Medium"/>
                </a:rPr>
                <a:t>Duis aute irure dolor in esse cillum dolore eu fugiat nulla</a:t>
              </a:r>
              <a:endParaRPr b="0" lang="en-US" sz="1100" spc="-1" strike="noStrike">
                <a:solidFill>
                  <a:srgbClr val="000000"/>
                </a:solidFill>
                <a:latin typeface="Calibri"/>
              </a:endParaRPr>
            </a:p>
          </p:txBody>
        </p:sp>
        <p:sp>
          <p:nvSpPr>
            <p:cNvPr id="1799" name="TextBox 16"/>
            <p:cNvSpPr/>
            <p:nvPr/>
          </p:nvSpPr>
          <p:spPr>
            <a:xfrm>
              <a:off x="8829720" y="3657600"/>
              <a:ext cx="21272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YOUR TITLE HERE</a:t>
              </a:r>
              <a:endParaRPr b="0" lang="en-US" sz="1100" spc="-1" strike="noStrike">
                <a:solidFill>
                  <a:srgbClr val="000000"/>
                </a:solidFill>
                <a:latin typeface="Calibri"/>
              </a:endParaRPr>
            </a:p>
          </p:txBody>
        </p:sp>
      </p:grpSp>
      <p:grpSp>
        <p:nvGrpSpPr>
          <p:cNvPr id="1800" name="Group 17"/>
          <p:cNvGrpSpPr/>
          <p:nvPr/>
        </p:nvGrpSpPr>
        <p:grpSpPr>
          <a:xfrm>
            <a:off x="9461160" y="3243240"/>
            <a:ext cx="863640" cy="150840"/>
            <a:chOff x="9461160" y="3243240"/>
            <a:chExt cx="863640" cy="150840"/>
          </a:xfrm>
        </p:grpSpPr>
        <p:sp>
          <p:nvSpPr>
            <p:cNvPr id="1801" name="Star: 5 Points 18"/>
            <p:cNvSpPr/>
            <p:nvPr/>
          </p:nvSpPr>
          <p:spPr>
            <a:xfrm flipH="1">
              <a:off x="9460800" y="3243240"/>
              <a:ext cx="151560" cy="15084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2" name="Star: 5 Points 19"/>
            <p:cNvSpPr/>
            <p:nvPr/>
          </p:nvSpPr>
          <p:spPr>
            <a:xfrm flipH="1">
              <a:off x="9638640" y="3243240"/>
              <a:ext cx="151560" cy="15084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3" name="Star: 5 Points 20"/>
            <p:cNvSpPr/>
            <p:nvPr/>
          </p:nvSpPr>
          <p:spPr>
            <a:xfrm flipH="1">
              <a:off x="9816840" y="3243240"/>
              <a:ext cx="151560" cy="15084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4" name="Star: 5 Points 21"/>
            <p:cNvSpPr/>
            <p:nvPr/>
          </p:nvSpPr>
          <p:spPr>
            <a:xfrm flipH="1">
              <a:off x="9994680" y="3243240"/>
              <a:ext cx="151560" cy="15084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5" name="Star: 5 Points 22"/>
            <p:cNvSpPr/>
            <p:nvPr/>
          </p:nvSpPr>
          <p:spPr>
            <a:xfrm flipH="1">
              <a:off x="10172880" y="3243240"/>
              <a:ext cx="151560" cy="15084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8ef"/>
        </a:solidFill>
      </p:bgPr>
    </p:bg>
    <p:spTree>
      <p:nvGrpSpPr>
        <p:cNvPr id="1" name=""/>
        <p:cNvGrpSpPr/>
        <p:nvPr/>
      </p:nvGrpSpPr>
      <p:grpSpPr>
        <a:xfrm>
          <a:off x="0" y="0"/>
          <a:ext cx="0" cy="0"/>
          <a:chOff x="0" y="0"/>
          <a:chExt cx="0" cy="0"/>
        </a:xfrm>
      </p:grpSpPr>
      <p:grpSp>
        <p:nvGrpSpPr>
          <p:cNvPr id="1806" name="Group 34"/>
          <p:cNvGrpSpPr/>
          <p:nvPr/>
        </p:nvGrpSpPr>
        <p:grpSpPr>
          <a:xfrm>
            <a:off x="2838600" y="2103480"/>
            <a:ext cx="6514920" cy="3709800"/>
            <a:chOff x="2838600" y="2103480"/>
            <a:chExt cx="6514920" cy="3709800"/>
          </a:xfrm>
        </p:grpSpPr>
        <p:sp>
          <p:nvSpPr>
            <p:cNvPr id="1807" name="Rectangle 3"/>
            <p:cNvSpPr/>
            <p:nvPr/>
          </p:nvSpPr>
          <p:spPr>
            <a:xfrm>
              <a:off x="2838600" y="2103480"/>
              <a:ext cx="6514920" cy="3709800"/>
            </a:xfrm>
            <a:prstGeom prst="rect">
              <a:avLst/>
            </a:prstGeom>
            <a:solidFill>
              <a:srgbClr val="ffffff"/>
            </a:solidFill>
            <a:ln w="0">
              <a:noFill/>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8" name="Rectangle 4"/>
            <p:cNvSpPr/>
            <p:nvPr/>
          </p:nvSpPr>
          <p:spPr>
            <a:xfrm>
              <a:off x="3056760" y="2301480"/>
              <a:ext cx="6078240" cy="3313440"/>
            </a:xfrm>
            <a:prstGeom prst="rect">
              <a:avLst/>
            </a:prstGeom>
            <a:noFill/>
            <a:ln w="12600">
              <a:solidFill>
                <a:srgbClr val="d5b665"/>
              </a:solidFill>
              <a:miter/>
            </a:ln>
            <a:effectLst>
              <a:outerShdw dist="68580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9" name="TextBox 5"/>
            <p:cNvSpPr/>
            <p:nvPr/>
          </p:nvSpPr>
          <p:spPr>
            <a:xfrm>
              <a:off x="4451400" y="2706840"/>
              <a:ext cx="3289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Let's Get in Touch </a:t>
              </a:r>
              <a:endParaRPr b="0" lang="en-US" sz="2600" spc="-1" strike="noStrike">
                <a:solidFill>
                  <a:srgbClr val="000000"/>
                </a:solidFill>
                <a:latin typeface="Calibri"/>
              </a:endParaRPr>
            </a:p>
          </p:txBody>
        </p:sp>
        <p:sp>
          <p:nvSpPr>
            <p:cNvPr id="1810" name="TextBox 7"/>
            <p:cNvSpPr/>
            <p:nvPr/>
          </p:nvSpPr>
          <p:spPr>
            <a:xfrm>
              <a:off x="4124880" y="3199320"/>
              <a:ext cx="39369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golf sit amet consectetur adipiscing elit sed do coaces eiusmod tempor incididunt ut labore.</a:t>
              </a:r>
              <a:endParaRPr b="0" lang="en-US" sz="1100" spc="-1" strike="noStrike">
                <a:solidFill>
                  <a:srgbClr val="000000"/>
                </a:solidFill>
                <a:latin typeface="Calibri"/>
              </a:endParaRPr>
            </a:p>
          </p:txBody>
        </p:sp>
        <p:grpSp>
          <p:nvGrpSpPr>
            <p:cNvPr id="1811" name="Group 31"/>
            <p:cNvGrpSpPr/>
            <p:nvPr/>
          </p:nvGrpSpPr>
          <p:grpSpPr>
            <a:xfrm>
              <a:off x="3497760" y="4128480"/>
              <a:ext cx="1338120" cy="1137240"/>
              <a:chOff x="3497760" y="4128480"/>
              <a:chExt cx="1338120" cy="1137240"/>
            </a:xfrm>
          </p:grpSpPr>
          <p:sp>
            <p:nvSpPr>
              <p:cNvPr id="1812" name="Kotak Teks 25"/>
              <p:cNvSpPr/>
              <p:nvPr/>
            </p:nvSpPr>
            <p:spPr>
              <a:xfrm>
                <a:off x="3497760" y="4669920"/>
                <a:ext cx="13381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a:ea typeface="Open Sans"/>
                  </a:rPr>
                  <a:t>27 Division St, New York, USA</a:t>
                </a:r>
                <a:endParaRPr b="0" lang="en-US" sz="1100" spc="-1" strike="noStrike">
                  <a:solidFill>
                    <a:srgbClr val="000000"/>
                  </a:solidFill>
                  <a:latin typeface="Calibri"/>
                </a:endParaRPr>
              </a:p>
            </p:txBody>
          </p:sp>
          <p:sp>
            <p:nvSpPr>
              <p:cNvPr id="1813" name="TextBox 9"/>
              <p:cNvSpPr/>
              <p:nvPr/>
            </p:nvSpPr>
            <p:spPr>
              <a:xfrm>
                <a:off x="3497760" y="4476240"/>
                <a:ext cx="1338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oppins SemiBold"/>
                    <a:ea typeface="Roboto"/>
                  </a:rPr>
                  <a:t>Location</a:t>
                </a:r>
                <a:endParaRPr b="0" lang="en-US" sz="1100" spc="-1" strike="noStrike">
                  <a:solidFill>
                    <a:srgbClr val="000000"/>
                  </a:solidFill>
                  <a:latin typeface="Calibri"/>
                </a:endParaRPr>
              </a:p>
            </p:txBody>
          </p:sp>
          <p:grpSp>
            <p:nvGrpSpPr>
              <p:cNvPr id="1814" name="Graphic 11"/>
              <p:cNvGrpSpPr/>
              <p:nvPr/>
            </p:nvGrpSpPr>
            <p:grpSpPr>
              <a:xfrm>
                <a:off x="4023720" y="4128480"/>
                <a:ext cx="285840" cy="285840"/>
                <a:chOff x="4023720" y="4128480"/>
                <a:chExt cx="285840" cy="285840"/>
              </a:xfrm>
            </p:grpSpPr>
            <p:sp>
              <p:nvSpPr>
                <p:cNvPr id="1815" name="Freeform: Shape 11"/>
                <p:cNvSpPr/>
                <p:nvPr/>
              </p:nvSpPr>
              <p:spPr>
                <a:xfrm>
                  <a:off x="4023720" y="4128480"/>
                  <a:ext cx="285840" cy="245160"/>
                </a:xfrm>
                <a:custGeom>
                  <a:avLst/>
                  <a:gdLst/>
                  <a:ahLst/>
                  <a:rect l="l" t="t" r="r" b="b"/>
                  <a:pathLst>
                    <a:path w="171450" h="228600">
                      <a:moveTo>
                        <a:pt x="171450" y="85725"/>
                      </a:moveTo>
                      <a:cubicBezTo>
                        <a:pt x="171450" y="113728"/>
                        <a:pt x="141446" y="158591"/>
                        <a:pt x="116967" y="190500"/>
                      </a:cubicBezTo>
                      <a:cubicBezTo>
                        <a:pt x="100013" y="212598"/>
                        <a:pt x="85725" y="228600"/>
                        <a:pt x="85725" y="228600"/>
                      </a:cubicBezTo>
                      <a:cubicBezTo>
                        <a:pt x="85725" y="228600"/>
                        <a:pt x="71438" y="212598"/>
                        <a:pt x="54483" y="190500"/>
                      </a:cubicBezTo>
                      <a:cubicBezTo>
                        <a:pt x="30004" y="158591"/>
                        <a:pt x="0" y="113728"/>
                        <a:pt x="0" y="85725"/>
                      </a:cubicBezTo>
                      <a:cubicBezTo>
                        <a:pt x="0" y="38380"/>
                        <a:pt x="38380" y="0"/>
                        <a:pt x="85725" y="0"/>
                      </a:cubicBezTo>
                      <a:cubicBezTo>
                        <a:pt x="133070" y="0"/>
                        <a:pt x="171450" y="38380"/>
                        <a:pt x="171450" y="85725"/>
                      </a:cubicBezTo>
                      <a:close/>
                    </a:path>
                  </a:pathLst>
                </a:custGeom>
                <a:noFill/>
                <a:ln cap="rnd" w="19080">
                  <a:solidFill>
                    <a:srgbClr val="d5b66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6" name="Freeform: Shape 12"/>
                <p:cNvSpPr/>
                <p:nvPr/>
              </p:nvSpPr>
              <p:spPr>
                <a:xfrm>
                  <a:off x="4118760" y="4179240"/>
                  <a:ext cx="95400" cy="61200"/>
                </a:xfrm>
                <a:custGeom>
                  <a:avLst/>
                  <a:gdLst/>
                  <a:ahLst/>
                  <a:rect l="l" t="t" r="r" b="b"/>
                  <a:pathLst>
                    <a:path w="57150" h="57150">
                      <a:moveTo>
                        <a:pt x="57150" y="28575"/>
                      </a:moveTo>
                      <a:cubicBezTo>
                        <a:pt x="57150" y="44357"/>
                        <a:pt x="44357" y="57150"/>
                        <a:pt x="28575" y="57150"/>
                      </a:cubicBezTo>
                      <a:cubicBezTo>
                        <a:pt x="12793" y="57150"/>
                        <a:pt x="0" y="44357"/>
                        <a:pt x="0" y="28575"/>
                      </a:cubicBezTo>
                      <a:cubicBezTo>
                        <a:pt x="0" y="12793"/>
                        <a:pt x="12793" y="0"/>
                        <a:pt x="28575" y="0"/>
                      </a:cubicBezTo>
                      <a:cubicBezTo>
                        <a:pt x="44357" y="0"/>
                        <a:pt x="57150" y="12793"/>
                        <a:pt x="57150" y="28575"/>
                      </a:cubicBezTo>
                      <a:close/>
                    </a:path>
                  </a:pathLst>
                </a:custGeom>
                <a:noFill/>
                <a:ln cap="rnd" w="19080">
                  <a:solidFill>
                    <a:srgbClr val="d5b665"/>
                  </a:solidFill>
                  <a:roun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Calibri"/>
                  </a:endParaRPr>
                </a:p>
              </p:txBody>
            </p:sp>
            <p:sp>
              <p:nvSpPr>
                <p:cNvPr id="1817" name="Freeform: Shape 13"/>
                <p:cNvSpPr/>
                <p:nvPr/>
              </p:nvSpPr>
              <p:spPr>
                <a:xfrm>
                  <a:off x="4023720" y="4332600"/>
                  <a:ext cx="285840" cy="81720"/>
                </a:xfrm>
                <a:custGeom>
                  <a:avLst/>
                  <a:gdLst/>
                  <a:ahLst/>
                  <a:rect l="l" t="t" r="r" b="b"/>
                  <a:pathLst>
                    <a:path w="171450" h="76200">
                      <a:moveTo>
                        <a:pt x="171450" y="76200"/>
                      </a:moveTo>
                      <a:lnTo>
                        <a:pt x="0" y="76200"/>
                      </a:lnTo>
                      <a:lnTo>
                        <a:pt x="19050" y="0"/>
                      </a:lnTo>
                      <a:lnTo>
                        <a:pt x="54483" y="0"/>
                      </a:lnTo>
                      <a:cubicBezTo>
                        <a:pt x="71438" y="22098"/>
                        <a:pt x="85725" y="38100"/>
                        <a:pt x="85725" y="38100"/>
                      </a:cubicBezTo>
                      <a:cubicBezTo>
                        <a:pt x="85725" y="38100"/>
                        <a:pt x="100013" y="22098"/>
                        <a:pt x="116967" y="0"/>
                      </a:cubicBezTo>
                      <a:lnTo>
                        <a:pt x="152400" y="0"/>
                      </a:lnTo>
                      <a:lnTo>
                        <a:pt x="171450" y="76200"/>
                      </a:lnTo>
                      <a:close/>
                    </a:path>
                  </a:pathLst>
                </a:custGeom>
                <a:noFill/>
                <a:ln cap="rnd" w="19080">
                  <a:solidFill>
                    <a:srgbClr val="d5b665"/>
                  </a:solidFill>
                  <a:round/>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Calibri"/>
                  </a:endParaRPr>
                </a:p>
              </p:txBody>
            </p:sp>
          </p:grpSp>
        </p:grpSp>
        <p:grpSp>
          <p:nvGrpSpPr>
            <p:cNvPr id="1818" name="Group 30"/>
            <p:cNvGrpSpPr/>
            <p:nvPr/>
          </p:nvGrpSpPr>
          <p:grpSpPr>
            <a:xfrm>
              <a:off x="5088600" y="4128480"/>
              <a:ext cx="2014920" cy="1137240"/>
              <a:chOff x="5088600" y="4128480"/>
              <a:chExt cx="2014920" cy="1137240"/>
            </a:xfrm>
          </p:grpSpPr>
          <p:grpSp>
            <p:nvGrpSpPr>
              <p:cNvPr id="1819" name="Graphic 29"/>
              <p:cNvGrpSpPr/>
              <p:nvPr/>
            </p:nvGrpSpPr>
            <p:grpSpPr>
              <a:xfrm>
                <a:off x="5951520" y="4128480"/>
                <a:ext cx="289080" cy="289440"/>
                <a:chOff x="5951520" y="4128480"/>
                <a:chExt cx="289080" cy="289440"/>
              </a:xfrm>
            </p:grpSpPr>
            <p:sp>
              <p:nvSpPr>
                <p:cNvPr id="1820" name="Freeform: Shape 15"/>
                <p:cNvSpPr/>
                <p:nvPr/>
              </p:nvSpPr>
              <p:spPr>
                <a:xfrm>
                  <a:off x="5951520" y="4229280"/>
                  <a:ext cx="289080" cy="188640"/>
                </a:xfrm>
                <a:custGeom>
                  <a:avLst/>
                  <a:gdLst/>
                  <a:ahLst/>
                  <a:rect l="l" t="t" r="r" b="b"/>
                  <a:pathLst>
                    <a:path w="266700" h="176498">
                      <a:moveTo>
                        <a:pt x="266700" y="0"/>
                      </a:moveTo>
                      <a:lnTo>
                        <a:pt x="266700" y="152972"/>
                      </a:lnTo>
                      <a:cubicBezTo>
                        <a:pt x="266700" y="165965"/>
                        <a:pt x="256166" y="176498"/>
                        <a:pt x="243173" y="176498"/>
                      </a:cubicBezTo>
                      <a:lnTo>
                        <a:pt x="23527" y="176498"/>
                      </a:lnTo>
                      <a:cubicBezTo>
                        <a:pt x="10533" y="176498"/>
                        <a:pt x="0" y="165965"/>
                        <a:pt x="0" y="152972"/>
                      </a:cubicBezTo>
                      <a:lnTo>
                        <a:pt x="0" y="0"/>
                      </a:lnTo>
                    </a:path>
                  </a:pathLst>
                </a:custGeom>
                <a:noFill/>
                <a:ln cap="rnd" w="19080">
                  <a:solidFill>
                    <a:srgbClr val="d5b66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1" name="Freeform: Shape 16"/>
                <p:cNvSpPr/>
                <p:nvPr/>
              </p:nvSpPr>
              <p:spPr>
                <a:xfrm>
                  <a:off x="6200640" y="4234680"/>
                  <a:ext cx="39960" cy="19440"/>
                </a:xfrm>
                <a:custGeom>
                  <a:avLst/>
                  <a:gdLst/>
                  <a:ahLst/>
                  <a:rect l="l" t="t" r="r" b="b"/>
                  <a:pathLst>
                    <a:path w="36956" h="18478">
                      <a:moveTo>
                        <a:pt x="36957" y="0"/>
                      </a:moveTo>
                      <a:lnTo>
                        <a:pt x="0" y="18478"/>
                      </a:lnTo>
                    </a:path>
                  </a:pathLst>
                </a:custGeom>
                <a:noFill/>
                <a:ln cap="rnd" w="19080">
                  <a:solidFill>
                    <a:srgbClr val="d5b665"/>
                  </a:solidFill>
                  <a:round/>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Calibri"/>
                  </a:endParaRPr>
                </a:p>
              </p:txBody>
            </p:sp>
            <p:sp>
              <p:nvSpPr>
                <p:cNvPr id="1822" name="Freeform: Shape 17"/>
                <p:cNvSpPr/>
                <p:nvPr/>
              </p:nvSpPr>
              <p:spPr>
                <a:xfrm>
                  <a:off x="5951520" y="4234680"/>
                  <a:ext cx="61200" cy="30240"/>
                </a:xfrm>
                <a:custGeom>
                  <a:avLst/>
                  <a:gdLst/>
                  <a:ahLst/>
                  <a:rect l="l" t="t" r="r" b="b"/>
                  <a:pathLst>
                    <a:path w="56578" h="28289">
                      <a:moveTo>
                        <a:pt x="56579" y="28289"/>
                      </a:moveTo>
                      <a:lnTo>
                        <a:pt x="0" y="0"/>
                      </a:lnTo>
                    </a:path>
                  </a:pathLst>
                </a:custGeom>
                <a:noFill/>
                <a:ln cap="rnd" w="19080">
                  <a:solidFill>
                    <a:srgbClr val="d5b665"/>
                  </a:solidFill>
                  <a:round/>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823" name="Freeform: Shape 18"/>
                <p:cNvSpPr/>
                <p:nvPr/>
              </p:nvSpPr>
              <p:spPr>
                <a:xfrm>
                  <a:off x="5951520" y="4182480"/>
                  <a:ext cx="74520" cy="41760"/>
                </a:xfrm>
                <a:custGeom>
                  <a:avLst/>
                  <a:gdLst/>
                  <a:ahLst/>
                  <a:rect l="l" t="t" r="r" b="b"/>
                  <a:pathLst>
                    <a:path w="68675" h="39243">
                      <a:moveTo>
                        <a:pt x="68675" y="0"/>
                      </a:moveTo>
                      <a:lnTo>
                        <a:pt x="0" y="39243"/>
                      </a:lnTo>
                    </a:path>
                  </a:pathLst>
                </a:custGeom>
                <a:noFill/>
                <a:ln cap="rnd" w="19080">
                  <a:solidFill>
                    <a:srgbClr val="d5b665"/>
                  </a:solidFill>
                  <a:round/>
                </a:ln>
              </p:spPr>
              <p:style>
                <a:lnRef idx="0"/>
                <a:fillRef idx="0"/>
                <a:effectRef idx="0"/>
                <a:fontRef idx="minor"/>
              </p:style>
              <p:txBody>
                <a:bodyPr lIns="90000" rIns="90000" tIns="-5040" bIns="-5040" anchor="ctr">
                  <a:noAutofit/>
                </a:bodyPr>
                <a:p>
                  <a:endParaRPr b="0" lang="en-US" sz="1800" spc="-1" strike="noStrike">
                    <a:solidFill>
                      <a:srgbClr val="000000"/>
                    </a:solidFill>
                    <a:latin typeface="Calibri"/>
                  </a:endParaRPr>
                </a:p>
              </p:txBody>
            </p:sp>
            <p:sp>
              <p:nvSpPr>
                <p:cNvPr id="1824" name="Freeform: Shape 19"/>
                <p:cNvSpPr/>
                <p:nvPr/>
              </p:nvSpPr>
              <p:spPr>
                <a:xfrm>
                  <a:off x="6209640" y="4206600"/>
                  <a:ext cx="30960" cy="17640"/>
                </a:xfrm>
                <a:custGeom>
                  <a:avLst/>
                  <a:gdLst/>
                  <a:ahLst/>
                  <a:rect l="l" t="t" r="r" b="b"/>
                  <a:pathLst>
                    <a:path w="28765" h="16478">
                      <a:moveTo>
                        <a:pt x="28766" y="16478"/>
                      </a:moveTo>
                      <a:lnTo>
                        <a:pt x="0" y="0"/>
                      </a:lnTo>
                    </a:path>
                  </a:pathLst>
                </a:custGeom>
                <a:noFill/>
                <a:ln cap="rnd" w="19080">
                  <a:solidFill>
                    <a:srgbClr val="d5b665"/>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alibri"/>
                  </a:endParaRPr>
                </a:p>
              </p:txBody>
            </p:sp>
            <p:sp>
              <p:nvSpPr>
                <p:cNvPr id="1825" name="Freeform: Shape 20"/>
                <p:cNvSpPr/>
                <p:nvPr/>
              </p:nvSpPr>
              <p:spPr>
                <a:xfrm>
                  <a:off x="6012720" y="4128480"/>
                  <a:ext cx="198000" cy="177480"/>
                </a:xfrm>
                <a:custGeom>
                  <a:avLst/>
                  <a:gdLst/>
                  <a:ahLst/>
                  <a:rect l="l" t="t" r="r" b="b"/>
                  <a:pathLst>
                    <a:path w="182689" h="165925">
                      <a:moveTo>
                        <a:pt x="182690" y="66104"/>
                      </a:moveTo>
                      <a:lnTo>
                        <a:pt x="181547" y="73247"/>
                      </a:lnTo>
                      <a:lnTo>
                        <a:pt x="173355" y="117729"/>
                      </a:lnTo>
                      <a:lnTo>
                        <a:pt x="76772" y="165926"/>
                      </a:lnTo>
                      <a:lnTo>
                        <a:pt x="0" y="127826"/>
                      </a:lnTo>
                      <a:lnTo>
                        <a:pt x="12097" y="50483"/>
                      </a:lnTo>
                      <a:lnTo>
                        <a:pt x="19622" y="0"/>
                      </a:lnTo>
                      <a:lnTo>
                        <a:pt x="151067" y="22193"/>
                      </a:lnTo>
                      <a:lnTo>
                        <a:pt x="182690" y="66104"/>
                      </a:lnTo>
                      <a:close/>
                    </a:path>
                  </a:pathLst>
                </a:custGeom>
                <a:noFill/>
                <a:ln cap="rnd" w="19080">
                  <a:solidFill>
                    <a:srgbClr val="d5b66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6" name="Freeform: Shape 21"/>
                <p:cNvSpPr/>
                <p:nvPr/>
              </p:nvSpPr>
              <p:spPr>
                <a:xfrm>
                  <a:off x="6064920" y="4184280"/>
                  <a:ext cx="93600" cy="15480"/>
                </a:xfrm>
                <a:custGeom>
                  <a:avLst/>
                  <a:gdLst/>
                  <a:ahLst/>
                  <a:rect l="l" t="t" r="r" b="b"/>
                  <a:pathLst>
                    <a:path w="86487" h="14573">
                      <a:moveTo>
                        <a:pt x="0" y="0"/>
                      </a:moveTo>
                      <a:lnTo>
                        <a:pt x="86487" y="14573"/>
                      </a:lnTo>
                    </a:path>
                  </a:pathLst>
                </a:custGeom>
                <a:noFill/>
                <a:ln cap="rnd" w="19080">
                  <a:solidFill>
                    <a:srgbClr val="d5b665"/>
                  </a:solidFill>
                  <a:round/>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Calibri"/>
                  </a:endParaRPr>
                </a:p>
              </p:txBody>
            </p:sp>
            <p:sp>
              <p:nvSpPr>
                <p:cNvPr id="1827" name="Freeform: Shape 22"/>
                <p:cNvSpPr/>
                <p:nvPr/>
              </p:nvSpPr>
              <p:spPr>
                <a:xfrm>
                  <a:off x="6054480" y="4225320"/>
                  <a:ext cx="93600" cy="15480"/>
                </a:xfrm>
                <a:custGeom>
                  <a:avLst/>
                  <a:gdLst/>
                  <a:ahLst/>
                  <a:rect l="l" t="t" r="r" b="b"/>
                  <a:pathLst>
                    <a:path w="86487" h="14573">
                      <a:moveTo>
                        <a:pt x="0" y="0"/>
                      </a:moveTo>
                      <a:lnTo>
                        <a:pt x="86487" y="14573"/>
                      </a:lnTo>
                    </a:path>
                  </a:pathLst>
                </a:custGeom>
                <a:noFill/>
                <a:ln cap="rnd" w="19080">
                  <a:solidFill>
                    <a:srgbClr val="d5b665"/>
                  </a:solidFill>
                  <a:round/>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Calibri"/>
                  </a:endParaRPr>
                </a:p>
              </p:txBody>
            </p:sp>
          </p:grpSp>
          <p:sp>
            <p:nvSpPr>
              <p:cNvPr id="1828" name="Kotak Teks 25"/>
              <p:cNvSpPr/>
              <p:nvPr/>
            </p:nvSpPr>
            <p:spPr>
              <a:xfrm>
                <a:off x="5088600" y="4669920"/>
                <a:ext cx="20149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a:ea typeface="Open Sans"/>
                  </a:rPr>
                  <a:t>Info@golferina.com</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a:ea typeface="Open Sans"/>
                  </a:rPr>
                  <a:t>admin@golferina.com</a:t>
                </a:r>
                <a:endParaRPr b="0" lang="en-US" sz="1100" spc="-1" strike="noStrike">
                  <a:solidFill>
                    <a:srgbClr val="000000"/>
                  </a:solidFill>
                  <a:latin typeface="Calibri"/>
                </a:endParaRPr>
              </a:p>
            </p:txBody>
          </p:sp>
          <p:sp>
            <p:nvSpPr>
              <p:cNvPr id="1829" name="TextBox 24"/>
              <p:cNvSpPr/>
              <p:nvPr/>
            </p:nvSpPr>
            <p:spPr>
              <a:xfrm>
                <a:off x="5088600" y="4476240"/>
                <a:ext cx="20149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oppins SemiBold"/>
                    <a:ea typeface="Roboto"/>
                  </a:rPr>
                  <a:t>Email</a:t>
                </a:r>
                <a:endParaRPr b="0" lang="en-US" sz="1100" spc="-1" strike="noStrike">
                  <a:solidFill>
                    <a:srgbClr val="000000"/>
                  </a:solidFill>
                  <a:latin typeface="Calibri"/>
                </a:endParaRPr>
              </a:p>
            </p:txBody>
          </p:sp>
        </p:grpSp>
        <p:grpSp>
          <p:nvGrpSpPr>
            <p:cNvPr id="1830" name="Group 32"/>
            <p:cNvGrpSpPr/>
            <p:nvPr/>
          </p:nvGrpSpPr>
          <p:grpSpPr>
            <a:xfrm>
              <a:off x="7078680" y="4128480"/>
              <a:ext cx="1783080" cy="1137240"/>
              <a:chOff x="7078680" y="4128480"/>
              <a:chExt cx="1783080" cy="1137240"/>
            </a:xfrm>
          </p:grpSpPr>
          <p:grpSp>
            <p:nvGrpSpPr>
              <p:cNvPr id="1831" name="Graphic 44"/>
              <p:cNvGrpSpPr/>
              <p:nvPr/>
            </p:nvGrpSpPr>
            <p:grpSpPr>
              <a:xfrm>
                <a:off x="7825680" y="4128480"/>
                <a:ext cx="289080" cy="289440"/>
                <a:chOff x="7825680" y="4128480"/>
                <a:chExt cx="289080" cy="289440"/>
              </a:xfrm>
            </p:grpSpPr>
            <p:sp>
              <p:nvSpPr>
                <p:cNvPr id="1832" name="Freeform: Shape 26"/>
                <p:cNvSpPr/>
                <p:nvPr/>
              </p:nvSpPr>
              <p:spPr>
                <a:xfrm>
                  <a:off x="7825680" y="4128480"/>
                  <a:ext cx="289080" cy="289440"/>
                </a:xfrm>
                <a:custGeom>
                  <a:avLst/>
                  <a:gdLst/>
                  <a:ahLst/>
                  <a:rect l="l" t="t" r="r" b="b"/>
                  <a:pathLst>
                    <a:path w="171450" h="266700">
                      <a:moveTo>
                        <a:pt x="152400" y="0"/>
                      </a:moveTo>
                      <a:cubicBezTo>
                        <a:pt x="162921" y="0"/>
                        <a:pt x="171450" y="8529"/>
                        <a:pt x="171450" y="19050"/>
                      </a:cubicBezTo>
                      <a:lnTo>
                        <a:pt x="171450" y="247650"/>
                      </a:lnTo>
                      <a:cubicBezTo>
                        <a:pt x="171450" y="258171"/>
                        <a:pt x="162921" y="266700"/>
                        <a:pt x="152400" y="266700"/>
                      </a:cubicBezTo>
                      <a:lnTo>
                        <a:pt x="19050" y="266700"/>
                      </a:lnTo>
                      <a:cubicBezTo>
                        <a:pt x="8529" y="266700"/>
                        <a:pt x="0" y="258171"/>
                        <a:pt x="0" y="247650"/>
                      </a:cubicBezTo>
                      <a:lnTo>
                        <a:pt x="0" y="19050"/>
                      </a:lnTo>
                      <a:cubicBezTo>
                        <a:pt x="0" y="8529"/>
                        <a:pt x="8529" y="0"/>
                        <a:pt x="19050" y="0"/>
                      </a:cubicBezTo>
                      <a:lnTo>
                        <a:pt x="152400" y="0"/>
                      </a:lnTo>
                      <a:close/>
                    </a:path>
                  </a:pathLst>
                </a:custGeom>
                <a:noFill/>
                <a:ln cap="rnd" w="19080">
                  <a:solidFill>
                    <a:srgbClr val="d5b66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33" name="Freeform: Shape 27"/>
                <p:cNvSpPr/>
                <p:nvPr/>
              </p:nvSpPr>
              <p:spPr>
                <a:xfrm>
                  <a:off x="7954200" y="4386960"/>
                  <a:ext cx="32040" cy="10080"/>
                </a:xfrm>
                <a:custGeom>
                  <a:avLst/>
                  <a:gdLst/>
                  <a:ahLst/>
                  <a:rect l="l" t="t" r="r" b="b"/>
                  <a:pathLst>
                    <a:path w="19050" h="9525">
                      <a:moveTo>
                        <a:pt x="0" y="0"/>
                      </a:moveTo>
                      <a:lnTo>
                        <a:pt x="19050" y="0"/>
                      </a:lnTo>
                    </a:path>
                  </a:pathLst>
                </a:custGeom>
                <a:noFill/>
                <a:ln cap="rnd" w="19080">
                  <a:solidFill>
                    <a:srgbClr val="d5b665"/>
                  </a:solidFill>
                  <a:round/>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grpSp>
          <p:sp>
            <p:nvSpPr>
              <p:cNvPr id="1834" name="Kotak Teks 25"/>
              <p:cNvSpPr/>
              <p:nvPr/>
            </p:nvSpPr>
            <p:spPr>
              <a:xfrm>
                <a:off x="7078680" y="4669920"/>
                <a:ext cx="17830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a:ea typeface="Open Sans"/>
                  </a:rPr>
                  <a:t>+(800) 123 456 789</a:t>
                </a:r>
                <a:endParaRPr b="0" lang="en-US" sz="1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a:ea typeface="Open Sans"/>
                  </a:rPr>
                  <a:t>+(800) 123 456 789</a:t>
                </a:r>
                <a:endParaRPr b="0" lang="en-US" sz="1100" spc="-1" strike="noStrike">
                  <a:solidFill>
                    <a:srgbClr val="000000"/>
                  </a:solidFill>
                  <a:latin typeface="Calibri"/>
                </a:endParaRPr>
              </a:p>
            </p:txBody>
          </p:sp>
          <p:sp>
            <p:nvSpPr>
              <p:cNvPr id="1835" name="TextBox 29"/>
              <p:cNvSpPr/>
              <p:nvPr/>
            </p:nvSpPr>
            <p:spPr>
              <a:xfrm>
                <a:off x="7192800" y="4476240"/>
                <a:ext cx="1554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oppins SemiBold"/>
                    <a:ea typeface="Roboto"/>
                  </a:rPr>
                  <a:t>Phone</a:t>
                </a:r>
                <a:endParaRPr b="0" lang="en-US" sz="11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13"/>
          <p:cNvSpPr/>
          <p:nvPr/>
        </p:nvSpPr>
        <p:spPr>
          <a:xfrm>
            <a:off x="1181160" y="0"/>
            <a:ext cx="5852880" cy="342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5" name="TextBox 4"/>
          <p:cNvSpPr/>
          <p:nvPr/>
        </p:nvSpPr>
        <p:spPr>
          <a:xfrm>
            <a:off x="7781760" y="4219560"/>
            <a:ext cx="3859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 reprehenderit in voluptate esse cillum dolore eu fugiat nulla pariatur occaecat cupidata non provident ex ea commodo golferina consequat. </a:t>
            </a:r>
            <a:endParaRPr b="0" lang="en-US" sz="1100" spc="-1" strike="noStrike">
              <a:solidFill>
                <a:srgbClr val="000000"/>
              </a:solidFill>
              <a:latin typeface="Calibri"/>
            </a:endParaRPr>
          </a:p>
        </p:txBody>
      </p:sp>
      <p:sp>
        <p:nvSpPr>
          <p:cNvPr id="1286" name="TextBox 8"/>
          <p:cNvSpPr/>
          <p:nvPr/>
        </p:nvSpPr>
        <p:spPr>
          <a:xfrm>
            <a:off x="7781760" y="3981600"/>
            <a:ext cx="3015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01. THE GOLFERINA VISION</a:t>
            </a:r>
            <a:endParaRPr b="0" lang="en-US" sz="1100" spc="-1" strike="noStrike">
              <a:solidFill>
                <a:srgbClr val="000000"/>
              </a:solidFill>
              <a:latin typeface="Calibri"/>
            </a:endParaRPr>
          </a:p>
        </p:txBody>
      </p:sp>
      <p:sp>
        <p:nvSpPr>
          <p:cNvPr id="1287" name="TextBox 9"/>
          <p:cNvSpPr/>
          <p:nvPr/>
        </p:nvSpPr>
        <p:spPr>
          <a:xfrm>
            <a:off x="7781760" y="5283360"/>
            <a:ext cx="3015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02. THE GOLFERINA MISSION</a:t>
            </a:r>
            <a:endParaRPr b="0" lang="en-US" sz="1100" spc="-1" strike="noStrike">
              <a:solidFill>
                <a:srgbClr val="000000"/>
              </a:solidFill>
              <a:latin typeface="Calibri"/>
            </a:endParaRPr>
          </a:p>
        </p:txBody>
      </p:sp>
      <p:sp>
        <p:nvSpPr>
          <p:cNvPr id="1288" name="TextBox 10"/>
          <p:cNvSpPr/>
          <p:nvPr/>
        </p:nvSpPr>
        <p:spPr>
          <a:xfrm>
            <a:off x="7781760" y="5545080"/>
            <a:ext cx="3859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 reprehenderit in voluptate esse cillum dolore eu fugiat nulla pariatur occaecat cupidata non provident ex ea commodo golferina consequat. </a:t>
            </a:r>
            <a:endParaRPr b="0" lang="en-US" sz="1100" spc="-1" strike="noStrike">
              <a:solidFill>
                <a:srgbClr val="000000"/>
              </a:solidFill>
              <a:latin typeface="Calibri"/>
            </a:endParaRPr>
          </a:p>
        </p:txBody>
      </p:sp>
      <p:sp>
        <p:nvSpPr>
          <p:cNvPr id="1289" name="TextBox 2"/>
          <p:cNvSpPr/>
          <p:nvPr/>
        </p:nvSpPr>
        <p:spPr>
          <a:xfrm>
            <a:off x="2103480" y="1346040"/>
            <a:ext cx="4022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The Golferina </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Vision &amp; Mission</a:t>
            </a:r>
            <a:endParaRPr b="0" lang="en-US" sz="2600" spc="-1" strike="noStrike">
              <a:solidFill>
                <a:srgbClr val="000000"/>
              </a:solidFill>
              <a:latin typeface="Calibri"/>
            </a:endParaRPr>
          </a:p>
        </p:txBody>
      </p:sp>
      <p:sp>
        <p:nvSpPr>
          <p:cNvPr id="1290" name="TextBox 3"/>
          <p:cNvSpPr/>
          <p:nvPr/>
        </p:nvSpPr>
        <p:spPr>
          <a:xfrm>
            <a:off x="2103480" y="1025640"/>
            <a:ext cx="2001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SemiBold"/>
                <a:ea typeface="Poppins Medium"/>
              </a:rPr>
              <a:t>ABOUT GOLFERINA  </a:t>
            </a:r>
            <a:endParaRPr b="0" lang="en-US" sz="1100" spc="-1" strike="noStrike">
              <a:solidFill>
                <a:srgbClr val="000000"/>
              </a:solidFill>
              <a:latin typeface="Calibri"/>
            </a:endParaRPr>
          </a:p>
        </p:txBody>
      </p:sp>
      <p:sp>
        <p:nvSpPr>
          <p:cNvPr id="1291" name="TextBox 14"/>
          <p:cNvSpPr/>
          <p:nvPr/>
        </p:nvSpPr>
        <p:spPr>
          <a:xfrm>
            <a:off x="2103480" y="2224080"/>
            <a:ext cx="41450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elit sed do eiusmod tempor incididunt ut labore et dolore magna aliqua.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TextBox 5"/>
          <p:cNvSpPr/>
          <p:nvPr/>
        </p:nvSpPr>
        <p:spPr>
          <a:xfrm>
            <a:off x="816120" y="2857680"/>
            <a:ext cx="4106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5b665"/>
                </a:solidFill>
                <a:latin typeface="Montserrat ExtraBold"/>
                <a:ea typeface="Poppins"/>
              </a:rPr>
              <a:t>THANK </a:t>
            </a:r>
            <a:r>
              <a:rPr b="0" lang="en-US" sz="4800" spc="-1" strike="noStrike">
                <a:solidFill>
                  <a:srgbClr val="152d32"/>
                </a:solidFill>
                <a:latin typeface="Montserrat ExtraBold"/>
                <a:ea typeface="Poppins"/>
              </a:rPr>
              <a:t>YOU</a:t>
            </a:r>
            <a:endParaRPr b="0" lang="en-US" sz="4800" spc="-1" strike="noStrike">
              <a:solidFill>
                <a:srgbClr val="000000"/>
              </a:solidFill>
              <a:latin typeface="Calibri"/>
            </a:endParaRPr>
          </a:p>
        </p:txBody>
      </p:sp>
      <p:sp>
        <p:nvSpPr>
          <p:cNvPr id="1837" name="TextBox 6"/>
          <p:cNvSpPr/>
          <p:nvPr/>
        </p:nvSpPr>
        <p:spPr>
          <a:xfrm>
            <a:off x="857160" y="3687840"/>
            <a:ext cx="399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Poppins"/>
                <a:ea typeface="Poppins"/>
              </a:rPr>
              <a:t>Golf Club Presentation Templat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TextBox 2"/>
          <p:cNvSpPr/>
          <p:nvPr/>
        </p:nvSpPr>
        <p:spPr>
          <a:xfrm>
            <a:off x="6856560" y="2262240"/>
            <a:ext cx="4655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ppins SemiBold"/>
                <a:ea typeface="Poppins SemiBold"/>
              </a:rPr>
              <a:t>Why Choose Golferina?</a:t>
            </a:r>
            <a:endParaRPr b="0" lang="en-US" sz="2600" spc="-1" strike="noStrike">
              <a:solidFill>
                <a:srgbClr val="000000"/>
              </a:solidFill>
              <a:latin typeface="Calibri"/>
            </a:endParaRPr>
          </a:p>
        </p:txBody>
      </p:sp>
      <p:sp>
        <p:nvSpPr>
          <p:cNvPr id="1293" name="TextBox 3"/>
          <p:cNvSpPr/>
          <p:nvPr/>
        </p:nvSpPr>
        <p:spPr>
          <a:xfrm>
            <a:off x="6856560" y="1987560"/>
            <a:ext cx="1973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SemiBold"/>
                <a:ea typeface="Poppins Medium"/>
              </a:rPr>
              <a:t>ABOUT GOLFERINA</a:t>
            </a:r>
            <a:endParaRPr b="0" lang="en-US" sz="1100" spc="-1" strike="noStrike">
              <a:solidFill>
                <a:srgbClr val="000000"/>
              </a:solidFill>
              <a:latin typeface="Calibri"/>
            </a:endParaRPr>
          </a:p>
        </p:txBody>
      </p:sp>
      <p:sp>
        <p:nvSpPr>
          <p:cNvPr id="1294" name="TextBox 4"/>
          <p:cNvSpPr/>
          <p:nvPr/>
        </p:nvSpPr>
        <p:spPr>
          <a:xfrm>
            <a:off x="6856560" y="2806560"/>
            <a:ext cx="42624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elit sed do eiusmod tempor incididunt ut labore et dolore magna aliqua. Ut enim ad minim veniam quis nostrud exercitation ullamco laboris nisi ut aliquip ex ea commodo consequat duis aute </a:t>
            </a:r>
            <a:endParaRPr b="0" lang="en-US" sz="1100" spc="-1" strike="noStrike">
              <a:solidFill>
                <a:srgbClr val="000000"/>
              </a:solidFill>
              <a:latin typeface="Calibri"/>
            </a:endParaRPr>
          </a:p>
        </p:txBody>
      </p:sp>
      <p:grpSp>
        <p:nvGrpSpPr>
          <p:cNvPr id="1295" name="Group 32"/>
          <p:cNvGrpSpPr/>
          <p:nvPr/>
        </p:nvGrpSpPr>
        <p:grpSpPr>
          <a:xfrm>
            <a:off x="6856560" y="4408560"/>
            <a:ext cx="2028600" cy="1046160"/>
            <a:chOff x="6856560" y="4408560"/>
            <a:chExt cx="2028600" cy="1046160"/>
          </a:xfrm>
        </p:grpSpPr>
        <p:sp>
          <p:nvSpPr>
            <p:cNvPr id="1296" name="TextBox 8"/>
            <p:cNvSpPr/>
            <p:nvPr/>
          </p:nvSpPr>
          <p:spPr>
            <a:xfrm>
              <a:off x="6856560" y="4608000"/>
              <a:ext cx="20286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 esse cillum dolore eu fugiat nulla</a:t>
              </a:r>
              <a:endParaRPr b="0" lang="en-US" sz="1100" spc="-1" strike="noStrike">
                <a:solidFill>
                  <a:srgbClr val="000000"/>
                </a:solidFill>
                <a:latin typeface="Calibri"/>
              </a:endParaRPr>
            </a:p>
          </p:txBody>
        </p:sp>
        <p:sp>
          <p:nvSpPr>
            <p:cNvPr id="1297" name="TextBox 9"/>
            <p:cNvSpPr/>
            <p:nvPr/>
          </p:nvSpPr>
          <p:spPr>
            <a:xfrm>
              <a:off x="6856560" y="4408560"/>
              <a:ext cx="202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WONDERFUL SERVICE</a:t>
              </a:r>
              <a:endParaRPr b="0" lang="en-US" sz="1100" spc="-1" strike="noStrike">
                <a:solidFill>
                  <a:srgbClr val="000000"/>
                </a:solidFill>
                <a:latin typeface="Calibri"/>
              </a:endParaRPr>
            </a:p>
          </p:txBody>
        </p:sp>
      </p:grpSp>
      <p:grpSp>
        <p:nvGrpSpPr>
          <p:cNvPr id="1298" name="Group 33"/>
          <p:cNvGrpSpPr/>
          <p:nvPr/>
        </p:nvGrpSpPr>
        <p:grpSpPr>
          <a:xfrm>
            <a:off x="9342360" y="4408560"/>
            <a:ext cx="2125800" cy="795240"/>
            <a:chOff x="9342360" y="4408560"/>
            <a:chExt cx="2125800" cy="795240"/>
          </a:xfrm>
        </p:grpSpPr>
        <p:sp>
          <p:nvSpPr>
            <p:cNvPr id="1299" name="TextBox 10"/>
            <p:cNvSpPr/>
            <p:nvPr/>
          </p:nvSpPr>
          <p:spPr>
            <a:xfrm>
              <a:off x="9342360" y="4608000"/>
              <a:ext cx="21258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 esse cillum dolore eu fugiat nulla</a:t>
              </a:r>
              <a:endParaRPr b="0" lang="en-US" sz="1100" spc="-1" strike="noStrike">
                <a:solidFill>
                  <a:srgbClr val="000000"/>
                </a:solidFill>
                <a:latin typeface="Calibri"/>
              </a:endParaRPr>
            </a:p>
          </p:txBody>
        </p:sp>
        <p:sp>
          <p:nvSpPr>
            <p:cNvPr id="1300" name="TextBox 11"/>
            <p:cNvSpPr/>
            <p:nvPr/>
          </p:nvSpPr>
          <p:spPr>
            <a:xfrm>
              <a:off x="9342360" y="4408560"/>
              <a:ext cx="2125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GREAT FACILITIES</a:t>
              </a:r>
              <a:endParaRPr b="0" lang="en-US" sz="1100" spc="-1" strike="noStrike">
                <a:solidFill>
                  <a:srgbClr val="000000"/>
                </a:solidFill>
                <a:latin typeface="Calibri"/>
              </a:endParaRPr>
            </a:p>
          </p:txBody>
        </p:sp>
      </p:grpSp>
      <p:grpSp>
        <p:nvGrpSpPr>
          <p:cNvPr id="1301" name="Group 15"/>
          <p:cNvGrpSpPr/>
          <p:nvPr/>
        </p:nvGrpSpPr>
        <p:grpSpPr>
          <a:xfrm>
            <a:off x="6932160" y="4202280"/>
            <a:ext cx="687600" cy="120600"/>
            <a:chOff x="6932160" y="4202280"/>
            <a:chExt cx="687600" cy="120600"/>
          </a:xfrm>
        </p:grpSpPr>
        <p:sp>
          <p:nvSpPr>
            <p:cNvPr id="1302" name="Star: 5 Points 16"/>
            <p:cNvSpPr/>
            <p:nvPr/>
          </p:nvSpPr>
          <p:spPr>
            <a:xfrm flipH="1">
              <a:off x="6931800" y="4202280"/>
              <a:ext cx="120600" cy="1206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3" name="Star: 5 Points 17"/>
            <p:cNvSpPr/>
            <p:nvPr/>
          </p:nvSpPr>
          <p:spPr>
            <a:xfrm flipH="1">
              <a:off x="7073280" y="4202280"/>
              <a:ext cx="120600" cy="1206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4" name="Star: 5 Points 18"/>
            <p:cNvSpPr/>
            <p:nvPr/>
          </p:nvSpPr>
          <p:spPr>
            <a:xfrm flipH="1">
              <a:off x="7215120" y="4202280"/>
              <a:ext cx="120600" cy="1206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5" name="Star: 5 Points 19"/>
            <p:cNvSpPr/>
            <p:nvPr/>
          </p:nvSpPr>
          <p:spPr>
            <a:xfrm flipH="1">
              <a:off x="7356960" y="4202280"/>
              <a:ext cx="120600" cy="1206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6" name="Star: 5 Points 20"/>
            <p:cNvSpPr/>
            <p:nvPr/>
          </p:nvSpPr>
          <p:spPr>
            <a:xfrm flipH="1">
              <a:off x="7498800" y="4202280"/>
              <a:ext cx="120600" cy="1206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07" name="Group 21"/>
          <p:cNvGrpSpPr/>
          <p:nvPr/>
        </p:nvGrpSpPr>
        <p:grpSpPr>
          <a:xfrm>
            <a:off x="9402840" y="4202280"/>
            <a:ext cx="685800" cy="120600"/>
            <a:chOff x="9402840" y="4202280"/>
            <a:chExt cx="685800" cy="120600"/>
          </a:xfrm>
        </p:grpSpPr>
        <p:sp>
          <p:nvSpPr>
            <p:cNvPr id="1308" name="Star: 5 Points 22"/>
            <p:cNvSpPr/>
            <p:nvPr/>
          </p:nvSpPr>
          <p:spPr>
            <a:xfrm flipH="1">
              <a:off x="9402840" y="4202280"/>
              <a:ext cx="120240" cy="1206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9" name="Star: 5 Points 23"/>
            <p:cNvSpPr/>
            <p:nvPr/>
          </p:nvSpPr>
          <p:spPr>
            <a:xfrm flipH="1">
              <a:off x="9543960" y="4202280"/>
              <a:ext cx="120240" cy="1206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0" name="Star: 5 Points 24"/>
            <p:cNvSpPr/>
            <p:nvPr/>
          </p:nvSpPr>
          <p:spPr>
            <a:xfrm flipH="1">
              <a:off x="9685440" y="4202280"/>
              <a:ext cx="120240" cy="1206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1" name="Star: 5 Points 25"/>
            <p:cNvSpPr/>
            <p:nvPr/>
          </p:nvSpPr>
          <p:spPr>
            <a:xfrm flipH="1">
              <a:off x="9826920" y="4202280"/>
              <a:ext cx="120240" cy="1206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2" name="Star: 5 Points 26"/>
            <p:cNvSpPr/>
            <p:nvPr/>
          </p:nvSpPr>
          <p:spPr>
            <a:xfrm flipH="1">
              <a:off x="9968400" y="4202280"/>
              <a:ext cx="120240" cy="120600"/>
            </a:xfrm>
            <a:custGeom>
              <a:avLst/>
              <a:gdLst/>
              <a:ahLst/>
              <a:rect l="l" t="t" r="r" b="b"/>
              <a:pathLst>
                <a:path w="98426" h="98426">
                  <a:moveTo>
                    <a:pt x="0" y="37595"/>
                  </a:moveTo>
                  <a:lnTo>
                    <a:pt x="37596" y="37596"/>
                  </a:lnTo>
                  <a:lnTo>
                    <a:pt x="49213" y="0"/>
                  </a:lnTo>
                  <a:lnTo>
                    <a:pt x="60830" y="37596"/>
                  </a:lnTo>
                  <a:lnTo>
                    <a:pt x="98426" y="37595"/>
                  </a:lnTo>
                  <a:lnTo>
                    <a:pt x="68010" y="60830"/>
                  </a:lnTo>
                  <a:lnTo>
                    <a:pt x="79628" y="98426"/>
                  </a:lnTo>
                  <a:lnTo>
                    <a:pt x="49213" y="75190"/>
                  </a:lnTo>
                  <a:lnTo>
                    <a:pt x="18798" y="98426"/>
                  </a:lnTo>
                  <a:lnTo>
                    <a:pt x="30416" y="60830"/>
                  </a:lnTo>
                  <a:lnTo>
                    <a:pt x="0" y="37595"/>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313" name="Straight Connector 28"/>
          <p:cNvSpPr/>
          <p:nvPr/>
        </p:nvSpPr>
        <p:spPr>
          <a:xfrm>
            <a:off x="8986680" y="4240080"/>
            <a:ext cx="0" cy="91944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TextBox 3"/>
          <p:cNvSpPr/>
          <p:nvPr/>
        </p:nvSpPr>
        <p:spPr>
          <a:xfrm>
            <a:off x="8829720" y="1486080"/>
            <a:ext cx="2733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Start a New Journey With Golferina</a:t>
            </a:r>
            <a:endParaRPr b="0" lang="en-US" sz="2600" spc="-1" strike="noStrike">
              <a:solidFill>
                <a:srgbClr val="000000"/>
              </a:solidFill>
              <a:latin typeface="Calibri"/>
            </a:endParaRPr>
          </a:p>
        </p:txBody>
      </p:sp>
      <p:sp>
        <p:nvSpPr>
          <p:cNvPr id="1315" name="TextBox 15"/>
          <p:cNvSpPr/>
          <p:nvPr/>
        </p:nvSpPr>
        <p:spPr>
          <a:xfrm>
            <a:off x="8829720" y="1224000"/>
            <a:ext cx="2787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ABOUT GOLFERINA</a:t>
            </a:r>
            <a:endParaRPr b="0" lang="en-US" sz="1100" spc="-1" strike="noStrike">
              <a:solidFill>
                <a:srgbClr val="000000"/>
              </a:solidFill>
              <a:latin typeface="Calibri"/>
            </a:endParaRPr>
          </a:p>
        </p:txBody>
      </p:sp>
      <p:sp>
        <p:nvSpPr>
          <p:cNvPr id="1316" name="TextBox 26"/>
          <p:cNvSpPr/>
          <p:nvPr/>
        </p:nvSpPr>
        <p:spPr>
          <a:xfrm>
            <a:off x="8829720" y="2778120"/>
            <a:ext cx="2787480" cy="3355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es ns dolor sit amet consectetur adipiscing elit menased do eiusmod tempor incididunt ut labore et dolore magna aliqua. Ut enim adnew minim veniam quis nostrud exercitation ullamco laboris nisi ut aliquip ex ea commodo consequat. Duis aute irure dolor in reprehenderit in voluptate velit esse cillum dolore eu fugiat nulla pariatur. Excepteur sint occaecat cupidatat non proident, sunt in culpa qui officia deseruntid est laborum.</a:t>
            </a:r>
            <a:endParaRPr b="0" lang="en-US" sz="1100" spc="-1" strike="noStrike">
              <a:solidFill>
                <a:srgbClr val="000000"/>
              </a:solidFill>
              <a:latin typeface="Calibri"/>
            </a:endParaRPr>
          </a:p>
        </p:txBody>
      </p:sp>
      <p:sp>
        <p:nvSpPr>
          <p:cNvPr id="1317" name="Rectangle 7"/>
          <p:cNvSpPr/>
          <p:nvPr/>
        </p:nvSpPr>
        <p:spPr>
          <a:xfrm>
            <a:off x="898560" y="4473720"/>
            <a:ext cx="3014640" cy="150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8" name="TextBox 4"/>
          <p:cNvSpPr/>
          <p:nvPr/>
        </p:nvSpPr>
        <p:spPr>
          <a:xfrm>
            <a:off x="1257480" y="5073480"/>
            <a:ext cx="2655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 reprehenderit voluptate esse cillum dolore eu fugiat</a:t>
            </a:r>
            <a:endParaRPr b="0" lang="en-US" sz="1100" spc="-1" strike="noStrike">
              <a:solidFill>
                <a:srgbClr val="000000"/>
              </a:solidFill>
              <a:latin typeface="Calibri"/>
            </a:endParaRPr>
          </a:p>
        </p:txBody>
      </p:sp>
      <p:sp>
        <p:nvSpPr>
          <p:cNvPr id="1319" name="TextBox 5"/>
          <p:cNvSpPr/>
          <p:nvPr/>
        </p:nvSpPr>
        <p:spPr>
          <a:xfrm>
            <a:off x="1257480" y="4813200"/>
            <a:ext cx="2655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01. THE GOLFERINA MEMBERS</a:t>
            </a:r>
            <a:endParaRPr b="0" lang="en-US" sz="1100" spc="-1" strike="noStrike">
              <a:solidFill>
                <a:srgbClr val="000000"/>
              </a:solidFill>
              <a:latin typeface="Calibri"/>
            </a:endParaRPr>
          </a:p>
        </p:txBody>
      </p:sp>
      <p:sp>
        <p:nvSpPr>
          <p:cNvPr id="1320" name="Rectangle 9"/>
          <p:cNvSpPr/>
          <p:nvPr/>
        </p:nvSpPr>
        <p:spPr>
          <a:xfrm>
            <a:off x="4762440" y="4473720"/>
            <a:ext cx="3014640" cy="1503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TextBox 10"/>
          <p:cNvSpPr/>
          <p:nvPr/>
        </p:nvSpPr>
        <p:spPr>
          <a:xfrm>
            <a:off x="5121360" y="5073480"/>
            <a:ext cx="2655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 reprehenderit voluptate esse cillum dolore eu fugiat</a:t>
            </a:r>
            <a:endParaRPr b="0" lang="en-US" sz="1100" spc="-1" strike="noStrike">
              <a:solidFill>
                <a:srgbClr val="000000"/>
              </a:solidFill>
              <a:latin typeface="Calibri"/>
            </a:endParaRPr>
          </a:p>
        </p:txBody>
      </p:sp>
      <p:sp>
        <p:nvSpPr>
          <p:cNvPr id="1322" name="TextBox 11"/>
          <p:cNvSpPr/>
          <p:nvPr/>
        </p:nvSpPr>
        <p:spPr>
          <a:xfrm>
            <a:off x="5121360" y="4813200"/>
            <a:ext cx="2655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02. THE GOLFERINA COURS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2"/>
          <p:cNvSpPr/>
          <p:nvPr/>
        </p:nvSpPr>
        <p:spPr>
          <a:xfrm>
            <a:off x="1206360" y="973080"/>
            <a:ext cx="4327560" cy="1839960"/>
          </a:xfrm>
          <a:prstGeom prst="rect">
            <a:avLst/>
          </a:prstGeom>
          <a:noFill/>
          <a:ln w="38160">
            <a:solidFill>
              <a:srgbClr val="d5b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4" name="Rectangle 3"/>
          <p:cNvSpPr/>
          <p:nvPr/>
        </p:nvSpPr>
        <p:spPr>
          <a:xfrm>
            <a:off x="1036800" y="1285920"/>
            <a:ext cx="4667040" cy="1212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5" name="Group 5"/>
          <p:cNvGrpSpPr/>
          <p:nvPr/>
        </p:nvGrpSpPr>
        <p:grpSpPr>
          <a:xfrm>
            <a:off x="915840" y="1566720"/>
            <a:ext cx="654120" cy="652680"/>
            <a:chOff x="915840" y="1566720"/>
            <a:chExt cx="654120" cy="652680"/>
          </a:xfrm>
        </p:grpSpPr>
        <p:sp>
          <p:nvSpPr>
            <p:cNvPr id="1326" name="Freeform: Shape 6"/>
            <p:cNvSpPr/>
            <p:nvPr/>
          </p:nvSpPr>
          <p:spPr>
            <a:xfrm>
              <a:off x="915840" y="1566720"/>
              <a:ext cx="654120" cy="652680"/>
            </a:xfrm>
            <a:custGeom>
              <a:avLst/>
              <a:gdLst/>
              <a:ahLst/>
              <a:rect l="l" t="t" r="r" b="b"/>
              <a:pathLst>
                <a:path w="773429" h="772477">
                  <a:moveTo>
                    <a:pt x="647700" y="772478"/>
                  </a:moveTo>
                  <a:lnTo>
                    <a:pt x="125730" y="772478"/>
                  </a:lnTo>
                  <a:cubicBezTo>
                    <a:pt x="56198" y="772478"/>
                    <a:pt x="0" y="716280"/>
                    <a:pt x="0" y="646748"/>
                  </a:cubicBezTo>
                  <a:lnTo>
                    <a:pt x="0" y="125730"/>
                  </a:lnTo>
                  <a:cubicBezTo>
                    <a:pt x="0" y="56198"/>
                    <a:pt x="56198" y="0"/>
                    <a:pt x="125730" y="0"/>
                  </a:cubicBezTo>
                  <a:lnTo>
                    <a:pt x="647700" y="0"/>
                  </a:lnTo>
                  <a:cubicBezTo>
                    <a:pt x="717233" y="0"/>
                    <a:pt x="773430" y="56198"/>
                    <a:pt x="773430" y="125730"/>
                  </a:cubicBezTo>
                  <a:lnTo>
                    <a:pt x="773430" y="647700"/>
                  </a:lnTo>
                  <a:cubicBezTo>
                    <a:pt x="772478" y="716280"/>
                    <a:pt x="716280" y="772478"/>
                    <a:pt x="647700" y="772478"/>
                  </a:cubicBezTo>
                  <a:close/>
                </a:path>
              </a:pathLst>
            </a:custGeom>
            <a:solidFill>
              <a:srgbClr val="d5b66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7" name="Freeform: Shape 8"/>
            <p:cNvSpPr/>
            <p:nvPr/>
          </p:nvSpPr>
          <p:spPr>
            <a:xfrm>
              <a:off x="945360" y="1672200"/>
              <a:ext cx="624600" cy="547200"/>
            </a:xfrm>
            <a:custGeom>
              <a:avLst/>
              <a:gdLst/>
              <a:ahLst/>
              <a:rect l="l" t="t" r="r" b="b"/>
              <a:pathLst>
                <a:path w="738187" h="647699">
                  <a:moveTo>
                    <a:pt x="726758" y="113348"/>
                  </a:moveTo>
                  <a:cubicBezTo>
                    <a:pt x="725805" y="114300"/>
                    <a:pt x="724853" y="115252"/>
                    <a:pt x="723900" y="116205"/>
                  </a:cubicBezTo>
                  <a:cubicBezTo>
                    <a:pt x="722948" y="115252"/>
                    <a:pt x="721995" y="115252"/>
                    <a:pt x="721043" y="114300"/>
                  </a:cubicBezTo>
                  <a:cubicBezTo>
                    <a:pt x="719138" y="112395"/>
                    <a:pt x="716280" y="111443"/>
                    <a:pt x="713423" y="111443"/>
                  </a:cubicBezTo>
                  <a:cubicBezTo>
                    <a:pt x="710565" y="110490"/>
                    <a:pt x="707708" y="109538"/>
                    <a:pt x="705803" y="107633"/>
                  </a:cubicBezTo>
                  <a:cubicBezTo>
                    <a:pt x="702945" y="105727"/>
                    <a:pt x="699135" y="103823"/>
                    <a:pt x="696278" y="103823"/>
                  </a:cubicBezTo>
                  <a:cubicBezTo>
                    <a:pt x="694373" y="103823"/>
                    <a:pt x="692468" y="103823"/>
                    <a:pt x="689610" y="104775"/>
                  </a:cubicBezTo>
                  <a:cubicBezTo>
                    <a:pt x="687705" y="105727"/>
                    <a:pt x="684848" y="105727"/>
                    <a:pt x="681990" y="105727"/>
                  </a:cubicBezTo>
                  <a:cubicBezTo>
                    <a:pt x="678180" y="104775"/>
                    <a:pt x="675323" y="104775"/>
                    <a:pt x="671513" y="106680"/>
                  </a:cubicBezTo>
                  <a:cubicBezTo>
                    <a:pt x="670560" y="107633"/>
                    <a:pt x="668655" y="106680"/>
                    <a:pt x="667703" y="106680"/>
                  </a:cubicBezTo>
                  <a:cubicBezTo>
                    <a:pt x="664845" y="106680"/>
                    <a:pt x="662940" y="105727"/>
                    <a:pt x="660083" y="104775"/>
                  </a:cubicBezTo>
                  <a:cubicBezTo>
                    <a:pt x="657225" y="103823"/>
                    <a:pt x="655320" y="104775"/>
                    <a:pt x="653415" y="106680"/>
                  </a:cubicBezTo>
                  <a:cubicBezTo>
                    <a:pt x="651510" y="109538"/>
                    <a:pt x="649605" y="112395"/>
                    <a:pt x="648653" y="114300"/>
                  </a:cubicBezTo>
                  <a:cubicBezTo>
                    <a:pt x="648653" y="115252"/>
                    <a:pt x="647700" y="116205"/>
                    <a:pt x="647700" y="117158"/>
                  </a:cubicBezTo>
                  <a:cubicBezTo>
                    <a:pt x="645795" y="117158"/>
                    <a:pt x="643890" y="117158"/>
                    <a:pt x="641985" y="118110"/>
                  </a:cubicBezTo>
                  <a:cubicBezTo>
                    <a:pt x="641033" y="118110"/>
                    <a:pt x="640080" y="118110"/>
                    <a:pt x="639128" y="118110"/>
                  </a:cubicBezTo>
                  <a:cubicBezTo>
                    <a:pt x="635318" y="120015"/>
                    <a:pt x="631508" y="119063"/>
                    <a:pt x="628650" y="119063"/>
                  </a:cubicBezTo>
                  <a:cubicBezTo>
                    <a:pt x="628650" y="119063"/>
                    <a:pt x="627698" y="119063"/>
                    <a:pt x="627698" y="119063"/>
                  </a:cubicBezTo>
                  <a:cubicBezTo>
                    <a:pt x="619125" y="119063"/>
                    <a:pt x="618173" y="121920"/>
                    <a:pt x="617220" y="128588"/>
                  </a:cubicBezTo>
                  <a:cubicBezTo>
                    <a:pt x="617220" y="130493"/>
                    <a:pt x="617220" y="132398"/>
                    <a:pt x="617220" y="135255"/>
                  </a:cubicBezTo>
                  <a:cubicBezTo>
                    <a:pt x="607695" y="135255"/>
                    <a:pt x="599123" y="135255"/>
                    <a:pt x="589598" y="136208"/>
                  </a:cubicBezTo>
                  <a:cubicBezTo>
                    <a:pt x="589598" y="134303"/>
                    <a:pt x="589598" y="133350"/>
                    <a:pt x="589598" y="131445"/>
                  </a:cubicBezTo>
                  <a:cubicBezTo>
                    <a:pt x="590550" y="123825"/>
                    <a:pt x="589598" y="117158"/>
                    <a:pt x="589598" y="110490"/>
                  </a:cubicBezTo>
                  <a:cubicBezTo>
                    <a:pt x="588645" y="105727"/>
                    <a:pt x="589598" y="100013"/>
                    <a:pt x="589598" y="95250"/>
                  </a:cubicBezTo>
                  <a:cubicBezTo>
                    <a:pt x="589598" y="95250"/>
                    <a:pt x="589598" y="94298"/>
                    <a:pt x="589598" y="94298"/>
                  </a:cubicBezTo>
                  <a:cubicBezTo>
                    <a:pt x="591503" y="91440"/>
                    <a:pt x="592455" y="88583"/>
                    <a:pt x="594360" y="85725"/>
                  </a:cubicBezTo>
                  <a:cubicBezTo>
                    <a:pt x="596265" y="86677"/>
                    <a:pt x="597218" y="87630"/>
                    <a:pt x="598170" y="87630"/>
                  </a:cubicBezTo>
                  <a:cubicBezTo>
                    <a:pt x="600075" y="88583"/>
                    <a:pt x="601980" y="88583"/>
                    <a:pt x="604838" y="88583"/>
                  </a:cubicBezTo>
                  <a:cubicBezTo>
                    <a:pt x="606743" y="88583"/>
                    <a:pt x="608648" y="87630"/>
                    <a:pt x="608648" y="85725"/>
                  </a:cubicBezTo>
                  <a:cubicBezTo>
                    <a:pt x="608648" y="83820"/>
                    <a:pt x="609600" y="82868"/>
                    <a:pt x="609600" y="80963"/>
                  </a:cubicBezTo>
                  <a:cubicBezTo>
                    <a:pt x="609600" y="74295"/>
                    <a:pt x="608648" y="67627"/>
                    <a:pt x="603885" y="61913"/>
                  </a:cubicBezTo>
                  <a:cubicBezTo>
                    <a:pt x="599123" y="55245"/>
                    <a:pt x="593408" y="48577"/>
                    <a:pt x="587693" y="43815"/>
                  </a:cubicBezTo>
                  <a:cubicBezTo>
                    <a:pt x="585788" y="41910"/>
                    <a:pt x="583883" y="40005"/>
                    <a:pt x="582930" y="38100"/>
                  </a:cubicBezTo>
                  <a:cubicBezTo>
                    <a:pt x="581978" y="35243"/>
                    <a:pt x="580073" y="32385"/>
                    <a:pt x="579120" y="29527"/>
                  </a:cubicBezTo>
                  <a:cubicBezTo>
                    <a:pt x="576263" y="23813"/>
                    <a:pt x="572453" y="19050"/>
                    <a:pt x="567690" y="15240"/>
                  </a:cubicBezTo>
                  <a:cubicBezTo>
                    <a:pt x="562928" y="11430"/>
                    <a:pt x="558165" y="8573"/>
                    <a:pt x="552450" y="6667"/>
                  </a:cubicBezTo>
                  <a:cubicBezTo>
                    <a:pt x="546735" y="4763"/>
                    <a:pt x="541020" y="1905"/>
                    <a:pt x="535305" y="953"/>
                  </a:cubicBezTo>
                  <a:cubicBezTo>
                    <a:pt x="533400" y="953"/>
                    <a:pt x="531495" y="0"/>
                    <a:pt x="529590" y="0"/>
                  </a:cubicBezTo>
                  <a:cubicBezTo>
                    <a:pt x="525780" y="0"/>
                    <a:pt x="521018" y="0"/>
                    <a:pt x="517208" y="0"/>
                  </a:cubicBezTo>
                  <a:cubicBezTo>
                    <a:pt x="513398" y="953"/>
                    <a:pt x="508635" y="953"/>
                    <a:pt x="504825" y="1905"/>
                  </a:cubicBezTo>
                  <a:cubicBezTo>
                    <a:pt x="502920" y="1905"/>
                    <a:pt x="501015" y="2858"/>
                    <a:pt x="500063" y="3810"/>
                  </a:cubicBezTo>
                  <a:cubicBezTo>
                    <a:pt x="499110" y="4763"/>
                    <a:pt x="497205" y="5715"/>
                    <a:pt x="496253" y="5715"/>
                  </a:cubicBezTo>
                  <a:cubicBezTo>
                    <a:pt x="492443" y="5715"/>
                    <a:pt x="489585" y="7620"/>
                    <a:pt x="486728" y="8573"/>
                  </a:cubicBezTo>
                  <a:cubicBezTo>
                    <a:pt x="478155" y="12383"/>
                    <a:pt x="470535" y="17145"/>
                    <a:pt x="463868" y="22860"/>
                  </a:cubicBezTo>
                  <a:cubicBezTo>
                    <a:pt x="458153" y="27623"/>
                    <a:pt x="453390" y="33338"/>
                    <a:pt x="450533" y="40005"/>
                  </a:cubicBezTo>
                  <a:cubicBezTo>
                    <a:pt x="445770" y="50483"/>
                    <a:pt x="442913" y="61913"/>
                    <a:pt x="441960" y="74295"/>
                  </a:cubicBezTo>
                  <a:cubicBezTo>
                    <a:pt x="441008" y="82868"/>
                    <a:pt x="441008" y="91440"/>
                    <a:pt x="441008" y="99060"/>
                  </a:cubicBezTo>
                  <a:cubicBezTo>
                    <a:pt x="441008" y="100965"/>
                    <a:pt x="440055" y="102870"/>
                    <a:pt x="439103" y="103823"/>
                  </a:cubicBezTo>
                  <a:cubicBezTo>
                    <a:pt x="435293" y="106680"/>
                    <a:pt x="434340" y="111443"/>
                    <a:pt x="435293" y="116205"/>
                  </a:cubicBezTo>
                  <a:cubicBezTo>
                    <a:pt x="436245" y="118110"/>
                    <a:pt x="436245" y="120015"/>
                    <a:pt x="437198" y="122873"/>
                  </a:cubicBezTo>
                  <a:cubicBezTo>
                    <a:pt x="437198" y="124777"/>
                    <a:pt x="438150" y="126683"/>
                    <a:pt x="438150" y="128588"/>
                  </a:cubicBezTo>
                  <a:cubicBezTo>
                    <a:pt x="438150" y="130493"/>
                    <a:pt x="438150" y="132398"/>
                    <a:pt x="439103" y="134303"/>
                  </a:cubicBezTo>
                  <a:cubicBezTo>
                    <a:pt x="436245" y="134303"/>
                    <a:pt x="433388" y="134303"/>
                    <a:pt x="429578" y="134303"/>
                  </a:cubicBezTo>
                  <a:cubicBezTo>
                    <a:pt x="429578" y="137160"/>
                    <a:pt x="429578" y="140018"/>
                    <a:pt x="429578" y="142875"/>
                  </a:cubicBezTo>
                  <a:cubicBezTo>
                    <a:pt x="428625" y="142875"/>
                    <a:pt x="427673" y="142875"/>
                    <a:pt x="426720" y="142875"/>
                  </a:cubicBezTo>
                  <a:cubicBezTo>
                    <a:pt x="407670" y="143828"/>
                    <a:pt x="387668" y="143828"/>
                    <a:pt x="368618" y="144780"/>
                  </a:cubicBezTo>
                  <a:cubicBezTo>
                    <a:pt x="344805" y="145733"/>
                    <a:pt x="320040" y="146685"/>
                    <a:pt x="296228" y="147638"/>
                  </a:cubicBezTo>
                  <a:cubicBezTo>
                    <a:pt x="284798" y="147638"/>
                    <a:pt x="272415" y="148590"/>
                    <a:pt x="260985" y="148590"/>
                  </a:cubicBezTo>
                  <a:cubicBezTo>
                    <a:pt x="226695" y="149543"/>
                    <a:pt x="193358" y="151448"/>
                    <a:pt x="159068" y="152400"/>
                  </a:cubicBezTo>
                  <a:cubicBezTo>
                    <a:pt x="138113" y="153353"/>
                    <a:pt x="118110" y="153353"/>
                    <a:pt x="97155" y="154305"/>
                  </a:cubicBezTo>
                  <a:cubicBezTo>
                    <a:pt x="95250" y="154305"/>
                    <a:pt x="92393" y="154305"/>
                    <a:pt x="90488" y="154305"/>
                  </a:cubicBezTo>
                  <a:cubicBezTo>
                    <a:pt x="88583" y="154305"/>
                    <a:pt x="86678" y="155258"/>
                    <a:pt x="84773" y="153353"/>
                  </a:cubicBezTo>
                  <a:cubicBezTo>
                    <a:pt x="84773" y="153353"/>
                    <a:pt x="83820" y="153353"/>
                    <a:pt x="82868" y="153353"/>
                  </a:cubicBezTo>
                  <a:cubicBezTo>
                    <a:pt x="68580" y="153353"/>
                    <a:pt x="54293" y="153353"/>
                    <a:pt x="40005" y="154305"/>
                  </a:cubicBezTo>
                  <a:cubicBezTo>
                    <a:pt x="34290" y="155258"/>
                    <a:pt x="30480" y="157163"/>
                    <a:pt x="25717" y="160020"/>
                  </a:cubicBezTo>
                  <a:cubicBezTo>
                    <a:pt x="21908" y="162878"/>
                    <a:pt x="18098" y="166688"/>
                    <a:pt x="15240" y="171450"/>
                  </a:cubicBezTo>
                  <a:cubicBezTo>
                    <a:pt x="8573" y="181928"/>
                    <a:pt x="2858" y="192405"/>
                    <a:pt x="952" y="204788"/>
                  </a:cubicBezTo>
                  <a:cubicBezTo>
                    <a:pt x="952" y="205740"/>
                    <a:pt x="0" y="206693"/>
                    <a:pt x="0" y="207645"/>
                  </a:cubicBezTo>
                  <a:cubicBezTo>
                    <a:pt x="0" y="209550"/>
                    <a:pt x="0" y="211455"/>
                    <a:pt x="0" y="213360"/>
                  </a:cubicBezTo>
                  <a:cubicBezTo>
                    <a:pt x="0" y="214313"/>
                    <a:pt x="952" y="216218"/>
                    <a:pt x="952" y="217170"/>
                  </a:cubicBezTo>
                  <a:cubicBezTo>
                    <a:pt x="2858" y="221933"/>
                    <a:pt x="5715" y="225743"/>
                    <a:pt x="10477" y="227647"/>
                  </a:cubicBezTo>
                  <a:cubicBezTo>
                    <a:pt x="13335" y="228600"/>
                    <a:pt x="17145" y="228600"/>
                    <a:pt x="20955" y="228600"/>
                  </a:cubicBezTo>
                  <a:cubicBezTo>
                    <a:pt x="25717" y="227647"/>
                    <a:pt x="29528" y="225743"/>
                    <a:pt x="31433" y="220980"/>
                  </a:cubicBezTo>
                  <a:cubicBezTo>
                    <a:pt x="33338" y="218122"/>
                    <a:pt x="34290" y="215265"/>
                    <a:pt x="35243" y="212408"/>
                  </a:cubicBezTo>
                  <a:cubicBezTo>
                    <a:pt x="38100" y="197168"/>
                    <a:pt x="40005" y="182880"/>
                    <a:pt x="38100" y="168593"/>
                  </a:cubicBezTo>
                  <a:cubicBezTo>
                    <a:pt x="38100" y="166688"/>
                    <a:pt x="38100" y="165735"/>
                    <a:pt x="38100" y="163830"/>
                  </a:cubicBezTo>
                  <a:cubicBezTo>
                    <a:pt x="39053" y="163830"/>
                    <a:pt x="40005" y="163830"/>
                    <a:pt x="40958" y="163830"/>
                  </a:cubicBezTo>
                  <a:cubicBezTo>
                    <a:pt x="54293" y="163830"/>
                    <a:pt x="66675" y="162878"/>
                    <a:pt x="80010" y="162878"/>
                  </a:cubicBezTo>
                  <a:cubicBezTo>
                    <a:pt x="80963" y="162878"/>
                    <a:pt x="82868" y="162878"/>
                    <a:pt x="83820" y="162878"/>
                  </a:cubicBezTo>
                  <a:cubicBezTo>
                    <a:pt x="84773" y="162878"/>
                    <a:pt x="85725" y="161925"/>
                    <a:pt x="86678" y="161925"/>
                  </a:cubicBezTo>
                  <a:cubicBezTo>
                    <a:pt x="114300" y="160973"/>
                    <a:pt x="141923" y="160020"/>
                    <a:pt x="168593" y="159068"/>
                  </a:cubicBezTo>
                  <a:cubicBezTo>
                    <a:pt x="197168" y="158115"/>
                    <a:pt x="224790" y="157163"/>
                    <a:pt x="253365" y="156210"/>
                  </a:cubicBezTo>
                  <a:cubicBezTo>
                    <a:pt x="287655" y="155258"/>
                    <a:pt x="322898" y="154305"/>
                    <a:pt x="357188" y="153353"/>
                  </a:cubicBezTo>
                  <a:cubicBezTo>
                    <a:pt x="367665" y="153353"/>
                    <a:pt x="378143" y="152400"/>
                    <a:pt x="388620" y="152400"/>
                  </a:cubicBezTo>
                  <a:cubicBezTo>
                    <a:pt x="406718" y="152400"/>
                    <a:pt x="425768" y="151448"/>
                    <a:pt x="443865" y="151448"/>
                  </a:cubicBezTo>
                  <a:cubicBezTo>
                    <a:pt x="445770" y="151448"/>
                    <a:pt x="446723" y="151448"/>
                    <a:pt x="447675" y="153353"/>
                  </a:cubicBezTo>
                  <a:cubicBezTo>
                    <a:pt x="448628" y="155258"/>
                    <a:pt x="450533" y="156210"/>
                    <a:pt x="452438" y="157163"/>
                  </a:cubicBezTo>
                  <a:cubicBezTo>
                    <a:pt x="453390" y="157163"/>
                    <a:pt x="454343" y="158115"/>
                    <a:pt x="455295" y="158115"/>
                  </a:cubicBezTo>
                  <a:cubicBezTo>
                    <a:pt x="455295" y="160973"/>
                    <a:pt x="455295" y="164783"/>
                    <a:pt x="456248" y="167640"/>
                  </a:cubicBezTo>
                  <a:cubicBezTo>
                    <a:pt x="457200" y="175260"/>
                    <a:pt x="458153" y="182880"/>
                    <a:pt x="458153" y="190500"/>
                  </a:cubicBezTo>
                  <a:cubicBezTo>
                    <a:pt x="458153" y="191453"/>
                    <a:pt x="458153" y="192405"/>
                    <a:pt x="458153" y="192405"/>
                  </a:cubicBezTo>
                  <a:cubicBezTo>
                    <a:pt x="455295" y="193358"/>
                    <a:pt x="454343" y="191453"/>
                    <a:pt x="452438" y="191453"/>
                  </a:cubicBezTo>
                  <a:cubicBezTo>
                    <a:pt x="450533" y="190500"/>
                    <a:pt x="449580" y="190500"/>
                    <a:pt x="447675" y="190500"/>
                  </a:cubicBezTo>
                  <a:cubicBezTo>
                    <a:pt x="442913" y="191453"/>
                    <a:pt x="439103" y="192405"/>
                    <a:pt x="435293" y="195263"/>
                  </a:cubicBezTo>
                  <a:cubicBezTo>
                    <a:pt x="431483" y="197168"/>
                    <a:pt x="429578" y="200025"/>
                    <a:pt x="429578" y="204788"/>
                  </a:cubicBezTo>
                  <a:cubicBezTo>
                    <a:pt x="429578" y="204788"/>
                    <a:pt x="429578" y="204788"/>
                    <a:pt x="429578" y="205740"/>
                  </a:cubicBezTo>
                  <a:cubicBezTo>
                    <a:pt x="425768" y="205740"/>
                    <a:pt x="421958" y="207645"/>
                    <a:pt x="419100" y="209550"/>
                  </a:cubicBezTo>
                  <a:cubicBezTo>
                    <a:pt x="407670" y="214313"/>
                    <a:pt x="399098" y="220980"/>
                    <a:pt x="392430" y="231458"/>
                  </a:cubicBezTo>
                  <a:cubicBezTo>
                    <a:pt x="389573" y="236220"/>
                    <a:pt x="385763" y="240983"/>
                    <a:pt x="382905" y="246697"/>
                  </a:cubicBezTo>
                  <a:cubicBezTo>
                    <a:pt x="380048" y="250508"/>
                    <a:pt x="378143" y="254318"/>
                    <a:pt x="376238" y="259080"/>
                  </a:cubicBezTo>
                  <a:cubicBezTo>
                    <a:pt x="370523" y="271463"/>
                    <a:pt x="367665" y="283845"/>
                    <a:pt x="364808" y="297180"/>
                  </a:cubicBezTo>
                  <a:cubicBezTo>
                    <a:pt x="362903" y="306705"/>
                    <a:pt x="360998" y="317183"/>
                    <a:pt x="358140" y="326708"/>
                  </a:cubicBezTo>
                  <a:cubicBezTo>
                    <a:pt x="355283" y="336233"/>
                    <a:pt x="353378" y="345758"/>
                    <a:pt x="350520" y="355283"/>
                  </a:cubicBezTo>
                  <a:cubicBezTo>
                    <a:pt x="348615" y="361950"/>
                    <a:pt x="347663" y="368618"/>
                    <a:pt x="348615" y="375285"/>
                  </a:cubicBezTo>
                  <a:cubicBezTo>
                    <a:pt x="349568" y="380048"/>
                    <a:pt x="350520" y="384810"/>
                    <a:pt x="352425" y="389573"/>
                  </a:cubicBezTo>
                  <a:cubicBezTo>
                    <a:pt x="355283" y="398145"/>
                    <a:pt x="358140" y="405765"/>
                    <a:pt x="360998" y="413385"/>
                  </a:cubicBezTo>
                  <a:cubicBezTo>
                    <a:pt x="367665" y="432435"/>
                    <a:pt x="373380" y="451485"/>
                    <a:pt x="377190" y="471488"/>
                  </a:cubicBezTo>
                  <a:cubicBezTo>
                    <a:pt x="379095" y="479108"/>
                    <a:pt x="380048" y="486728"/>
                    <a:pt x="381953" y="493395"/>
                  </a:cubicBezTo>
                  <a:cubicBezTo>
                    <a:pt x="386715" y="508635"/>
                    <a:pt x="392430" y="524828"/>
                    <a:pt x="397193" y="540068"/>
                  </a:cubicBezTo>
                  <a:cubicBezTo>
                    <a:pt x="399098" y="546735"/>
                    <a:pt x="402908" y="553403"/>
                    <a:pt x="406718" y="560070"/>
                  </a:cubicBezTo>
                  <a:cubicBezTo>
                    <a:pt x="410528" y="564833"/>
                    <a:pt x="413385" y="570548"/>
                    <a:pt x="417195" y="575310"/>
                  </a:cubicBezTo>
                  <a:cubicBezTo>
                    <a:pt x="418148" y="576263"/>
                    <a:pt x="418148" y="577215"/>
                    <a:pt x="419100" y="579120"/>
                  </a:cubicBezTo>
                  <a:cubicBezTo>
                    <a:pt x="419100" y="585788"/>
                    <a:pt x="419100" y="591503"/>
                    <a:pt x="420053" y="598170"/>
                  </a:cubicBezTo>
                  <a:cubicBezTo>
                    <a:pt x="421005" y="606743"/>
                    <a:pt x="421958" y="615315"/>
                    <a:pt x="422910" y="622935"/>
                  </a:cubicBezTo>
                  <a:cubicBezTo>
                    <a:pt x="423863" y="631508"/>
                    <a:pt x="425768" y="639128"/>
                    <a:pt x="426720" y="647700"/>
                  </a:cubicBezTo>
                  <a:lnTo>
                    <a:pt x="612458" y="647700"/>
                  </a:lnTo>
                  <a:cubicBezTo>
                    <a:pt x="649605" y="647700"/>
                    <a:pt x="683895" y="631508"/>
                    <a:pt x="706755" y="604838"/>
                  </a:cubicBezTo>
                  <a:cubicBezTo>
                    <a:pt x="704850" y="593408"/>
                    <a:pt x="701993" y="581978"/>
                    <a:pt x="699135" y="571500"/>
                  </a:cubicBezTo>
                  <a:cubicBezTo>
                    <a:pt x="698183" y="567690"/>
                    <a:pt x="697230" y="563880"/>
                    <a:pt x="697230" y="560070"/>
                  </a:cubicBezTo>
                  <a:cubicBezTo>
                    <a:pt x="696278" y="547688"/>
                    <a:pt x="695325" y="535305"/>
                    <a:pt x="694373" y="521970"/>
                  </a:cubicBezTo>
                  <a:cubicBezTo>
                    <a:pt x="693420" y="512445"/>
                    <a:pt x="692468" y="503873"/>
                    <a:pt x="691515" y="494348"/>
                  </a:cubicBezTo>
                  <a:cubicBezTo>
                    <a:pt x="690563" y="485775"/>
                    <a:pt x="689610" y="477203"/>
                    <a:pt x="688658" y="467678"/>
                  </a:cubicBezTo>
                  <a:cubicBezTo>
                    <a:pt x="687705" y="456248"/>
                    <a:pt x="685800" y="444818"/>
                    <a:pt x="684848" y="433388"/>
                  </a:cubicBezTo>
                  <a:cubicBezTo>
                    <a:pt x="684848" y="430530"/>
                    <a:pt x="683895" y="428625"/>
                    <a:pt x="683895" y="425768"/>
                  </a:cubicBezTo>
                  <a:cubicBezTo>
                    <a:pt x="687705" y="426720"/>
                    <a:pt x="690563" y="426720"/>
                    <a:pt x="693420" y="427673"/>
                  </a:cubicBezTo>
                  <a:cubicBezTo>
                    <a:pt x="701040" y="428625"/>
                    <a:pt x="708660" y="430530"/>
                    <a:pt x="717233" y="430530"/>
                  </a:cubicBezTo>
                  <a:cubicBezTo>
                    <a:pt x="720090" y="430530"/>
                    <a:pt x="723900" y="430530"/>
                    <a:pt x="726758" y="429578"/>
                  </a:cubicBezTo>
                  <a:cubicBezTo>
                    <a:pt x="731520" y="428625"/>
                    <a:pt x="735330" y="426720"/>
                    <a:pt x="738188" y="423863"/>
                  </a:cubicBezTo>
                  <a:lnTo>
                    <a:pt x="738188" y="114300"/>
                  </a:lnTo>
                  <a:cubicBezTo>
                    <a:pt x="737235" y="113348"/>
                    <a:pt x="736283" y="113348"/>
                    <a:pt x="736283" y="112395"/>
                  </a:cubicBezTo>
                  <a:cubicBezTo>
                    <a:pt x="733425" y="110490"/>
                    <a:pt x="730568" y="110490"/>
                    <a:pt x="726758" y="113348"/>
                  </a:cubicBezTo>
                  <a:close/>
                  <a:moveTo>
                    <a:pt x="607695" y="191453"/>
                  </a:moveTo>
                  <a:cubicBezTo>
                    <a:pt x="594360" y="195263"/>
                    <a:pt x="581978" y="200978"/>
                    <a:pt x="569595" y="204788"/>
                  </a:cubicBezTo>
                  <a:cubicBezTo>
                    <a:pt x="568643" y="204788"/>
                    <a:pt x="567690" y="205740"/>
                    <a:pt x="565785" y="205740"/>
                  </a:cubicBezTo>
                  <a:cubicBezTo>
                    <a:pt x="566738" y="202883"/>
                    <a:pt x="568643" y="200025"/>
                    <a:pt x="569595" y="198120"/>
                  </a:cubicBezTo>
                  <a:cubicBezTo>
                    <a:pt x="571500" y="196215"/>
                    <a:pt x="573405" y="193358"/>
                    <a:pt x="574358" y="191453"/>
                  </a:cubicBezTo>
                  <a:cubicBezTo>
                    <a:pt x="580073" y="184785"/>
                    <a:pt x="582930" y="176213"/>
                    <a:pt x="584835" y="167640"/>
                  </a:cubicBezTo>
                  <a:cubicBezTo>
                    <a:pt x="585788" y="162878"/>
                    <a:pt x="586740" y="158115"/>
                    <a:pt x="587693" y="153353"/>
                  </a:cubicBezTo>
                  <a:cubicBezTo>
                    <a:pt x="587693" y="152400"/>
                    <a:pt x="587693" y="152400"/>
                    <a:pt x="588645" y="151448"/>
                  </a:cubicBezTo>
                  <a:cubicBezTo>
                    <a:pt x="594360" y="151448"/>
                    <a:pt x="599123" y="151448"/>
                    <a:pt x="604838" y="151448"/>
                  </a:cubicBezTo>
                  <a:cubicBezTo>
                    <a:pt x="605790" y="155258"/>
                    <a:pt x="608648" y="158115"/>
                    <a:pt x="611505" y="159068"/>
                  </a:cubicBezTo>
                  <a:cubicBezTo>
                    <a:pt x="616268" y="160020"/>
                    <a:pt x="621983" y="160973"/>
                    <a:pt x="626745" y="161925"/>
                  </a:cubicBezTo>
                  <a:cubicBezTo>
                    <a:pt x="631508" y="162878"/>
                    <a:pt x="636270" y="162878"/>
                    <a:pt x="640080" y="164783"/>
                  </a:cubicBezTo>
                  <a:cubicBezTo>
                    <a:pt x="642938" y="165735"/>
                    <a:pt x="644843" y="167640"/>
                    <a:pt x="646748" y="169545"/>
                  </a:cubicBezTo>
                  <a:cubicBezTo>
                    <a:pt x="647700" y="170498"/>
                    <a:pt x="649605" y="172403"/>
                    <a:pt x="651510" y="172403"/>
                  </a:cubicBezTo>
                  <a:cubicBezTo>
                    <a:pt x="654368" y="173355"/>
                    <a:pt x="657225" y="174308"/>
                    <a:pt x="660083" y="174308"/>
                  </a:cubicBezTo>
                  <a:cubicBezTo>
                    <a:pt x="659130" y="174308"/>
                    <a:pt x="658178" y="175260"/>
                    <a:pt x="657225" y="175260"/>
                  </a:cubicBezTo>
                  <a:cubicBezTo>
                    <a:pt x="641033" y="180975"/>
                    <a:pt x="623888" y="185738"/>
                    <a:pt x="607695" y="191453"/>
                  </a:cubicBezTo>
                  <a:close/>
                  <a:moveTo>
                    <a:pt x="711518" y="273368"/>
                  </a:moveTo>
                  <a:cubicBezTo>
                    <a:pt x="710565" y="280035"/>
                    <a:pt x="708660" y="285750"/>
                    <a:pt x="704850" y="291465"/>
                  </a:cubicBezTo>
                  <a:cubicBezTo>
                    <a:pt x="701040" y="297180"/>
                    <a:pt x="696278" y="303848"/>
                    <a:pt x="692468" y="309563"/>
                  </a:cubicBezTo>
                  <a:cubicBezTo>
                    <a:pt x="692468" y="310515"/>
                    <a:pt x="691515" y="310515"/>
                    <a:pt x="691515" y="311468"/>
                  </a:cubicBezTo>
                  <a:cubicBezTo>
                    <a:pt x="688658" y="310515"/>
                    <a:pt x="684848" y="308610"/>
                    <a:pt x="681990" y="307658"/>
                  </a:cubicBezTo>
                  <a:cubicBezTo>
                    <a:pt x="681038" y="307658"/>
                    <a:pt x="681038" y="306705"/>
                    <a:pt x="680085" y="305753"/>
                  </a:cubicBezTo>
                  <a:cubicBezTo>
                    <a:pt x="679133" y="303848"/>
                    <a:pt x="678180" y="301943"/>
                    <a:pt x="675323" y="301943"/>
                  </a:cubicBezTo>
                  <a:cubicBezTo>
                    <a:pt x="671513" y="301943"/>
                    <a:pt x="668655" y="300038"/>
                    <a:pt x="666750" y="298133"/>
                  </a:cubicBezTo>
                  <a:cubicBezTo>
                    <a:pt x="662940" y="295275"/>
                    <a:pt x="661035" y="292418"/>
                    <a:pt x="660083" y="287655"/>
                  </a:cubicBezTo>
                  <a:cubicBezTo>
                    <a:pt x="660083" y="285750"/>
                    <a:pt x="659130" y="283845"/>
                    <a:pt x="658178" y="280988"/>
                  </a:cubicBezTo>
                  <a:cubicBezTo>
                    <a:pt x="676275" y="275273"/>
                    <a:pt x="693420" y="269558"/>
                    <a:pt x="711518" y="263843"/>
                  </a:cubicBezTo>
                  <a:cubicBezTo>
                    <a:pt x="711518" y="267653"/>
                    <a:pt x="711518" y="270510"/>
                    <a:pt x="711518" y="2733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328" name="TextBox 9"/>
          <p:cNvSpPr/>
          <p:nvPr/>
        </p:nvSpPr>
        <p:spPr>
          <a:xfrm>
            <a:off x="6488280" y="1100160"/>
            <a:ext cx="432576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vident.</a:t>
            </a:r>
            <a:endParaRPr b="0" lang="en-US" sz="1100" spc="-1" strike="noStrike">
              <a:solidFill>
                <a:srgbClr val="000000"/>
              </a:solidFill>
              <a:latin typeface="Calibri"/>
            </a:endParaRPr>
          </a:p>
        </p:txBody>
      </p:sp>
      <p:sp>
        <p:nvSpPr>
          <p:cNvPr id="1329" name="TextBox 1"/>
          <p:cNvSpPr/>
          <p:nvPr/>
        </p:nvSpPr>
        <p:spPr>
          <a:xfrm>
            <a:off x="1873080" y="1577880"/>
            <a:ext cx="2973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Why Should You Join Our Club? </a:t>
            </a:r>
            <a:endParaRPr b="0" lang="en-US" sz="2600" spc="-1" strike="noStrike">
              <a:solidFill>
                <a:srgbClr val="000000"/>
              </a:solidFill>
              <a:latin typeface="Calibri"/>
            </a:endParaRPr>
          </a:p>
        </p:txBody>
      </p:sp>
      <p:sp>
        <p:nvSpPr>
          <p:cNvPr id="1330" name="Straight Connector 28"/>
          <p:cNvSpPr/>
          <p:nvPr/>
        </p:nvSpPr>
        <p:spPr>
          <a:xfrm flipH="1">
            <a:off x="4846320" y="1817640"/>
            <a:ext cx="687240" cy="0"/>
          </a:xfrm>
          <a:prstGeom prst="line">
            <a:avLst/>
          </a:prstGeom>
          <a:ln w="28440">
            <a:solidFill>
              <a:srgbClr val="d5b665"/>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1" name="TextBox 30"/>
          <p:cNvSpPr/>
          <p:nvPr/>
        </p:nvSpPr>
        <p:spPr>
          <a:xfrm>
            <a:off x="1873080" y="1316160"/>
            <a:ext cx="2629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SemiBold"/>
                <a:ea typeface="Poppins Medium"/>
              </a:rPr>
              <a:t>ABOUT GOLFERINA</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6"/>
          <p:cNvSpPr/>
          <p:nvPr/>
        </p:nvSpPr>
        <p:spPr>
          <a:xfrm>
            <a:off x="550800" y="549360"/>
            <a:ext cx="5605560" cy="5759280"/>
          </a:xfrm>
          <a:prstGeom prst="rect">
            <a:avLst/>
          </a:prstGeom>
          <a:solidFill>
            <a:srgbClr val="fbfb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3" name="Oval 12"/>
          <p:cNvSpPr/>
          <p:nvPr/>
        </p:nvSpPr>
        <p:spPr>
          <a:xfrm>
            <a:off x="-1046160" y="-905040"/>
            <a:ext cx="2641680" cy="2643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4" name="TextBox 2"/>
          <p:cNvSpPr/>
          <p:nvPr/>
        </p:nvSpPr>
        <p:spPr>
          <a:xfrm>
            <a:off x="1082520" y="3975120"/>
            <a:ext cx="4326120" cy="2101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a:t>
            </a:r>
            <a:endParaRPr b="0" lang="en-US" sz="1100" spc="-1" strike="noStrike">
              <a:solidFill>
                <a:srgbClr val="000000"/>
              </a:solidFill>
              <a:latin typeface="Calibri"/>
            </a:endParaRPr>
          </a:p>
        </p:txBody>
      </p:sp>
      <p:sp>
        <p:nvSpPr>
          <p:cNvPr id="1335" name="TextBox 3"/>
          <p:cNvSpPr/>
          <p:nvPr/>
        </p:nvSpPr>
        <p:spPr>
          <a:xfrm>
            <a:off x="1068480" y="2233440"/>
            <a:ext cx="39402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Poppins SemiBold"/>
                <a:ea typeface="Poppins SemiBold"/>
              </a:rPr>
              <a:t>We Are Golferina. </a:t>
            </a:r>
            <a:endParaRPr b="0" lang="en-US" sz="2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700" spc="-1" strike="noStrike">
                <a:solidFill>
                  <a:srgbClr val="000000"/>
                </a:solidFill>
                <a:latin typeface="Poppins SemiBold"/>
                <a:ea typeface="Poppins SemiBold"/>
              </a:rPr>
              <a:t>The Coolest Golf Club in New York</a:t>
            </a:r>
            <a:endParaRPr b="0" lang="en-US" sz="2700" spc="-1" strike="noStrike">
              <a:solidFill>
                <a:srgbClr val="000000"/>
              </a:solidFill>
              <a:latin typeface="Calibri"/>
            </a:endParaRPr>
          </a:p>
        </p:txBody>
      </p:sp>
      <p:sp>
        <p:nvSpPr>
          <p:cNvPr id="1336" name="TextBox 4"/>
          <p:cNvSpPr/>
          <p:nvPr/>
        </p:nvSpPr>
        <p:spPr>
          <a:xfrm>
            <a:off x="1068480" y="1876320"/>
            <a:ext cx="1973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SemiBold"/>
                <a:ea typeface="Poppins Medium"/>
              </a:rPr>
              <a:t>ABOUT GOLFERINA</a:t>
            </a:r>
            <a:endParaRPr b="0" lang="en-US" sz="1100" spc="-1" strike="noStrike">
              <a:solidFill>
                <a:srgbClr val="000000"/>
              </a:solidFill>
              <a:latin typeface="Calibri"/>
            </a:endParaRPr>
          </a:p>
        </p:txBody>
      </p:sp>
      <p:sp>
        <p:nvSpPr>
          <p:cNvPr id="1337" name="TextBox 13"/>
          <p:cNvSpPr/>
          <p:nvPr/>
        </p:nvSpPr>
        <p:spPr>
          <a:xfrm>
            <a:off x="1082520" y="3727440"/>
            <a:ext cx="2656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THE GOLFERINA HISTORY</a:t>
            </a:r>
            <a:endParaRPr b="0" lang="en-US" sz="1100" spc="-1" strike="noStrike">
              <a:solidFill>
                <a:srgbClr val="000000"/>
              </a:solidFill>
              <a:latin typeface="Calibri"/>
            </a:endParaRPr>
          </a:p>
        </p:txBody>
      </p:sp>
      <p:sp>
        <p:nvSpPr>
          <p:cNvPr id="1338" name="Straight Connector 14"/>
          <p:cNvSpPr/>
          <p:nvPr/>
        </p:nvSpPr>
        <p:spPr>
          <a:xfrm flipH="1">
            <a:off x="2896920" y="2006640"/>
            <a:ext cx="2430360" cy="0"/>
          </a:xfrm>
          <a:prstGeom prst="line">
            <a:avLst/>
          </a:prstGeom>
          <a:ln w="28440">
            <a:solidFill>
              <a:srgbClr val="d5b6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TextBox 11"/>
          <p:cNvSpPr/>
          <p:nvPr/>
        </p:nvSpPr>
        <p:spPr>
          <a:xfrm>
            <a:off x="7094520" y="1397160"/>
            <a:ext cx="44751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We Are Golferina</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A Top-rated Golf Course in New York</a:t>
            </a:r>
            <a:endParaRPr b="0" lang="en-US" sz="2600" spc="-1" strike="noStrike">
              <a:solidFill>
                <a:srgbClr val="000000"/>
              </a:solidFill>
              <a:latin typeface="Calibri"/>
            </a:endParaRPr>
          </a:p>
        </p:txBody>
      </p:sp>
      <p:sp>
        <p:nvSpPr>
          <p:cNvPr id="1340" name="TextBox 12"/>
          <p:cNvSpPr/>
          <p:nvPr/>
        </p:nvSpPr>
        <p:spPr>
          <a:xfrm>
            <a:off x="7094520" y="1122480"/>
            <a:ext cx="1973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uli SemiBold"/>
                <a:ea typeface="Poppins Medium"/>
              </a:rPr>
              <a:t>ABOUT GOLFERINA</a:t>
            </a:r>
            <a:endParaRPr b="0" lang="en-US" sz="1100" spc="-1" strike="noStrike">
              <a:solidFill>
                <a:srgbClr val="000000"/>
              </a:solidFill>
              <a:latin typeface="Calibri"/>
            </a:endParaRPr>
          </a:p>
        </p:txBody>
      </p:sp>
      <p:sp>
        <p:nvSpPr>
          <p:cNvPr id="1341" name="TextBox 13"/>
          <p:cNvSpPr/>
          <p:nvPr/>
        </p:nvSpPr>
        <p:spPr>
          <a:xfrm>
            <a:off x="7134120" y="2692440"/>
            <a:ext cx="44355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golf elit sed do eiusmod tempor incididunt ut labore et dolore magna aliqua. Ut enim ad minim veniam quis nostrud exercitation ullamco laboris nisi ut aliquip ex ea commodo consequat. Duis aute irure dolor in.</a:t>
            </a:r>
            <a:endParaRPr b="0" lang="en-US" sz="1100" spc="-1" strike="noStrike">
              <a:solidFill>
                <a:srgbClr val="000000"/>
              </a:solidFill>
              <a:latin typeface="Calibri"/>
            </a:endParaRPr>
          </a:p>
        </p:txBody>
      </p:sp>
      <p:sp>
        <p:nvSpPr>
          <p:cNvPr id="1342" name="Rectangle 26"/>
          <p:cNvSpPr/>
          <p:nvPr/>
        </p:nvSpPr>
        <p:spPr>
          <a:xfrm>
            <a:off x="8764560" y="4460760"/>
            <a:ext cx="2576520" cy="125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43" name="Group 14"/>
          <p:cNvGrpSpPr/>
          <p:nvPr/>
        </p:nvGrpSpPr>
        <p:grpSpPr>
          <a:xfrm>
            <a:off x="9037800" y="4703760"/>
            <a:ext cx="2030400" cy="1046160"/>
            <a:chOff x="9037800" y="4703760"/>
            <a:chExt cx="2030400" cy="1046160"/>
          </a:xfrm>
        </p:grpSpPr>
        <p:sp>
          <p:nvSpPr>
            <p:cNvPr id="1344" name="TextBox 15"/>
            <p:cNvSpPr/>
            <p:nvPr/>
          </p:nvSpPr>
          <p:spPr>
            <a:xfrm>
              <a:off x="9037800" y="4903200"/>
              <a:ext cx="2030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Duis aute irure dolor in esse cillum dolore eu fugiat nulla</a:t>
              </a:r>
              <a:endParaRPr b="0" lang="en-US" sz="1100" spc="-1" strike="noStrike">
                <a:solidFill>
                  <a:srgbClr val="000000"/>
                </a:solidFill>
                <a:latin typeface="Calibri"/>
              </a:endParaRPr>
            </a:p>
          </p:txBody>
        </p:sp>
        <p:sp>
          <p:nvSpPr>
            <p:cNvPr id="1345" name="TextBox 16"/>
            <p:cNvSpPr/>
            <p:nvPr/>
          </p:nvSpPr>
          <p:spPr>
            <a:xfrm>
              <a:off x="9037800" y="4703760"/>
              <a:ext cx="203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OUR GOLF COURSE</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Box 7"/>
          <p:cNvSpPr/>
          <p:nvPr/>
        </p:nvSpPr>
        <p:spPr>
          <a:xfrm>
            <a:off x="1495440" y="1612800"/>
            <a:ext cx="3705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Poppins SemiBold"/>
                <a:ea typeface="Poppins SemiBold"/>
              </a:rPr>
              <a:t>Start Your Golf Journey Today! </a:t>
            </a:r>
            <a:endParaRPr b="0" lang="en-US" sz="2600" spc="-1" strike="noStrike">
              <a:solidFill>
                <a:srgbClr val="000000"/>
              </a:solidFill>
              <a:latin typeface="Calibri"/>
            </a:endParaRPr>
          </a:p>
        </p:txBody>
      </p:sp>
      <p:sp>
        <p:nvSpPr>
          <p:cNvPr id="1347" name="TextBox 8"/>
          <p:cNvSpPr/>
          <p:nvPr/>
        </p:nvSpPr>
        <p:spPr>
          <a:xfrm>
            <a:off x="1495440" y="1351080"/>
            <a:ext cx="2787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Medium"/>
                <a:ea typeface="Poppins Medium"/>
              </a:rPr>
              <a:t>ABOUT GOLFERINA</a:t>
            </a:r>
            <a:endParaRPr b="0" lang="en-US" sz="1100" spc="-1" strike="noStrike">
              <a:solidFill>
                <a:srgbClr val="000000"/>
              </a:solidFill>
              <a:latin typeface="Calibri"/>
            </a:endParaRPr>
          </a:p>
        </p:txBody>
      </p:sp>
      <p:sp>
        <p:nvSpPr>
          <p:cNvPr id="1348" name="TextBox 9"/>
          <p:cNvSpPr/>
          <p:nvPr/>
        </p:nvSpPr>
        <p:spPr>
          <a:xfrm>
            <a:off x="1495440" y="2976480"/>
            <a:ext cx="4327560" cy="159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Muli"/>
                <a:ea typeface="Poppins Medium"/>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 fugiat.</a:t>
            </a:r>
            <a:endParaRPr b="0" lang="en-US" sz="1100" spc="-1" strike="noStrike">
              <a:solidFill>
                <a:srgbClr val="000000"/>
              </a:solidFill>
              <a:latin typeface="Calibri"/>
            </a:endParaRPr>
          </a:p>
        </p:txBody>
      </p:sp>
      <p:sp>
        <p:nvSpPr>
          <p:cNvPr id="1349" name="TextBox 10"/>
          <p:cNvSpPr/>
          <p:nvPr/>
        </p:nvSpPr>
        <p:spPr>
          <a:xfrm>
            <a:off x="1495440" y="2739960"/>
            <a:ext cx="2655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oppins SemiBold"/>
                <a:ea typeface="Poppins SemiBold"/>
              </a:rPr>
              <a:t>HIGH QUALITY EQUIPMENT</a:t>
            </a:r>
            <a:endParaRPr b="0" lang="en-US" sz="1100" spc="-1" strike="noStrike">
              <a:solidFill>
                <a:srgbClr val="000000"/>
              </a:solidFill>
              <a:latin typeface="Calibri"/>
            </a:endParaRPr>
          </a:p>
        </p:txBody>
      </p:sp>
      <p:sp>
        <p:nvSpPr>
          <p:cNvPr id="1350" name="Rectangle 20"/>
          <p:cNvSpPr/>
          <p:nvPr/>
        </p:nvSpPr>
        <p:spPr>
          <a:xfrm>
            <a:off x="1495440" y="4619520"/>
            <a:ext cx="2060640" cy="917640"/>
          </a:xfrm>
          <a:prstGeom prst="rect">
            <a:avLst/>
          </a:prstGeom>
          <a:solidFill>
            <a:srgbClr val="d5b6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Rectangle 22"/>
          <p:cNvSpPr/>
          <p:nvPr/>
        </p:nvSpPr>
        <p:spPr>
          <a:xfrm>
            <a:off x="3800520" y="4619520"/>
            <a:ext cx="2060640" cy="917640"/>
          </a:xfrm>
          <a:prstGeom prst="rect">
            <a:avLst/>
          </a:prstGeom>
          <a:gradFill rotWithShape="0">
            <a:gsLst>
              <a:gs pos="0">
                <a:srgbClr val="032932"/>
              </a:gs>
              <a:gs pos="100000">
                <a:srgbClr val="0e4d5b"/>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2" name="TextBox 24"/>
          <p:cNvSpPr/>
          <p:nvPr/>
        </p:nvSpPr>
        <p:spPr>
          <a:xfrm>
            <a:off x="1806480" y="4862520"/>
            <a:ext cx="14382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GOLF LESSONS FOR BEGINNERS</a:t>
            </a:r>
            <a:endParaRPr b="0" lang="en-US" sz="1100" spc="-1" strike="noStrike">
              <a:solidFill>
                <a:srgbClr val="000000"/>
              </a:solidFill>
              <a:latin typeface="Calibri"/>
            </a:endParaRPr>
          </a:p>
        </p:txBody>
      </p:sp>
      <p:sp>
        <p:nvSpPr>
          <p:cNvPr id="1353" name="TextBox 25"/>
          <p:cNvSpPr/>
          <p:nvPr/>
        </p:nvSpPr>
        <p:spPr>
          <a:xfrm>
            <a:off x="4044960" y="4862520"/>
            <a:ext cx="15717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oppins SemiBold"/>
                <a:ea typeface="Poppins SemiBold"/>
              </a:rPr>
              <a:t>GOLFERINA EXPERT COACHES</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25T11:10:24Z</dcterms:created>
  <dc:creator>Yossy Made Yulian</dc:creator>
  <dc:description/>
  <dc:language>en-US</dc:language>
  <cp:lastModifiedBy>Virgiawan Listanto</cp:lastModifiedBy>
  <dcterms:modified xsi:type="dcterms:W3CDTF">2020-06-17T14:36:25Z</dcterms:modified>
  <cp:revision>847</cp:revision>
  <dc:subject/>
  <dc:title>PowerPoint Presentation</dc:title>
</cp:coreProperties>
</file>