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76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BD04924_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9160" y="5335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商务礼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9292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坐  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21020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210040" cy="5029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514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蹲  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7860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82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243864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 车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7670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09480"/>
            <a:ext cx="24382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下 车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140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951280" cy="455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拾东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7004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24080" y="1828800"/>
          <a:ext cx="3505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828800"/>
                    <a:ext cx="3505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92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职业便装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700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7432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职业礼服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7200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2590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79292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行礼的方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09572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813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3520" y="2438280"/>
            <a:ext cx="1904760" cy="3124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352680" y="2514600"/>
            <a:ext cx="1828800" cy="32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952880" y="2743200"/>
            <a:ext cx="1143000" cy="914400"/>
          </a:xfrm>
          <a:prstGeom prst="wedgeEllipseCallout">
            <a:avLst>
              <a:gd name="adj1" fmla="val -80694"/>
              <a:gd name="adj2" fmla="val 4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743200"/>
            <a:ext cx="1143000" cy="914400"/>
          </a:xfrm>
          <a:prstGeom prst="wedgeEllipseCallout">
            <a:avLst>
              <a:gd name="adj1" fmla="val -66527"/>
              <a:gd name="adj2" fmla="val 7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095880" y="2666880"/>
            <a:ext cx="1981440" cy="2895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43800" y="2743200"/>
            <a:ext cx="1143000" cy="914400"/>
          </a:xfrm>
          <a:prstGeom prst="wedgeEllipseCallout">
            <a:avLst>
              <a:gd name="adj1" fmla="val -58055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93280" cy="15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篇：礼仪篇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模块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2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商务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776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D04924_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929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介绍的礼节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01028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先介绍位卑者给位尊者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的给年长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己公司的同事给别家公司的同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低级主管给高级主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公司同事给客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非官方人事给官方人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国同事给外国同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7929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握手的礼仪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2514240"/>
            <a:ext cx="5715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何时要握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遇见认识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人道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某人进你的办公室或离开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被相互介绍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安慰某人时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932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她们给你的感觉有什么不同？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767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38080" y="1828800"/>
            <a:ext cx="3429000" cy="426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28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81480" y="1828800"/>
            <a:ext cx="3124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77929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交换名片的礼仪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如果是坐着，尽可能起身接受对方递来的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辈份较低者，率先以右手递出个人的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到别处拜访时，经上司介绍后，再递出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接受名片时，应以双手去接，并确定其姓名和职务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接受名片后，不宜随手置于桌上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经常检查皮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可递出污旧或皱折的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名片夹或皮夹置于西装内袋，避免由裤子后方的口袋掏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尽量避免在对方的名片上书写不相关的东西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要无意识地玩弄对方的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上司在 时不要先递交名片，要等上司递上名片后才能递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自己的名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9328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会客室入座的礼仪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57400" y="1905120"/>
            <a:ext cx="5638680" cy="4647960"/>
            <a:chOff x="2057400" y="1905120"/>
            <a:chExt cx="5638680" cy="4647960"/>
          </a:xfrm>
        </p:grpSpPr>
        <p:sp>
          <p:nvSpPr>
            <p:cNvPr id="161" name=""/>
            <p:cNvSpPr/>
            <p:nvPr/>
          </p:nvSpPr>
          <p:spPr>
            <a:xfrm>
              <a:off x="2057400" y="1905120"/>
              <a:ext cx="5638680" cy="46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8120" y="2008800"/>
              <a:ext cx="2147760" cy="92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15" y="-3600"/>
                  </a:moveTo>
                  <a:lnTo>
                    <a:pt x="-1800" y="40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5160" y="3271680"/>
              <a:ext cx="1342440" cy="1949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4720" y="3421800"/>
              <a:ext cx="805320" cy="59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84720" y="4471200"/>
              <a:ext cx="805320" cy="59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62720" y="3421800"/>
              <a:ext cx="805320" cy="59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62720" y="4471200"/>
              <a:ext cx="805320" cy="59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762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会客室入坐的礼仪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124080"/>
            <a:ext cx="34290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36232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438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64832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36232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57200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510552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8333"/>
              <a:gd name="adj5" fmla="val 110939"/>
              <a:gd name="adj6" fmla="val 22205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7524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867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记程车的座位次序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09680" y="2362320"/>
            <a:ext cx="5702400" cy="3817440"/>
            <a:chOff x="2209680" y="2362320"/>
            <a:chExt cx="5702400" cy="3817440"/>
          </a:xfrm>
        </p:grpSpPr>
        <p:sp>
          <p:nvSpPr>
            <p:cNvPr id="186" name=""/>
            <p:cNvSpPr/>
            <p:nvPr/>
          </p:nvSpPr>
          <p:spPr>
            <a:xfrm>
              <a:off x="2209680" y="2362320"/>
              <a:ext cx="1973880" cy="9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司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38200" y="2362320"/>
              <a:ext cx="1973880" cy="9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5225400"/>
              <a:ext cx="1315800" cy="9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02800" y="5225400"/>
              <a:ext cx="1315440" cy="9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95920" y="5225400"/>
              <a:ext cx="1315800" cy="9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79292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主人开车时的座位次序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62320" y="2057400"/>
            <a:ext cx="5638320" cy="3870000"/>
            <a:chOff x="2362320" y="2057400"/>
            <a:chExt cx="5638320" cy="3870000"/>
          </a:xfrm>
        </p:grpSpPr>
        <p:sp>
          <p:nvSpPr>
            <p:cNvPr id="193" name=""/>
            <p:cNvSpPr/>
            <p:nvPr/>
          </p:nvSpPr>
          <p:spPr>
            <a:xfrm>
              <a:off x="2362320" y="2057400"/>
              <a:ext cx="1951560" cy="101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主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49080" y="2057400"/>
              <a:ext cx="1951560" cy="101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2320" y="4908960"/>
              <a:ext cx="1301040" cy="101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30960" y="4908960"/>
              <a:ext cx="1301040" cy="101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9600" y="4908960"/>
              <a:ext cx="1301040" cy="101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乘火车时的座位次序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0200" y="1447920"/>
            <a:ext cx="6248160" cy="5121000"/>
            <a:chOff x="1600200" y="1447920"/>
            <a:chExt cx="6248160" cy="5121000"/>
          </a:xfrm>
        </p:grpSpPr>
        <p:sp>
          <p:nvSpPr>
            <p:cNvPr id="200" name=""/>
            <p:cNvSpPr/>
            <p:nvPr/>
          </p:nvSpPr>
          <p:spPr>
            <a:xfrm>
              <a:off x="2757240" y="1447920"/>
              <a:ext cx="925560" cy="5121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走       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39840" y="3528360"/>
              <a:ext cx="3008520" cy="111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39840" y="2407680"/>
              <a:ext cx="1157040" cy="640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91320" y="2407680"/>
              <a:ext cx="1157040" cy="640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9840" y="4968360"/>
              <a:ext cx="1157040" cy="640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91320" y="4968360"/>
              <a:ext cx="1157040" cy="640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600200" y="2087280"/>
              <a:ext cx="0" cy="40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商务交往的四忌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71800" y="2438280"/>
            <a:ext cx="3657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举止粗俗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乱发脾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飞短流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说话过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929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下属相处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身作则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己所不欲，勿施于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平等待人：忌拉帮结伙、任人唯亲；要惟才是举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平等待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礼遇下属：尊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关心下属：冷暖挂心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信任下属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士为知己者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接近下属：知无不言，言无不尽、上情下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93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上司相处的礼仪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2388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解：人人都有难念的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保持距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卑不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同事相处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6880" y="2361960"/>
            <a:ext cx="556272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真诚合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同甘共苦：一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好汉三个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公平竞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宽以待人：人非圣贤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孰能无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54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男士西装选择的技巧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2057040"/>
            <a:ext cx="17524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色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图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造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做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目光接触的技巧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9387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387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904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1219320"/>
            <a:ext cx="1295640" cy="1676160"/>
          </a:xfrm>
          <a:prstGeom prst="wedgeEllipseCallout">
            <a:avLst>
              <a:gd name="adj1" fmla="val -63601"/>
              <a:gd name="adj2" fmla="val 38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视线向下表现权威感和优越感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36196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00600" y="1143000"/>
            <a:ext cx="1371600" cy="1600200"/>
          </a:xfrm>
          <a:prstGeom prst="wedgeEllipseCallout">
            <a:avLst>
              <a:gd name="adj1" fmla="val -33333"/>
              <a:gd name="adj2" fmla="val 67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视线向上表现服从与任人摆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477120" y="266688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391520" y="1295280"/>
            <a:ext cx="1371600" cy="1500480"/>
          </a:xfrm>
          <a:prstGeom prst="wedgeEllipseCallout">
            <a:avLst>
              <a:gd name="adj1" fmla="val -44212"/>
              <a:gd name="adj2" fmla="val 60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视线水平表现客观和理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电话沟通的技巧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保持最优美的声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速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音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音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9328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接电话的技巧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361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铃声响起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拿起听筒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报出名字及问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确认对方名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询问来电事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再汇总确认来电事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礼貌地结束电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挂电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7929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打电话的技巧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68943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拨出电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我介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确定对方及问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说明来电事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再汇总确认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礼貌地结束谈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挂断电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93280" cy="84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电话注意事项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听到电话铃响，若口中正嚼东西，不要立刻接听电话，应迅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吐出食物，再接电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听到电话铃响，若正嬉笑或争执，一定要等情绪平稳后再接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接电话时的开头问候语要有精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电话交谈时要配合肢体动作如微笑、点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讲电话的声音不要过大，话筒离口的距离不要过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若是代听电话，一定要主动问客户是否需要留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接听让人久等的电话，要向来电者致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电话来时正和来客交谈，应告诉对方有客人在，待会给他回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工作时朋友来电，应扼要迅速地结束电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接到投诉电话，千万不能与对方争吵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79292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拜访客户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１．事先约定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２．做好准备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出发前在与拜访对象确认一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算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间出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４．至客户办公大楼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５．进入室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６．见到拜访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７．商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骤８． 告辞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中餐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43200" y="1752480"/>
            <a:ext cx="5105520" cy="48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正确地使用餐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使用公筷母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挟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喝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嘴内有食物，不要张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人交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敬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谈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西式自助餐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01920" y="2133720"/>
            <a:ext cx="674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依序取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次最好取一至二样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要混用专用汤匙或菜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餐盘不可再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可浪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遵守西餐的礼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可暴饮暴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9328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西餐注意点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33360" y="2362320"/>
            <a:ext cx="65134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正确地使用餐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食物的进食方法要正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进食的姿势要正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谈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奉茶和咖啡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 准备好器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２．将茶或咖啡等用品放在托盘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３．先将托盘放在桌上再端送给客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４．奉茶或咖啡时客人优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５．留意奉茶或咖啡的动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６．拿起托盘退出会客室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9328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穿西装的七原则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552276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拆除衣袖上的商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熨烫平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扣好纽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不倦不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慎穿毛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巧配内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少装东西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9328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共乘电梯的礼仪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7772400" cy="30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１．伴随客人或长辈来到电梯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２．电梯来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３．进入电梯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步骤４．到达目的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79292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商务礼仪测试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51055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路上相逢，寒喧“吃了没？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上哪去？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主人招呼客人“随便坐！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政治与新闻是餐桌上的话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女士的小皮包可以放在餐桌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吃意大利面应该设刀叉并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聚会之中遇到同乡，可以用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言交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外出时不妨与当地的出租车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机多攀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别人称赞你的时候要谦虚地说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你太过奖了，其实我哪里有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么好。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1295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05920" y="1295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9292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不同款式的领带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斜纹：果断权威、稳重理性，适合在谈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判、主持会议、演讲的场合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圆点、方格：中规中矩、按部就班、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合初次见面和见长辈上司时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规则图案：活泼、有个性、创意和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气，较随意，适合酒会、宴会和约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领带夹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已婚人士之标志，应在领结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/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女士套裙选择的技巧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2840" y="2209320"/>
            <a:ext cx="323676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面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色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点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尺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造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款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84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化  妆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7335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粉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眼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眉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睫毛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胭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唇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香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7929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养成良好的个人卫生习惯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7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头发：整洁、无头屑，头发软者可用摩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定型。在办公室里，留长发的女士不披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散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眼睛：清洁、无分泌物，避免眼睛布满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鼻子：别让鼻毛探头探脑，勿当众抠鼻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嘴巴、牙齿：清洁、无食品残留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甲：清洁，定期修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男士的胡子：每日一理，刮干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配件及饰物：检查有否污损或被碰歪了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9292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站   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90996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62520" y="1981080"/>
          <a:ext cx="19047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81080"/>
                    <a:ext cx="19047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2:21:21Z</dcterms:created>
  <dc:creator>makou</dc:creator>
  <dc:description/>
  <dc:language>en-US</dc:language>
  <cp:lastModifiedBy>微软用户</cp:lastModifiedBy>
  <dcterms:modified xsi:type="dcterms:W3CDTF">2012-04-07T13:16:49Z</dcterms:modified>
  <cp:revision>117</cp:revision>
  <dc:subject/>
  <dc:title>欢迎参加新晋员工职业化训练课程 </dc:title>
</cp:coreProperties>
</file>