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CARBRAKE.WAV" ContentType="audio/x-wav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977-8149-4087-94D2-9FC03D76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07F-3E65-4932-BD3B-DDB000B3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684-EC53-411E-BC72-510B0494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6FE-80EF-45A5-A5A5-60A007DA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2094-099F-48E3-80F3-9609976C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58FE-B266-4C3C-B0AB-549F409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162E-1348-4CD0-88A7-05EDB43B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BF15-9CC1-4CB4-B623-F0A79BA7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FF1B-A828-44FA-99D5-C7E1C70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38D4-E7E3-4EF9-8B9C-C8862BFB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38C4-0C09-46AD-A6D4-A3DBA598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256-9B8B-458C-B227-40B33D7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FBAD-CD3E-48D7-9491-B61C25C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AAFF-19D9-488B-95B4-D90A182B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BA0F-F59C-4576-BFB4-DEA5C55A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5CDB-C92C-4E37-833B-335C1601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5BD0-A811-4D1C-8AFC-03D7369C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E58-701B-4D4B-AE47-3D47D0EB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3B1-75E6-4C63-8F01-96B9FBF1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2D4-A488-409D-96DE-B4AA175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EC2-2834-47DC-B1A0-C1B2954C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F24-CA05-4208-AD03-8EAE491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5B8-92DA-43E2-A7A9-952EDC8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E6F-B40B-4C7B-8DE3-0F89C3B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D0AF-9816-46A9-AD84-2F0A3D8465EE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7FD8-D7F5-4AC3-A81F-E090B72E51AD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4c2b"/>
                </a:solidFill>
                <a:latin typeface="Times New Roman"/>
                <a:ea typeface="黑体"/>
              </a:rPr>
              <a:t>面试与面试技术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6DBD-045D-4EF6-BB96-A90BF58A59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问话提纲的准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需要有一个统一的问话提纲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根据对候选人简历的研究，准备特定的问话提纲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提纲的问题顺序应为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需要证实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统一确定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引伸性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BFC-424D-457D-96A0-6C3AD32D35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面试过程的控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过程的自然导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证实需要证实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了解其他资格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引伸提问，由候选人自由发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回答候选人关心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轻松地结束面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949-9C1C-4882-8167-1DE41076F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75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75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75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75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75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75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75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75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导入性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我们这里难找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清您简要介绍一下你自己的情况。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从哪里知道我们企业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希望选择一个什么样的企业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介绍一下你以前的工作经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一个什么样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EAE-4FCE-4876-97DE-AB23B6B9AC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工作经验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以往都从事过哪些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所从事的具体工作领域要想获得成功，需要什么条件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以往从事的工作中，你走喜欢和最不喜欢它的什么方面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以你以往的工作经验，你对所应聘的工作有什么把握做好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0DA-1EB5-4E96-B151-37F261CE00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在以往的工作中，哪一份工作你做得最成功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能够把以往工作的哪些经验用于我们企业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提出过哪些非常具有建设性的意见，当时你主管的态度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的前一份工作中，你在多大程度上具有工作的自主性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C49-EF36-4E4E-B1C2-59E5F1FEF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前一份工作中，你做过最值得称赞的重大项目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的工作中，日常例行的事务都有哪些？大约占你工作时间的比例是多少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做过哪些具体的工作？你在这些工作中的主要贡献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描述一下你部门的组织管理方式和分工情况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92C-F1BF-40B3-AB77-CCE11FE67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完成任务的时候，你经常遇到的困难是什么？你是如何克服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觉得以你的经验能承担哪些具体的工作任务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以往的工作经验中最欠缺的东西是什么？你打算如何弥补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以你的工作经验，你认为自己适合 承担什么职务的工作，为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FD4-6A3A-48A4-BCF8-C9B4C6AF1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工作能力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介绍一下你的职业生涯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当初你为什么选择这一职业领域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自己的教育背景中哪些东西对你的职业生涯贡献重大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的长远目标是什么？你凭什么认为你能够实现它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E70-3EE1-4442-9DE8-C8D94A5A39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你在哪些方面的能力是超越别人的？你认为你做哪些事是别人无法与你像比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成功的三个主要原因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在以往工作中是如何解决棘手的问题的？请举一个例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什么情况下你不能按时完成任务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怎么知道自己工作做得不错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BF9-D12B-44C4-834D-A4565480BA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任何评价你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调动别人积极性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举一个你失败的例子，你是如何处理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作为一个有效的管理者，你认为什么品质最重要？你自己的情况如何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以什么方式与别人沟通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介绍几个你认为是最满意的工作业绩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75C-8C0F-4759-94DC-0F9E27EC20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面试前的准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方式的选择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集体面试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座谈方式： 适合候选人比较多的初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无领导小组讨论方式：适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员素质需要仔细进行比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考察人员整体能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DB1-BDFE-44EE-AB0C-CB89AFCB3E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否负责编制预算、核对费用、监督部门工作进度以实现财务目标的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在降低成本、增加利润、提高员工士气、实现产量增长方面提出过哪些有价值的建议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从自己和别人的失败中吸取了哪些教训？它对你以后的工作有什么帮助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根据什么来评价属下工作业绩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EB1-1F73-48BF-B145-1E4F003819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以往的工作中，你冒过什么风险，其结果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曾经做过哪些方面的决策？效果如何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描述一下你的管理哲学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如果我们向你以前的主管了解你的情况，他会如何评价你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做工作的方式与别人有什么不同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3A6-0C4D-4082-B02C-FFF2EDB984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要想在你应聘的工作中获得成功，你认为必须具备什么能力和品质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谈谈你在原公司最受人器重的方面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在原单位任职较长的人问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否认为长时间在一个公司里工作，会很难适应一个新组织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人认为，长时间从事一种工作的人会缺乏进取心，你怎么看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491-A654-456E-B144-E4B29D86C7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于经常跳槽的人问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将在我们的公司呆多久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由于你经常变换工作，我们怎么知道你会长期留下来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等待不公正的批评，你通常采取的方法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任何应付工作中不可避免的冲突和压力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C3D-4A14-4BB7-8DA6-9849E1ED46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开放性的问题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能否谈谈你在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方面的一次经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压力下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与同伴共同解决一个难题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创造性地解决了一个问题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没能按时完成一个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劝说团队按照你的办法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持有一个不受欢迎的主张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731-9085-47DB-A4E2-5388562ABA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策划一个很受欢迎的方案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预料到潜在问题，采取主动的对策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根据有限的事实做出重要决策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得不做出一项不受欢迎的决策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容忍与自己不同的意见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成功授权一个项目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与一个愤怒的顾客或员工打交道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E6D-61DE-48D2-AABD-873A281EE3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求职动机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什么因素能够促使你付出最大努力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描述一下你理想中的工作是什么样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你来说，工作中最重要的特点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工作职责、工作负荷、上班路程、工资和奖金、工作环境应按什么顺序排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规定最后工作期限对调动你的工作积极性有多重要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D8C-97CB-433C-A2E2-1E9905E4D6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你最不能容忍的不公平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什么样的管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什么样的领导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与什么样的同事共事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你的过去成功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怎么知道我们的公司会比较适合你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在你以往的工作中，你感到压力东西最大的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ECF-391E-4F46-85F5-030C193B99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选择职业的目标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希望从职业中获得的最大奖励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给我们谈谈一个能够使你兴奋的工作项目，你是怎样处理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，在一个企业里决定一个人成功的因素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考虑学习新技能的问题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们说，拒绝学习的人就等于拒绝工作，你怎么看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A3C-0AF9-4586-A8AE-B0DA5B8C89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关于个人背景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为自己设置什么样的绩效标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怎样处理工作中的压力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需要从主管那里得到什么帮助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制定计划还是喜欢执行计划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希望自己的职业朝着哪个方面发展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与别人相处时有什么问题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869-F238-4429-A46D-E24C4FE34A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无领导小组讨论方式设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选择讨论的主题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是有关职务要求的内容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是没有明显答案倾向的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满足对候选人多方面评价的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应该能够引起大家讨论兴趣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员控制在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左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时间不低于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小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EB2-EAD2-43D9-B100-A7977CB4B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成功对你意味着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失败对你意味着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自己最大的优势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给自己的职业能力、品格、工作作风打多少分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一个勇于冒险的人，还是寻求保险的人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10B-A791-4ABE-A9D7-F7B631011F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3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3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关于团队合作方面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请给合作下个定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与什么人一起工作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觉得与你难合作的人是什么类型的人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喜欢一个人干还是与别人一起干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与自命不凡的人打交道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谈谈你作为团队成员所取得成就的感受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824-E196-472C-96B1-059AA66650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9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有关压力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诚实总是上策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真实和舒服，哪个对你更重要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否曾经与一个不公正的上司工作，请谈谈当时的具体情况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在工作中经常担忧的事有哪些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如何应付不愉快的事的？请举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D3B-0DCF-4EFB-8BAC-B32745234A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75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75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75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75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75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75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75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75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75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75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延伸性的问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别人给你最美妙的称赞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顾客总是对的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是怎样看待生活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从成功中学到的东西多还是从失败中学到的东西多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谈谈对你影响最深的人，他们在哪些方面影响了你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535-5DA9-4DA7-8E14-3B1CE926A5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“善”与“恶”的区别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“保守”有什么积极的地方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管理者”和“领导者”有什么差异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认为“有效”的管理者和“成功”的管理者有什么差异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你从失望中获得了什么益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假如你能够决定你自己的命运的话，你要成为什么样的人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7C1-0460-4253-B7C3-6B282395BC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75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75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75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75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二、面试中应提的问题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333333"/>
                </a:solidFill>
                <a:latin typeface="Times New Roman"/>
              </a:rPr>
              <a:t>举           例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6E7-1822-49C3-BD9E-35CC7494F3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三、面试中应避免的陷阱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“理想”人选的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定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影响，根据职务要求而不是理想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定势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的影响，克服不利信息的影响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情景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的影响，克服候选人前后对比的效应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摆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主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影响，克服以己度人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1D7-9008-49E4-9530-B8AACDB088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自信心的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应变能力的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分析判断能力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工作经验的证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创造性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个人修养评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45C-AA13-4780-8342-8A97DD3543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75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75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形体语言观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面对面交谈：有声部分低于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5%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；无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部分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65%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手： 一般认为，伸开手掌，掌心向上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是坦诚的象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小孩说谎时，手掌藏在背后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成人说谎时，双手叉兜、双臂交叉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露手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C30-B8B7-4CF4-A377-BC96475D14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75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75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75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75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75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75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75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75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75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75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掌语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掌心向上：诚实、谦虚、不带任何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胁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掌心向下：压制、指示性、强制性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易产生抵触情绪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搓 手 掌：焦急等待，跃跃欲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94B-4B15-4277-BD27-A65437A552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举例：管理职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主题：薪资提升，名额有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角色扮演：各部门经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目的：通过协商，确定提薪人员名单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材料：各部门候选人的基本材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观察：表达能力和语言习惯、思维的逻辑性、对材料的理解和把握程度、组织与协调能力、管理观念、性格特征、对管理职务的理解、激励能力、沟通能力等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92B-4DB1-4B17-BEE7-AE27D15790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指语言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拇指：积极语言，表示优越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双手插兜，拇指伸出，表示高傲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双臂抱胸，拇指翘起，表示敌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情绪和防卫；这种人难以接近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谈话中拇指对人，表示嘲弄和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视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703-EE97-4A5C-BBE1-0413F0F9DD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十指交叉 ：十指交叉动作，常与笑脸配合，貌似自信，其实表示焦虑，甚至暗示敌对情绪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注  视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时间：应占谈话时间的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50% — 70%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三分之一以下，表示不诚实，恐慌；三分之二以上，表示诚恳和有自制力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、对方瞳孔放大，表示你有吸引力，喜欢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、对方瞳孔缩小，表示敌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D52-7EAF-405D-ADE8-6D274C4DF2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注视方式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眨    眼：平均每分钟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5 — 8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频率快，表示感兴趣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经常闭眼，表示轻蔑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点头：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频频点头：表示感兴趣，鼓励继续谈话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候选人频频点头，表示无主见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重复点头：表示乏味，希望改变话题或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尽快摊牌；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CF6-CA8F-41BE-95CE-3ACBF0F379D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四、面试技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触摸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额头：表示紧张思考、困惑、悔恨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或顿悟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眼睛：掩饰行为，表示延期思考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鼻子：表示犹豫、怀疑、无从回答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 与 嘴：表示怀疑、戒心、掩饰自己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耳垂：表示谈话乏味、无聊、对话题反感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脸颊：表示犹豫、困惑、为难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下颚：表示评估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手与后脑：表示困惑、为难、紧张思考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548-0DDA-4654-A62E-E854F95CD2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9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4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、一对一面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适用于各种情况的初选和复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主试人可以是一个，也可以是多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时间一般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分钟（初选可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分钟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提出的问题一般在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个左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候选人的面试时间应错开安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注意候选人在等待面试时的表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CDB-8080-40E1-B4C2-65103B5A6C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面试场所的安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选择宽敞、安静的场所，避免被打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亲切环境安排：坐在沙发上，侧面相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压力环境安排：面对面，距离两米以上，主试人员坐得高一些，背光，增加主试人员数量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条件的情况下，准备录象设备，以便事后观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894-1BF8-4473-94DD-6599061887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）候选人简历研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找出与应聘工作要求相符的关键词，如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曾任职务；现任职务及任职时间；具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工作或职务的内容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找出反映候选人是否满足应聘工作的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容词和数量词，如：相关工作的任职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间长度；技术职称及评定的时间；获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等级和次数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EB2-2F2C-46EE-9373-8AD6BA29C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把握并估计以往工作经验与应聘工作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间转化的难易程度，如：知识、技能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经验、性格特征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估计所提供的背景材的可信程度，如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可证实的材料：学历、学位、外语等级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需要证实的材料：求职动机、能力状态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以往的工作表现等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可证实 的材料：责任心、主动性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B37-39EB-4ECF-B2C8-F8D5AE4821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75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75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</a:rPr>
              <a:t>一、面试的基本程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忽略个人 对自己的评价、看法、个性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兴趣等无法证实的材料，如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领导能力、原则性、组织协调能力、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作性、独立性、社交能力、爱好等自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评价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记录下有待证实和进一步了解的问题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细节，为面试做准备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773-D0D1-4BD3-866B-D645AB605B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02:09:57Z</dcterms:created>
  <dc:creator>shiwei</dc:creator>
  <dc:description/>
  <dc:language>en-US</dc:language>
  <cp:lastModifiedBy>吴占凯</cp:lastModifiedBy>
  <dcterms:modified xsi:type="dcterms:W3CDTF">2004-05-12T08:38:05Z</dcterms:modified>
  <cp:revision>12</cp:revision>
  <dc:subject/>
  <dc:title>面试与面试技术</dc:title>
</cp:coreProperties>
</file>