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518F-8491-4F43-B31D-AA0315DB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49C-CBD0-4184-9073-6DC145D2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6FB2-EBA4-42F5-B294-60B95E2A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C0BB-8B1D-41FE-B536-EADE642D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E5F6-B33E-4DE4-A8F4-67A53D50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20C2-1B54-4F99-BABC-67D52EF5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4AB7-92C5-4D92-9EE3-F34BAFA9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D4E3-B2F1-4702-B89C-84021F39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D0A3-5A43-4FEC-A29E-9D42334F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B85F-7088-45A8-B158-56E59C0B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E493-57D5-4690-AE81-640A8E4D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0DE-05ED-4F3F-ADBF-A13EB1EA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1125-F630-49A4-9166-1C580BCB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AD8F-262D-4708-87A9-904B91B6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64A3-F6C2-4E92-8516-3BA86670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18A9-9D0D-4319-B781-B0E83C57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B342-A39D-4F96-8226-A97AA60B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DB0-856A-4B8E-BFB0-187DC4BD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992-D632-4A63-860C-627845CA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276B-9A7A-4A7E-91A1-875CE7C1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62D-A23D-48F4-9B1A-88210123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D509-E246-459F-8333-4B78E329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A2A-5E6C-45AD-9398-6C50B4FA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7ACC-FC81-4373-9B95-EE83E9A4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B3E0-4BCE-4F45-8C19-B69523F212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徐剑招聘管理与人才甄选培训系列之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90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4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8E3D-A9DB-40BA-A8DF-35A70E6CD5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4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0" y="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徐剑招聘管理与人才甄选培训系列之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49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招聘考题精选、分析与点评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258920" y="4076640"/>
            <a:ext cx="64008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培训讲师、管理顾问：徐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docentxu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2001</a:t>
            </a: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年</a:t>
            </a: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03</a:t>
            </a: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月</a:t>
            </a: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北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C26C-55AE-41EF-B11C-D251F521EB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f9fbf"/>
                </a:solidFill>
                <a:latin typeface="Arial"/>
              </a:rPr>
              <a:t>通用汽车面试问题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f9fbf"/>
                </a:solidFill>
                <a:latin typeface="Arial"/>
              </a:rPr>
              <a:t>通用汽车面试销售代表的时侯，会请应征者舒服的坐在会客室里等候。面试主持人共有三位，一排列开，坐在面对大门的另一面。整个面试室约有５０平米大。除了面试主持人的桌椅以外，完全是空的，没有其他任何家俱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应征者被请进来，主持人第一句话就是：“请坐。”然后就会停下来看应征者的反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70E-6412-4DD1-AC9A-8276157C8E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销售人员试题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120" y="2463480"/>
            <a:ext cx="815364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样的鸡蛋，你怎样卖得更多，价格又更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763800" y="3768840"/>
            <a:ext cx="325620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分析与点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892F-7CAD-483A-A878-5BA5B91780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不宣而考的考题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一家食品公司招业务员，老总特意留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位初试人选者吃午饭。不想下午复试时，午餐交谈甚欢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位应聘者中选，而心思重重、食不甘味的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位却全部名落孙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780000" y="4149720"/>
            <a:ext cx="325584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分析与点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FE32-DF80-4E87-A62D-D2523F2B40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麦肯锡招聘试题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2392200"/>
            <a:ext cx="81536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什么下水道的盖子是圆的？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763800" y="3768840"/>
            <a:ext cx="325620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分析与点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A61-6C83-4E53-B3A1-A21969B53D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2057400" y="2400480"/>
            <a:ext cx="5029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招聘试题分析与点评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B56-721B-4DE3-98AC-4EA2C0B828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2268360" y="1916280"/>
            <a:ext cx="453564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黑体"/>
              </a:rPr>
              <a:t>THANK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  <p:sp>
        <p:nvSpPr>
          <p:cNvPr id="541" name=""/>
          <p:cNvSpPr/>
          <p:nvPr/>
        </p:nvSpPr>
        <p:spPr>
          <a:xfrm>
            <a:off x="1403280" y="494172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培训讲师、管理顾问：徐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docentxu@hot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2001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年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03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月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于北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F11-3256-46D4-955A-F7C31E3124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高层领导试题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120" y="2465280"/>
            <a:ext cx="815364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看待三国演义中“空城计”故事？（分析诸葛亮与司马懿博弈行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763800" y="3768840"/>
            <a:ext cx="325620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分析与点评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0CF-F4A1-4B16-8C3F-1D0DA90070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暗藏杀机”的考题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是怎样来我们这儿的？”这是在测试求职者对交通路线的熟悉程度及对诸如机动车、自行车等交通工具的使用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厂里有个篮球场，你进来的时候看到了吧？”这是在测试求职者履历的真实性，很有可能是求职者在“业余爱好”栏中填写了“打篮球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979-13F3-441C-B1F9-AFB42C7305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f9fbf"/>
                </a:solidFill>
                <a:latin typeface="Times New Roman"/>
              </a:rPr>
              <a:t>微软公司招聘试题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24000" y="2491920"/>
            <a:ext cx="854064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f9fbf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9f9fbf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在面试软件设计师的问题：＂请问美国纽约市有几个下水道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763800" y="3768840"/>
            <a:ext cx="325620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分析与点评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F95E-C207-45A3-BF8D-D1C4CC8B85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麦肯锡面试问题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798560" y="2420640"/>
            <a:ext cx="5934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国有多少个加油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763800" y="3768840"/>
            <a:ext cx="325620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分析与点评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E5B8-5C59-4CAA-A9EB-738A155B40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答案因职业而异的考题（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）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95280" y="1889280"/>
            <a:ext cx="8367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一位优秀大学毕业生参加一次招聘公务员的面试，自我介绍后，主考官就向他提出了一个问题：“请回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？”这位毕业生稍加思索便十分自信地回答：“你需要它等于几，它就等于几。”结果他被淘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9BA-04AA-467A-9EF6-A13A8208EB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答案因职业而异的考题（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一位企业老总在招聘部门经理时也问过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？”问题，有一位应聘者的答案与这位毕业生的答案一样，结果这位应聘者被录取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763800" y="3768840"/>
            <a:ext cx="325620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分析与点评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8B4-CCD6-4C30-A1AE-4AF9D6FA39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销售人员试题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120" y="2249640"/>
            <a:ext cx="815364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怎样给和尚卖梳子？要求至少想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种能自圆其说的办法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419640" y="3768840"/>
            <a:ext cx="3600360" cy="19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分析与点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C20-AC94-4E0B-8E96-6FFB44C3BC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故设圈套的考题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魏应聘电视台记者，笔试过关后参加面试，主考官问道：“你说你爱好写作，可是我看了你填的报考表，在‘自我评价’栏中居然出现了三次语法错误。现在既没有多余的表格，也不准涂改，你怎么办？”小魏吃了一惊，填表时他字斟句酌，怎么可能出现这样的错误呢？时间不允许他多想，他当机立断，边想边回答：“为了弥补失误，我在表后附一张更正说明，上面写道：‘某某地方出现了三处语法错误，实属填表人的粗心大意，特此更正，并向各位致歉。’不过……”他停顿了一下，接着说：“在发出这份‘更正说明’之前，我想知道是哪些错误，因为不能无的放矢，错误地发出一份‘更正说明’，我不愿意犯这种错误。”考官们笑了，原来这是故设的一个圈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C476-AE62-4C60-93DD-02DB383CC6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4:02:27Z</dcterms:created>
  <dc:creator>fd</dc:creator>
  <dc:description/>
  <dc:language>en-US</dc:language>
  <cp:lastModifiedBy>fd</cp:lastModifiedBy>
  <dcterms:modified xsi:type="dcterms:W3CDTF">2003-05-19T05:37:37Z</dcterms:modified>
  <cp:revision>11</cp:revision>
  <dc:subject/>
  <dc:title>特色招聘考题精选</dc:title>
</cp:coreProperties>
</file>