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522-07E1-4210-A3B2-5AE2370C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F64-436B-4E3E-8AF2-93176CEE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1E3-889D-4FA1-9582-6C8ADC78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AE5-C823-47BA-8D6E-7A4A7848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1124-2925-4618-9D68-08D15E5E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A47B-A566-4908-9FB4-BDDB3DE4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A296-E538-4CD3-B5B5-F79E28DA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D8CA-8DCD-4E4C-A646-CF6E871A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EF8A-86C2-4CB0-8A07-1F1DB8FD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7996-D807-4A33-A3CE-8A716559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73EC-2F20-4A29-81E5-7DEFA355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17E9-6F30-451F-8364-5D0F3257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8B2F-B3DD-4ADD-B5BA-F329E376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DFC1-7D4F-4ABA-8702-E8C79738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BDCB-E97C-4CD0-8579-B5068497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3D6F-E92A-44CB-B95A-97EC8A2A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CEE7-31C9-4CC9-8A8D-B2674E32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793-C892-4564-B020-F6DBFDA7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77D-BA0F-4A54-9AC2-0CF5D335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A7F4-5BD5-49BD-9FB2-787DB040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727-9F6B-40FF-B9E9-3EF96A51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FEE3-15C7-4D68-B66A-35F357EE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CBD-6F63-4F92-A601-26D79101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586-6D00-4353-BBC0-FB32C8A4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695E-06E9-4B63-8C72-B3ECF17C97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徐剑招聘管理与人才甄选培训系列之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9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B11D-11D6-42B9-91B4-9F5AF6EBB5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0" y="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徐剑招聘管理与人才甄选培训系列之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招聘考题精选、分析与点评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258920" y="4076640"/>
            <a:ext cx="64008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培训讲师、管理顾问：徐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docentxu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2001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年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03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月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北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D0B5-FD6B-42FD-93B8-F083817007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f9fbf"/>
                </a:solidFill>
                <a:latin typeface="Arial"/>
              </a:rPr>
              <a:t>通用汽车面试问题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f9fbf"/>
                </a:solidFill>
                <a:latin typeface="Arial"/>
              </a:rPr>
              <a:t>通用汽车面试销售代表的时侯，会请应征者舒服的坐在会客室里等候。面试主持人共有三位，一排列开，坐在面对大门的另一面。整个面试室约有５０平米大。除了面试主持人的桌椅以外，完全是空的，没有其他任何家俱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应征者被请进来，主持人第一句话就是：“请坐。”然后就会停下来看应征者的反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E03-8B8D-40E7-8A1A-74CAADD9E1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销售人员试题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120" y="2463480"/>
            <a:ext cx="815364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样的鸡蛋，你怎样卖得更多，价格又更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763800" y="3768840"/>
            <a:ext cx="325620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分析与点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963-ADA9-47CC-88DB-13D4F62AFE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不宣而考的考题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一家食品公司招业务员，老总特意留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位初试人选者吃午饭。不想下午复试时，午餐交谈甚欢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位应聘者中选，而心思重重、食不甘味的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位却全部名落孙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780000" y="4149720"/>
            <a:ext cx="325584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分析与点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E23-C34A-4676-B1A7-6BB0A8E6CD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麦肯锡招聘试题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2392200"/>
            <a:ext cx="81536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什么下水道的盖子是圆的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763800" y="3768840"/>
            <a:ext cx="325620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分析与点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6AF-FBD7-4608-A4E2-6B13E826C7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2057400" y="2400480"/>
            <a:ext cx="5029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招聘试题分析与点评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0C4-E68C-4CCF-9EBC-38706037E9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2268360" y="1916280"/>
            <a:ext cx="453564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THANK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  <p:sp>
        <p:nvSpPr>
          <p:cNvPr id="541" name=""/>
          <p:cNvSpPr/>
          <p:nvPr/>
        </p:nvSpPr>
        <p:spPr>
          <a:xfrm>
            <a:off x="1403280" y="494172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培训讲师、管理顾问：徐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docentxu@hot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2001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年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03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月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于北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871-8C06-4EA8-906E-48A928D8F0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高层领导试题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120" y="2465280"/>
            <a:ext cx="815364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看待三国演义中“空城计”故事？（分析诸葛亮与司马懿博弈行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763800" y="3768840"/>
            <a:ext cx="325620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分析与点评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48EA-27CB-4676-A254-5F0C1F7826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暗藏杀机”的考题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是怎样来我们这儿的？”这是在测试求职者对交通路线的熟悉程度及对诸如机动车、自行车等交通工具的使用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厂里有个篮球场，你进来的时候看到了吧？”这是在测试求职者履历的真实性，很有可能是求职者在“业余爱好”栏中填写了“打篮球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E8F-B351-4007-9264-3A73A35B95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f9fbf"/>
                </a:solidFill>
                <a:latin typeface="Times New Roman"/>
              </a:rPr>
              <a:t>微软公司招聘试题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854064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f9fbf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9f9fbf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在面试软件设计师的问题：＂请问美国纽约市有几个下水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763800" y="3768840"/>
            <a:ext cx="325620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分析与点评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4F0-192D-4659-94C8-FD5DCB6DF6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麦肯锡面试问题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798560" y="2420640"/>
            <a:ext cx="5934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国有多少个加油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763800" y="3768840"/>
            <a:ext cx="325620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分析与点评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D19-CC34-4518-973C-CF326012BB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答案因职业而异的考题（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）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95280" y="1889280"/>
            <a:ext cx="8367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一位优秀大学毕业生参加一次招聘公务员的面试，自我介绍后，主考官就向他提出了一个问题：“请回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？”这位毕业生稍加思索便十分自信地回答：“你需要它等于几，它就等于几。”结果他被淘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90F-F1FF-4D37-9B9A-767BCEBB59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答案因职业而异的考题（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一位企业老总在招聘部门经理时也问过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？”问题，有一位应聘者的答案与这位毕业生的答案一样，结果这位应聘者被录取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763800" y="3768840"/>
            <a:ext cx="325620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分析与点评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C0F-EF1F-4F57-B082-AF3F568083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销售人员试题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2249640"/>
            <a:ext cx="815364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怎样给和尚卖梳子？要求至少想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种能自圆其说的办法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419640" y="3768840"/>
            <a:ext cx="3600360" cy="19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分析与点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75E-9501-41A0-881D-2A24DD3574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故设圈套的考题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魏应聘电视台记者，笔试过关后参加面试，主考官问道：“你说你爱好写作，可是我看了你填的报考表，在‘自我评价’栏中居然出现了三次语法错误。现在既没有多余的表格，也不准涂改，你怎么办？”小魏吃了一惊，填表时他字斟句酌，怎么可能出现这样的错误呢？时间不允许他多想，他当机立断，边想边回答：“为了弥补失误，我在表后附一张更正说明，上面写道：‘某某地方出现了三处语法错误，实属填表人的粗心大意，特此更正，并向各位致歉。’不过……”他停顿了一下，接着说：“在发出这份‘更正说明’之前，我想知道是哪些错误，因为不能无的放矢，错误地发出一份‘更正说明’，我不愿意犯这种错误。”考官们笑了，原来这是故设的一个圈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37C-1746-40EB-9434-B529413643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4:02:27Z</dcterms:created>
  <dc:creator>fd</dc:creator>
  <dc:description/>
  <dc:language>en-US</dc:language>
  <cp:lastModifiedBy>fd</cp:lastModifiedBy>
  <dcterms:modified xsi:type="dcterms:W3CDTF">2003-05-19T05:37:37Z</dcterms:modified>
  <cp:revision>11</cp:revision>
  <dc:subject/>
  <dc:title>特色招聘考题精选</dc:title>
</cp:coreProperties>
</file>