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AMERA.WAV" ContentType="audio/x-wav"/>
  <Override PartName="/ppt/media/LASER.WAV" ContentType="audio/x-wav"/>
  <Override PartName="/ppt/media/CARBRAKE.WAV" ContentType="audio/x-wav"/>
  <Override PartName="/ppt/media/WHOOSH.WAV" ContentType="audio/x-wav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39E9-1595-4972-B6AD-3295A9D8B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04F9-A21F-47EC-B254-A9E9AB24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D29B-82E6-4E0B-9866-8CD83CEE2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6AD1-807B-4887-ADD1-91DEF158E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8BFB-A2BF-4AC6-B645-BC853FF3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35D6-8B76-402A-848F-DA35B952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3FD9-8FB3-4AE6-8E82-A99DDC74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9CE8-EAE6-49E8-AE74-7FD5E0E4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512C-33FF-46ED-923B-90E55FEC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5C5E-7050-4BEA-B9B3-6A6324FE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C0D6-37E4-4E07-A257-6A645ADB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51F5-0C1E-40C5-9482-972571CC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850C-2998-46FB-B7FA-F05BB9F7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976A-F432-441F-8045-361CF0F3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A466-CA4E-46B5-973D-3E58D9FC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8108-E875-475A-9132-6EC741C19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AB9A-EE42-4A6A-9CAE-E612DA8F8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E79B-AFF9-42DF-BB30-5CB6AFF1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02E4-338C-464C-87B9-B78A25C0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1E89-7F70-44A8-A59C-84C68364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0B8B-11D5-4238-9D13-27C6DB2E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BDC4-DF31-4BFE-8A83-CD3E1C21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CCB1-5ACD-43E9-8244-35FF4448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D7C1-C3CE-46C6-BBB2-454139BE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7D68-E2D7-4DAF-A7F0-51BDAD9D3C2D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B135-5B6F-43E1-A145-424ADB535039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4c2b"/>
                </a:solidFill>
                <a:latin typeface="Times New Roman"/>
                <a:ea typeface="黑体"/>
              </a:rPr>
              <a:t>面试与面试技术</a:t>
            </a:r>
            <a:endParaRPr b="0" lang="en-US" sz="6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6533-A6D9-49DF-BA9B-B6366631EA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一、面试的基本程序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）面试问话提纲的准备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需要有一个统一的问话提纲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根据对候选人简历的研究，准备特定的问话提纲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提纲的问题顺序应为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需要证实的问题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统一确定的问题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引伸性的问题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8358-56FE-49FF-A2C6-16EB2770AF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3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8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3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一、面试的基本程序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面试过程的控制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）面试过程的自然导入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）证实需要证实的问题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）了解其他资格方面的问题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）引伸提问，由候选人自由发挥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）回答候选人关心的问题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）轻松地结束面试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13FB-678F-4066-91BA-9DBB1307E1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75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75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75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75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75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75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75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75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75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75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75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75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75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75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导入性问题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我们这里难找吗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清您简要介绍一下你自己的情况。</a:t>
            </a:r>
            <a:br>
              <a:rPr sz="3200"/>
            </a:b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是从哪里知道我们企业的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希望选择一个什么样的企业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介绍一下你以前的工作经历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喜欢一个什么样的工作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BD17-ED92-499F-B8B7-36C52EA353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1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6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有关工作经验的问题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以往都从事过哪些工作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在你所从事的具体工作领域要想获得成功，需要什么条件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在你以往从事的工作中，你走喜欢和最不喜欢它的什么方面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以你以往的工作经验，你对所应聘的工作有什么把握做好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377B-06B9-43C0-A3D4-E4576FB4FA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3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3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3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认为在以往的工作中，哪一份工作你做得最成功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能够把以往工作的哪些经验用于我们企业的工作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曾经提出过哪些非常具有建设性的意见，当时你主管的态度是什么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在你的前一份工作中，你在多大程度上具有工作的自主性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6874-A0FE-414D-A7CB-894E77F951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在你前一份工作中，你做过最值得称赞的重大项目是什么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在你的工作中，日常例行的事务都有哪些？大约占你工作时间的比例是多少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曾经做过哪些具体的工作？你在这些工作中的主要贡献是什么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描述一下你部门的组织管理方式和分工情况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D438-4D36-4A76-A25E-5F5CD114BC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在完成任务的时候，你经常遇到的困难是什么？你是如何克服的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觉得以你的经验能承担哪些具体的工作任务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在你以往的工作经验中最欠缺的东西是什么？你打算如何弥补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以你的工作经验，你认为自己适合 承担什么职务的工作，为什么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06F6-7115-4E25-84DB-6340E67501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3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3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3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3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3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3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3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3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有关工作能力方面的问题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请介绍一下你的职业生涯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当初你为什么选择这一职业领域的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认为自己的教育背景中哪些东西对你的职业生涯贡献重大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的长远目标是什么？你凭什么认为你能够实现它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F745-B98D-4A8D-A93C-FFD6F6C24C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3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3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认为你在哪些方面的能力是超越别人的？你认为你做哪些事是别人无法与你像比的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成功的三个主要原因是什么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在以往工作中是如何解决棘手的问题的？请举一个例子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在什么情况下你不能按时完成任务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怎么知道自己工作做得不错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8532-1698-4A98-8E06-9575D58EDD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喜欢任何评价你的工作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是如何调动别人积极性的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举一个你失败的例子，你是如何处理的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作为一个有效的管理者，你认为什么品质最重要？你自己的情况如何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喜欢以什么方式与别人沟通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介绍几个你认为是最满意的工作业绩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ABD4-31E3-41F4-A2B0-B885272ABB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14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一、面试的基本程序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面试前的准备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）面试方式的选择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集体面试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座谈方式： 适合候选人比较多的初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无领导小组讨论方式：适合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人员素质需要仔细进行比较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考察人员整体能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CA7B-5B93-4092-B60C-60FE7A42F0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是否负责编制预算、核对费用、监督部门工作进度以实现财务目标的工作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曾经在降低成本、增加利润、提高员工士气、实现产量增长方面提出过哪些有价值的建议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从自己和别人的失败中吸取了哪些教训？它对你以后的工作有什么帮助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是根据什么来评价属下工作业绩的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315F-2DE1-429E-9DC4-150189BA20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3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3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3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3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在以往的工作中，你冒过什么风险，其结果是什么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曾经做过哪些方面的决策？效果如何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描述一下你的管理哲学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如果我们向你以前的主管了解你的情况，他会如何评价你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做工作的方式与别人有什么不同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2742-191F-4303-A210-B67D0802A9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要想在你应聘的工作中获得成功，你认为必须具备什么能力和品质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请谈谈你在原公司最受人器重的方面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对在原单位任职较长的人问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是否认为长时间在一个公司里工作，会很难适应一个新组织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有人认为，长时间从事一种工作的人会缺乏进取心，你怎么看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A4A4-EBEE-461B-B1A2-69960289C9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对于经常跳槽的人问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将在我们的公司呆多久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由于你经常变换工作，我们怎么知道你会长期留下来工作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等待不公正的批评，你通常采取的方法是什么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是任何应付工作中不可避免的冲突和压力的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5836-01FC-470B-8341-01E171678C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5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0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5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开放性的问题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能否谈谈你在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XX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方面的一次经历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在压力下工作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与同伴共同解决一个难题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创造性地解决了一个问题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没能按时完成一个工作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劝说团队按照你的办法工作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持有一个不受欢迎的主张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6B61-8A62-461B-98E4-78ACCD85583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策划一个很受欢迎的方案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预料到潜在问题，采取主动的对策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根据有限的事实做出重要决策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不得不做出一项不受欢迎的决策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容忍与自己不同的意见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成功授权一个项目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与一个愤怒的顾客或员工打交道等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A9DD-B464-4121-AD00-5B9B4E08E7F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有关求职动机方面的问题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什么因素能够促使你付出最大努力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请描述一下你理想中的工作是什么样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对你来说，工作中最重要的特点是什么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认为工作职责、工作负荷、上班路程、工资和奖金、工作环境应按什么顺序排列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规定最后工作期限对调动你的工作积极性有多重要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D8EA-58C3-47EB-89A6-4739BAE3F9A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认为你最不能容忍的不公平是什么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喜欢什么样的管理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喜欢什么样的领导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喜欢与什么样的同事共事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认为你的过去成功吗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怎么知道我们的公司会比较适合你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在你以往的工作中，你感到压力东西最大的是什么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CF62-695C-4384-910A-3AB685BB38D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1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6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1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6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1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6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选择职业的目标是什么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希望从职业中获得的最大奖励是什么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给我们谈谈一个能够使你兴奋的工作项目，你是怎样处理的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认为，在一个企业里决定一个人成功的因素是什么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是如何考虑学习新技能的问题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人们说，拒绝学习的人就等于拒绝工作，你怎么看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1A12-64DF-41B6-BB2C-0CC6464C9B5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关于个人背景的问题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为自己设置什么样的绩效标准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是怎样处理工作中的压力的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需要从主管那里得到什么帮助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喜欢制定计划还是喜欢执行计划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希望自己的职业朝着哪个方面发展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与别人相处时有什么问题吗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D10F-6805-4C00-A6DF-29DBAE29779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3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8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3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一、面试的基本程序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无领导小组讨论方式设计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选择讨论的主题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应该是有关职务要求的内容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应该是没有明显答案倾向的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应该满足对候选人多方面评价的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应该能够引起大家讨论兴趣的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人员控制在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人左右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时间不低于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小时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5F18-9517-48F6-B465-682931DF61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成功对你意味着什么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失败对你意味着什么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自己最大的优势是什么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给自己的职业能力、品格、工作作风打多少分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是一个勇于冒险的人，还是寻求保险的人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0A2F-5C2D-4B6C-AA5A-C5EF803557E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3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3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3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3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3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3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3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3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3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3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关于团队合作方面的问题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请给合作下个定义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喜欢与什么人一起工作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觉得与你难合作的人是什么类型的人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喜欢一个人干还是与别人一起干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是如何与自命不凡的人打交道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谈谈你作为团队成员所取得成就的感受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C02B-2493-44B3-A7A5-BB881DAB75F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9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64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69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74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79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84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有关压力的问题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诚实总是上策吗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真实和舒服，哪个对你更重要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是否曾经与一个不公正的上司工作，请谈谈当时的具体情况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在工作中经常担忧的事有哪些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是如何应付不愉快的事的？请举例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09CA-631C-4F38-A3BB-9B1CF5C15B4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75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75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75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75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75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75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75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75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75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75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75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75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延伸性的问题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别人给你最美妙的称赞是什么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顾客总是对的吗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是怎样看待生活的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从成功中学到的东西多还是从失败中学到的东西多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谈谈对你影响最深的人，他们在哪些方面影响了你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E21C-6BAE-480A-8BF8-978276454F9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认为“善”与“恶”的区别是什么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认为“保守”有什么积极的地方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“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管理者”和“领导者”有什么差异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认为“有效”的管理者和“成功”的管理者有什么差异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从失望中获得了什么益处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假如你能够决定你自己的命运的话，你要成为什么样的人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50DD-2E7B-4A39-989B-5F888EBB86E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9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4" dur="75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9" dur="75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75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9" dur="75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4" dur="75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zh-CN" sz="7200" spc="-1" strike="noStrike">
                <a:solidFill>
                  <a:srgbClr val="333333"/>
                </a:solidFill>
                <a:latin typeface="Times New Roman"/>
              </a:rPr>
              <a:t>举           例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A7BF-713D-4160-BE07-498163B897E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三、面试中应避免的陷阱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摆脱“理想”人选的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[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定型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]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影响，根据职务要求而不是理想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摆脱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[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定势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]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的影响，克服不利信息的影响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摆脱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[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情景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]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的影响，克服候选人前后对比的效应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摆脱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[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主观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]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影响，克服以己度人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FCF4-4EBB-4A89-99B5-89B08B1A816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9" dur="indefinite" restart="never" nodeType="tmRoot">
          <p:childTnLst>
            <p:seq>
              <p:cTn id="1320" dur="indefinite" nodeType="mainSeq">
                <p:childTnLst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1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6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四、面试技巧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自信心的评价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应变能力的评价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分析判断能力评价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工作经验的证实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创造性评价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个人修养评价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B92A-06E8-4207-B0C5-A0E8886966D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75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75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75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75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75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75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75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75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75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75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75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75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四、面试技巧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形体语言观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面对面交谈：有声部分低于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35%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；无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部分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65%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手： 一般认为，伸开手掌，掌心向上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是坦诚的象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小孩说谎时，手掌藏在背后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成人说谎时，双手叉兜、双臂交叉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不露手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FFAA-488F-4C78-87FF-37141DD73A1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75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75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75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75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75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75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75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75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75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75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75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75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75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75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75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75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四、面试技巧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掌语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掌心向上：诚实、谦虚、不带任何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胁性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掌心向下：压制、指示性、强制性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易产生抵触情绪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搓 手 掌：焦急等待，跃跃欲试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49CF-2C7F-456D-87EB-6490D7461AC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7" dur="indefinite" restart="never" nodeType="tmRoot">
          <p:childTnLst>
            <p:seq>
              <p:cTn id="1448" dur="indefinite" nodeType="mainSeq">
                <p:childTnLst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一、面试的基本程序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举例：管理职务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主题：薪资提升，名额有限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角色扮演：各部门经理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目的：通过协商，确定提薪人员名单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材料：各部门候选人的基本材料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观察：表达能力和语言习惯、思维的逻辑性、对材料的理解和把握程度、组织与协调能力、管理观念、性格特征、对管理职务的理解、激励能力、沟通能力等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C506-84A7-4F77-9D97-397516BC64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四、面试技巧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指语言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拇指：积极语言，表示优越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双手插兜，拇指伸出，表示高傲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双臂抱胸，拇指翘起，表示敌对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情绪和防卫；这种人难以接近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谈话中拇指对人，表示嘲弄和蔑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视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8FD1-C1AF-433D-ADCA-C6FEBFF65FA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1" dur="indefinite" restart="never" nodeType="tmRoot">
          <p:childTnLst>
            <p:seq>
              <p:cTn id="1492" dur="indefinite" nodeType="mainSeq">
                <p:childTnLst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四、面试技巧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十指交叉 ：十指交叉动作，常与笑脸配合，貌似自信，其实表示焦虑，甚至暗示敌对情绪；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注  视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时间：应占谈话时间的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50% — 70%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三分之一以下，表示不诚实，恐慌；三分之二以上，表示诚恳和有自制力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、对方瞳孔放大，表示你有吸引力，喜欢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、对方瞳孔缩小，表示敌意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A225-0721-4014-B609-17E850F1550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8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3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8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3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四、面试技巧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注视方式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眨    眼：平均每分钟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5 — 8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次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频率快，表示感兴趣；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经常闭眼，表示轻蔑；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点头：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频频点头：表示感兴趣，鼓励继续谈话；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候选人频频点头，表示无主见；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重复点头：表示乏味，希望改变话题或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尽快摊牌；    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E5B3-6628-4ED8-BE42-B06B615D1EF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4" dur="indefinite" restart="never" nodeType="tmRoot">
          <p:childTnLst>
            <p:seq>
              <p:cTn id="1575" dur="indefinite" nodeType="mainSeq">
                <p:childTnLst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6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1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1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6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1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6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四、面试技巧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触摸：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手与额头：表示紧张思考、困惑、悔恨，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                         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或顿悟；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手与眼睛：掩饰行为，表示延期思考；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手与鼻子：表示犹豫、怀疑、无从回答；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手 与 嘴：表示怀疑、戒心、掩饰自己；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手与耳垂：表示谈话乏味、无聊、对话题反感；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手与脸颊：表示犹豫、困惑、为难；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手与下颚：表示评估；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手与后脑：表示困惑、为难、紧张思考；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745D-C596-43AB-AC7E-40CE2525A02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7" dur="indefinite" restart="never" nodeType="tmRoot">
          <p:childTnLst>
            <p:seq>
              <p:cTn id="1628" dur="indefinite" nodeType="mainSeq">
                <p:childTnLst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9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4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9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4" dur="5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一、面试的基本程序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一对一面试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适用于各种情况的初选和复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主试人可以是一个，也可以是多人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时间一般为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45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分钟（初选可以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分钟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提出的问题一般在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15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个左右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候选人的面试时间应错开安排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注意候选人在等待面试时的表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E2EF-9359-4DB3-9989-5194748715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一、面试的基本程序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）面试场所的安排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选择宽敞、安静的场所，避免被打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亲切环境安排：坐在沙发上，侧面相对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压力环境安排：面对面，距离两米以上，主试人员坐得高一些，背光，增加主试人员数量等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有条件的情况下，准备录象设备，以便事后观看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ED6B-3D43-4500-B667-553D475B9A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75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75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75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75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75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75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一、面试的基本程序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）候选人简历研究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找出与应聘工作要求相符的关键词，如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曾任职务；现任职务及任职时间；具体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工作或职务的内容等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找出反映候选人是否满足应聘工作的形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容词和数量词，如：相关工作的任职时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间长度；技术职称及评定的时间；获奖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等级和次数等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F074-8A67-4C00-B860-024550F95F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一、面试的基本程序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把握并估计以往工作经验与应聘工作之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间转化的难易程度，如：知识、技能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经验、性格特征等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估计所提供的背景材的可信程度，如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可证实的材料：学历、学位、外语等级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需要证实的材料：求职动机、能力状态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以往的工作表现等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不可证实 的材料：责任心、主动性等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10EF-5FFF-4951-80FE-0858676D3B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75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75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75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75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75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75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75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75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75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75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75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75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75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75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一、面试的基本程序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忽略个人 对自己的评价、看法、个性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兴趣等无法证实的材料，如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领导能力、原则性、组织协调能力、合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作性、独立性、社交能力、爱好等自我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评价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记录下有待证实和进一步了解的问题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细节，为面试做准备。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DF05-725E-4B40-9964-586232A033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7T02:09:57Z</dcterms:created>
  <dc:creator>shiwei</dc:creator>
  <dc:description/>
  <dc:language>en-US</dc:language>
  <cp:lastModifiedBy>吴占凯</cp:lastModifiedBy>
  <dcterms:modified xsi:type="dcterms:W3CDTF">2004-05-12T08:38:05Z</dcterms:modified>
  <cp:revision>12</cp:revision>
  <dc:subject/>
  <dc:title>面试与面试技术</dc:title>
</cp:coreProperties>
</file>