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 is Jesu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does know God, because He is His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deny that knowledge would be ly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sinless life is proof of His knowing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ack to the question of Who Jesus 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raham knew the answ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braham rejoiced to see Jesus’ day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b 11:13 – He saw them afar off, prophe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he saw and was glad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w put into the past te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Abraham during his life saw Jesus (pre-incarnate) or Abraham, after death, was made aware of Jesus bir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ave You seen Abraham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5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understood Jesus to have meant that Abraham saw Jesus during Abraham’s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wasn’t 50 (actually in His early 30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could He claim to have seen Abraham or be seen by Abraham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 A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5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fore Abraham was, I AM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earlier uses of “I am”, could be misconstrued as simply forgetting to complete the though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possible he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“I was” – a claim to simple existe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“I AM” – a claim to eternal existe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does “I AM” mea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is self-existent (not created) (Isa 43:10-1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is continuously involved in the lives of men…through all generations (Ex 3:13-1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id the Jews understand this claim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5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understood the claim and rejected it as blasphem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re willing to immediately stone Him to dea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Jesus demonstrates exactly what He just claimed, that He is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hid Himself and walked through their mid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knew His face and were going to kill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ere just talking to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He hid Himself (a miracle) right before their eyes, and simply walked out of the te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, clearly stated His divin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had asked Him who He claimed to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 gave them an answer that can not be understood in any other way, “I AM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Jews rejected that clai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said the Father would judg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allowing Jesus to miraculously hide Himself while in plain sight, God gave His answ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n the day of judgment, all will acknowledge the truth (Phil 2:9-1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 Am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48-5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arlier in this discussion with the Jews, Jesus twice referred to Himself as “I am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8:24, 2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did not understand what He meant, assuming He had simply left off the object of the sentence, ‘I am ____’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even asked for clarification (Jn 8:25a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n He showed that a child’s father can be known by the behavior of the chil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lived without sin and in complete harmony with God’s word – God is His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were lying in order to kill an innocent man – Satan was their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harges against Hi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hn 8:48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had asked what sin He could be accused of (v46), they couldn’t come up with a s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t they did attempt to discredit Hi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ng Jesus’ point that they lied freely to keep from obeying the truth, they accuse Jesus of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eing a Samarita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mpletely false and baseless cha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s presence the past week in the court of Israel during the feast would have meant death (immediately by stoning) for any non-J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likely being used as a ethnic or religious sl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eing demon-possess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harge made several times, somewhat analogous to “He’s crazy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’ respon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4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ignores the Samaritan comment since it was knowingly false (1 Pet 2:23: Psa 69:7-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ies the demon-possession ch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vides proof He is not demon-possess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honors His Fa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His life, His teachings, His miracles, all in accordance with God’s will (v2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demon would neither be willing, nor capable, of honoring the Father in that way (Mt 12:24-3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erses the ch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dishonoring the Father’s Son, they were dishonoring the Father (Jn 5:23; Mk 12:1-1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was something a demon would 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lor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5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ys He was not seeking His own gl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as not trying to be honored by those who had insulted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neither did He allow what they said to deter Him from speaking tru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as merely correcting them (2 Tim 2:24-26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xample for us to foll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One who seeks (glory for Jesu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at would be God (Mt 3:17, 17:5; Jn 17:1-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 is the One who jud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ill determine whether the charges against Jesus are true or lies; and who deserves glo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ternal lif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peaking of God as the judge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5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one certain way, the only way, to avoid being condem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Keep the words of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just some or a few, but a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t 28:18-20, for 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ver see death” – not referring to physical death since all die (Heb 9:2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rather the second death (Rev 2:1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is offering eternal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 do You think You ar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52-5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ews take this last statement as proof Jesus was demon-posses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eryone dies, so how can Jesus offer eternal lif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en Abraham and the prophets all di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They apparently forgot about Enoch and Elijah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Jesus claiming to be greater than Abraham and the prophet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Jews are asking, ‘Just Who do You think You are?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 is Jesu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8:54-5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Jesus declares His own titles / position, that would be honoring Himsel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would mean nothing, and perhaps demean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ther (God) honors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rectly through His voi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rough His scriptures / propheci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rough allowing the miracles to be perform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t the Jews don’t really know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they did, they would have recognized and honored His Son, and they would keep His wo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07:24Z</dcterms:created>
  <dc:creator>Glenn E Hamilton</dc:creator>
  <dc:description/>
  <dc:language>en-US</dc:language>
  <cp:lastModifiedBy>Glenn E Hamilton</cp:lastModifiedBy>
  <dcterms:modified xsi:type="dcterms:W3CDTF">2010-07-06T19:09:55Z</dcterms:modified>
  <cp:revision>5</cp:revision>
  <dc:subject/>
  <dc:title>“I Am”</dc:title>
</cp:coreProperties>
</file>