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hou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ronically then, the opposition of the Jewish leaders actually made people more certain Jesus was Chris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tone the builders rejec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people shouted, “Save now!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wanted Jesus to be king and lead the people to victory (over the Roman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me early historical estimates have said there were 2-3 million Jews who gathered yearly for Passov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s would be the ideal time to rise u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so why the Jewish governor always came to Jerusalem for Passover with a large military for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hou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uke 19:39-40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harisees want Jesus to silence the crow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erhaps the Messianic references bother the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ertainly the crowd calling Him king made them fear the Romans would see it as a rebell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says if the crowd were silent, then the stones would cry ou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Zechariah prophecy said there would be rejoicing when the king road i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d’s word would be fulfill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ay also be an allusion to Hab 2:10-11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ying they were giving shameful counsel and if listened to would cause the earth to protes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before the knowledge of the glory of the Lord filled the earth (Hab 2:1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Prophec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k 19:41-4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 the Jews were going to reject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were going to see their city besieg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rusalem would be razed by the Roma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 interesting prophecy while the crowds were shouting and waving palm bran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people thought they understood and were proclaiming their victor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knew how quickly everything would change, and He wep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y were the people so certain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2:17-1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who had seen Lazarus buried then risen were tal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 miracle like this had ever happen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rely it signified something spectacular was about to happe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so it was . . . Just not what they were expec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Pharisees’ re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2:1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hing has worked to sway people’s opin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reats and commands to turn Him i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rguments against His claim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ppeals to Jesus to quiet the crow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ch complains to the other that he is accomplishing noth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 the first part of what they feared a few weeks earlier has happened (John 11:4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ore drastic steps will be take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r just a few hours it almost seemed that the nation had finally accepted their Chris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t amidst their shouts and celebrations, Jesus wep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knew their joy was because of a mistaken belief in what the Christ would d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knew He was doing something great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driving out the Rom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providing a sacrifice for the forgiveness of s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re you willing to accept and obey the Savior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Triumphal Entr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2:12-1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ith this lesson we begin the final week of Jesus’ life before His crucifix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ay before He had arrived in Betha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ny had come out from Jerusalem to see Him and to see Lazar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ny believed on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ry expressed her love by anointing His feet with costly oi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said the anointing would serve as His burial anoint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day is now Sunday, the beginning of the wee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riumphal entr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2:12-1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rded in all 4 gosp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tt 21:1-16, Mk 11:1-11, Lk 19:29-44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rides into Jerusalem from Bethphage (“place of figs”) near Betha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oes over the Mount of Oliv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the summit, He can look down on the c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oad is about 1 mile long from the summit down to Jerusalem’s closest g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ong this road the people have gathe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spread cloaks and palm branches on the roa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s seem to have been waving their palm branches in the ai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iding a donkey’s col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rides into Jerusalem on the colt of a donke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donkey was not a king’s steed (like a hors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even a mule (which a few generals used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a lowly beast of burde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suring around 32 inches at the with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He rides one not even full-grow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ding of this lowly beast is delibe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l 3 other accounts clearly document the part God played in picking this particular bea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ason involved both Jesus’ character and a prophe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prophecy and His charact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Zech 9: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assage the Jews knew as Messian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ir king would come one da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king would bring salv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Jews often mistakenly assumed this would be salvation from their earthly adversar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king will be identified by His justice, humility, and riding a colt, the foal of a donk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nce God directing the disciples to this bea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n though the quotation ends with verse 9, Zechariah’s prophecy said more about this 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prophecy and His charact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Zech 9:1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 not need the weapons of w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ich should have told them the idea of an earthly kingdom was wro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will rule everyw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dentifying the kingdom as spiritua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gain, the prophecy in Zechariah continu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prophecy and His charact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Zech 9:11-1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prisoners?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covenant? What bloo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situation is called “a waterless pit”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context it would be when the king cam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offered to set them free (Jn 8:31-3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needed to be set free (Rom 7:14-17, 24-2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“blood of your covenant” could refer to their sin, breaking the covena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more likely referring to the means of their escape from sin, Christ’s blood of the covenant (Mk 14:24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could remain prisoners of sin, helpless, in a “waterless pit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r become “prisoners of hope”, return to God in hope of the blessings (Rom 6:16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hou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 phrases are record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anna” meaning “Save now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essed is He who comes in the name of the Lord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th were taken from Ps 118:22-2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 probably recognized several other phras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psalm that to some extent referred to Davi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king who was rejected by Jewish lea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king who tried to follow G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king the people turned to when in ne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the Jews knew David was not the perfect fulfillment, they expected the Christ to fulfil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5:09:43Z</dcterms:created>
  <dc:creator>Glenn E Hamilton</dc:creator>
  <dc:description/>
  <dc:language>en-US</dc:language>
  <cp:lastModifiedBy>Glenn E Hamilton</cp:lastModifiedBy>
  <dcterms:modified xsi:type="dcterms:W3CDTF">2010-09-01T14:53:17Z</dcterms:modified>
  <cp:revision>6</cp:revision>
  <dc:subject/>
  <dc:title>The Triumphal Entry</dc:title>
</cp:coreProperties>
</file>