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. . .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pite Judas’ motives, didn’t he have a poi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mmand of the Law (Dt 15: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id teach to care for the po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k 18:18-30 – just a few weeks earli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7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the poor need to be cared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 will be plenty of time for th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use there are always poor peo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, as always, it is a matter of prior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ouldn’t be present much longer on ear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He was gone what might they have wished they could have said to Him or done for Hi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 the day of My buri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knew He was going to d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even knew when He was going to die (Matt 26: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He knew there would be no time on that day for applying spices and oil before bu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 knew when He would arise, so He knew there would not be another opportunity for that service (Jn 2:19-2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Mary understood the significance or no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could have since Jesus did not make a secret of His coming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tting that the King of Kings go the grave anointed with costly o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lot grow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9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ot of people came to Bethany that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hance to see and speak with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and more coming to believe on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 command to tell the Sanhedr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o a chance to see and speak to Lazar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oo many chances to speak to someone who had been undeniably d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ing more people to believe on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zarus’ presence makes it even harder to act against Jesus, so the Sanhedrin decides that they should kill Lazarus als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om one should die (Jn 11:50), to now tw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much do you love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would you be willing to do for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sacrifice would you make for Hi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 25:41-4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w how you would treat the Lord, by the way you treat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y loved Jesus and followed her heart in showing her love right then and the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nointing at Bethan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-1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week or two earlier, Jesus raised Lazarus from the de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 and Martha were sisters of Laza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nce Lazarus was raised (and even before then) the Jewish leaders had been looking to kill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and had been given to report Jesus’ location to the Jewish l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pent the last week or two at a small villa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ith Passover approaching, He returns to the vicinity of Jerusa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though Luke records a similar incident (Lk 7:36-50) it is NOT the same incid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ke’s incident occurs early in Jesus’ mini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ppens in the house of a Pharis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volves an unnamed, sinful wom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though Matthew and Mark also record a similar incident: Matt 26:6-13; Mk 14:3-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ncident takes place 4 days lat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volves anointing the he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ppens in the house of Simon the lep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volves an unnamed wom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2:1-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ells us when Jesus returned to Betha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 days before Passover, would have been the Saturday before the crucifix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omplement to Jn 11:5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mes to di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tha, Lazarus’ sister, is ser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hing Martha was always much concerned about (Lk 10:38-4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zarus is at the table (either host or gues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Jesus is the guest of honor, more likely Lazarus is host with his sister cooking / ser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a “thank you” dinner, since Jesus seems to have left soon after raising Lazar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’s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2: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k a pound of oil of spiken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pound was about 12 ounces (1 ½ cup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ypical vial was only 1 ounce for use as a perf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h a large container would be used to anoint the de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because of its cost only the very rich would so use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oday the cost is about $25 per ou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ikenard is made from crushing the roots of a certain plant that grows in India, Nepal, Chin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act it had to be imported such a distance explains the high c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ainer of spikenard was found among the treasures in King Tutankhamen’s tom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1539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’s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he took the oil and anointed Jesus’ fe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ly a homeowner would supply water and a servant to wash guests’ f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ndication Jesus’ feet were not wash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walking dusty roads, they were bound to be d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then used her own hair to wipe up the excess o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did she do i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first and foremost it was a way to show her love for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d given her back her brother who had d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s any sacrifice too much to say “thank you”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il had probably been purchased to be used on Lazar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ils and spices would be poured over the wrappings of the dead bod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tting that the oil could be used for the One who made it no longer need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oils could’ve been used (olive oi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her heart demanded something mo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David (1 Chr 21:24) love and thanksgiving to God should be a sacrifice that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do we ask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haps more important than knowing why Mary used the o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re we appalled by her actions unless we can come up with a logical explan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11:4-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as had this materialistic minds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ed to disguise it as concern for the p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really was just hoping to be able to pilfer some of the mo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as says it could’ve been sold for 300 denari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one year’s w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as’ estimate of the cost is actually way too 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3:29:48Z</dcterms:created>
  <dc:creator>Glenn E Hamilton</dc:creator>
  <dc:description/>
  <dc:language>en-US</dc:language>
  <cp:lastModifiedBy>Glenn E Hamilton</cp:lastModifiedBy>
  <dcterms:modified xsi:type="dcterms:W3CDTF">2010-08-20T19:09:52Z</dcterms:modified>
  <cp:revision>3</cp:revision>
  <dc:subject/>
  <dc:title>The Anointing at Bethany</dc:title>
</cp:coreProperties>
</file>