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rayer for sanctific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7:17-19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be sanctified is to be set ap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prayed that the word of God would set them ap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part from si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part from the worl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part from selfishness and divis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eying God’s word sets one ap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s Jesus obeyed the Father and was set apart for a task He was now complet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w He had set a task upon the apostles, and they needed to set themselves apart through obedience to get the task do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knew that the persecution would be great against His apost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would not be there with them physical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He prayed to the Father (as He had told them they should do), and asked for . . 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m to be united in spirit and purpos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m to have jo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m to strong in the face of persecu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m to be sanctified by the truth in God’s wor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re you willing to be sanctified by the truth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why not obey His words n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e3ebf1"/>
                </a:solidFill>
                <a:latin typeface="Arial"/>
              </a:rPr>
              <a:t>I Pray for Them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Lord’s Pray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7:6-19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s the gathering in the upper room ends, Jesus pray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’ prayer can be divided into three part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etition for Himsel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etition for His apost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etition for all future belie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this lesson we’ll examine the petition for His apost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o He is praying f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7:6-9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se to whom He manifested God’s n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14:7-11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s apostles, by Jesus’ life, words, and mirac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se given to Him out of the worl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12:44-46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ose who believed and left the darkness of s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were Yours, You gave them to Me, and they have kept Your word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6:62-69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edient to the Law and, therefore, now obedient to the S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o He is praying f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ose who received (believed and obeyed) the words Jesus gave (from the Father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15:14-1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apostles who were obedien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ose who believed that Jesus came forth and was sent by Go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16:29-3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apostles whose faith continued to gro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ot the worl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15:18-2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ose who do not believe or do not obey His word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rayer for uni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7:10-1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gins with the reason for the pray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Father and the Son have only one purpos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2 different salv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Law was meant to bring the Jews to Chri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l 3:21-2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obedience of the apostles glorified Chri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acknowledging His position in God’s p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He was no longer going to remain with the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rayer for uni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ithout Christ with them, they might break apart and be scattere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asks “that they may be one as We ar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be united in the plan and words of Go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ep through Your name” (v1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kept them in Your name” (v1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n 10:22-3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ief and obedience to the word of G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xcluding, of course, Judas Iscariot, “the son of perdition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Greek a play on words: “None of them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erishe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but th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erish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 (Westcot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hoice made by Judas, but foretold by G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rayer for jo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7:1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prayed aloud so that the apostles would hear His joy and it would become their jo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was Jesus joyous?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is death might seem a cause for sorro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15:9-11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was keeping the Father’s comma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12:2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was fulfilling the purpose for His co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isciples should be joyo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at He offered salvation through His deat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at they could carry our His command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rayer for strength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7:14-1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son: the world will hate them because they have God’s w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mplied that they are keeping and teaching 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world hates to have its sin exposed as s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n 3:19-2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son: they are not of the worl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ecause they obey God’s word, they no longer belong to the world, but still live in 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est: “keep them from the evil on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mptations will still exist, and perhaps increas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e need God’s help to stand (Eph 6:10-18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4:54:23Z</dcterms:created>
  <dc:creator>Glenn Hamilton</dc:creator>
  <dc:description/>
  <dc:language>en-US</dc:language>
  <cp:lastModifiedBy>Glenn Hamilton</cp:lastModifiedBy>
  <dcterms:modified xsi:type="dcterms:W3CDTF">2011-01-05T17:39:17Z</dcterms:modified>
  <cp:revision>4</cp:revision>
  <dc:subject/>
  <dc:title>I Pray for Them</dc:title>
</cp:coreProperties>
</file>