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ible.ca/maps/maps-palestine-33AD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4. Slow and Stead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ost people don't realize what they need first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'll want to talk about a particular subjec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they really need something else firs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me want to study Revela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they need to be grounded on the rest of the Bible firs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me want to discuss issues related to church organization, work, worship, etc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they ought to focus on the "first principles" of the gospe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t is important that a person not choke on the "meat" of the Word (1 Cor 3:1-2)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5. Don’t Condemn Unnecessaril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4:17-1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could have dwelt on her being an adulter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t was clearly sinfu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f she didn’t stop, she would be condemn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Jesus came to bring salvation to those willing to leave the darkness (Jn 12:46-48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 our efforts at evangeliz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ough we preach against sin, our primary purpose is to save, not judge (1 Cor 5:12-13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focus should be to inform others of the forgiveness God offers (2 Cor 5:18-2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od seeks reconciliation with sinner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urs is a ministry of reconciliation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6. Stick to the Main Poi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4:19-20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e’s trying to deflect the conversation away from herself and to a point of controvers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4:21-2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answers her ques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ws worshipped in accordance to God’s wor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orship requires spirit and trut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returns the conversation to the main poi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at is Jesus offering (Jn 4:10, 13-15)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fter all, a moment earlier, she said she wanted 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she willing to worship God in spirit and truth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6. Stick to the Main Poi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seeking to establish a common ground of agreement, avoid jumping ahead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you move from common to uncommon ground . . 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ake one step at a time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o not go on until agreement at each step has occurr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your objective is simply to obtain consent for a home Bible study, avoid getting into a detailed discussion at that tim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at’s a great question.  Let me jot it down and let’s discuss it in detail.  How about Friday?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7. Confront Directl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Jn 4:25-26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e groundwork had been lai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esus confronts her with who He 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Application: In trying to set up a home Bible study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ke advantage of social contact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elop common interest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open to comments that show a spiritual interest, while demonstrating your own faith through actions and word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oid fruitless arguments, emphasize common belief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ise good points, encourage them in the right directio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one primary objective: to encourage them to study the Bible even mor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k if they’d like to learn more about Jesus, the Bible, His church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ront them directly with the opportunity to study the Bi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pecific date, time, and location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7. Confront Directl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Application: During the course of a home Bible study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ue to develop the social conta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ue to establish common interest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ke time to accentuate common ground you share in your spiritual interest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 from common ground to uncommon ground carefully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ress the gospel message; don't obsess on their individual shortcoming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one primary objective: to help them understand their need and gospel plan of salv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e groundwork is lai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ront them directly with the invitation to obey the gospel of Christ; for example, by asking..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"Does this make sense?"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"Is there anything I have said that you do not understand?"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"Have I been teaching you anything other than what the Bible teaches?"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) "Would you like to obey Christ now and be baptized for the remission of your sins?"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haps the principles learned from Jesus will help all of us to spread the gosp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 conta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blish a common intere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ouse spiritual interest (actions and word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low and stead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n’t condemn unnecessari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ick to the main poi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ront direct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ow, there is work to do!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even Principles of    Personal Evangelism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4:1-2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ost Christians want to share the gospel of Christ with othe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often feel awkward trying to talk with oth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 simply don't know how to establish contacts for a Bible stud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ausing many to experience frustration and discouragement which keeps them from trying again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, of course, often spoke with people about Go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’s learn some principles from His method that might help us in our effor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18040" y="-685800"/>
            <a:ext cx="4125960" cy="7772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1. Social Conta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4800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n 4:1-6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arisees avoided traveling through Samar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ven adding an extra day to their journe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“needed” to go through Samar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need seems to be that there were people there who needed to hea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dn’t do a big preaching campaig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st went to make conta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086600" y="2362320"/>
            <a:ext cx="6094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ycha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6857640" y="24382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0" y="236232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1. Social Conta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people aren't coming to Christ, we need to be going to the peopl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e can't be fishers of men by fishing in a barr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the fish won't come to the barrel, then we must go where the fish ar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problem with sowing the seed is not that there is not good ground to be found, but that the seed is still in the barn (Hag 2:19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 are the peopl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t school, work, neighbors, the store, on the street, the post office, the restauran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en if we have to go a bit out of the way (like Jesus did), we need to 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2. Establish a Common Interes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4:7-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on interests act like a brid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woman had come to draw wat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e came at an uncommon time (no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 was tired and thirst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times we say we are too tired to look for opportunities to te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us kicked off the conversation with a complete stranger by linking their interest in wa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common interest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ork, school, friends, family, weather, travel, etc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oint is to find something to talk abou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3. Arouse Spiritual Interes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rough ac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n 4: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s a man He speaks to her, a woma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s a rabbi He speaks to her, an immoral woman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s a Jew He speaks to her, a Samaritan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aroused interest by simply speaking to he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rough our ac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can arouse spiritual interest by our examp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showing kindness and compassion to all, even the evil and wicked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not harboring racial or social prejudices to those who are differen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3. Arouse Spiritual Interes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rough word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n 4:10-1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sus' statement shifted their conversation to spiritual matter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led them into a discussion on a common spiritual interest (living water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rough our word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stions or statements to shift conversations to spiritual matter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"Why do you think our world is in such a mess?“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 read in the Bible that..."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scussion should begin without disagreement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gument rarely leads to conversion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4. Slow and Stead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4:15-16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e wanted the "living water", but she didn’t understand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saw the need to slow her down and provide the proper groundwor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he needed faith in Him as the Messia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needed to provide evidence that He was the Messiah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 instead of giving her the "living water"...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tells her to get her husb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will result in her conviction that He is a prophe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3:19:36Z</dcterms:created>
  <dc:creator>Glenn E Hamilton</dc:creator>
  <dc:description/>
  <dc:language>en-US</dc:language>
  <cp:lastModifiedBy>Glenn E Hamilton</cp:lastModifiedBy>
  <dcterms:modified xsi:type="dcterms:W3CDTF">2010-02-17T15:39:36Z</dcterms:modified>
  <cp:revision>4</cp:revision>
  <dc:subject/>
  <dc:title>Seven Principles of    Personal Evangelism</dc:title>
</cp:coreProperties>
</file>