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at about him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t was a big moment in Peter’s life and fait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now knows the cost of his discipleshi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will die in an unpleasant manner if he chooses to accept the call to follow Jesu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at should he /will he do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21:20-2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stalls and redirects the convers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points to John and asks what will befall him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erhaps ‘misery loves company’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r seriously wondering if others will pay a similar pri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r just stalling for time as he decides whether the cost is too high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at about him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21:22-23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’ answer is that it doesn’t matter what will happen to Joh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call was for Peter to follow Hi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r each of us, the same is true . . 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refuse to obey because of the relatives or frien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should not matter, you have been call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hn then admits that some had misunderstood Jesus to mean John would live until Jesus return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John knew that was never promised to hi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21:24-25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hn identifies himself as the writer using the same form used throughout (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erso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gave a true account of what he knew had happen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ose who knew John knew he was truthfu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hn could have written much more about the things Jesus said and di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he chose those things that were needful so that you could have faith and have life (Jn 20:30-31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o you believe in Jesus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o you love Jesus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ow much do you love Jesus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ust a friend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ough to sacrifice self for Him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ough to sacrifice all for Him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re you ready to follow Jesus no matter the cost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ollow M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21:15-25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s is the third time Jesus has appeared to His disciples since His resurrec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reminded them through His words and actions of their original calling to follow Jes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ate with them and talked with them, giving them yet more evidence of His new lif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ehn He speaks to Peter, who had denied knowing Him just a few weeks earlier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s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21:15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asks Peter if he loves Him “more than these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ich “these”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fishing boats, nets, and fish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possibility (though less likely), asking Peter which is of foremost importance to Pe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other apostles seated arou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ter had once compared his love to that of the other apostles (Mt 26:31-3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ov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Greek has several words for lov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torg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familial lo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ro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– physical lo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hile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love for dear frien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gap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sacrificial lo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asked with 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agap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ter, are you willing to sacrifice for me more than these other apostle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ter answers, “Yes”, but he switches the verb to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hile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Yes, you know that you are a dear frien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 really answering the exact question ask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ov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21:16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econd time Jesus asks, He again uses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gap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but leaves off “more than these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eter, are you willing to sacrifice yourself for Me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gain Peter answers, “Yes”, but again he switches verbs to 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phileo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know that You are my dear fri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ov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21:17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hird time Jesus asks, but now H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hile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eter, are you My friend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question causes Peter to be sadden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ither because He think Jesus doubts his friendshi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 because He knew by his inability to respond with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gap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he had caused Jesus to us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hile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eter is able to firmly assert that he is Jesus’ friend and that Jesus knows the truth of th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eed my sheep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fter each question and answer, Jesus tells Peter to “Feed My lambs”, “Tend My sheep”, and “Feed My sheep”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first would mean to provide food for the you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econd to guide and protect the whole floc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hird to provide food for the whole floc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as the repetition of questions and commands because Peter had denied Him 3 times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as it simply emphasizing the needs of the flock as more important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ollow Me”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21:18-19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tells Peter that earlier he had a choice in where he w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erhaps a general statement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r perhaps a reference to Peter’s choice not to stand with Jesus after His arres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when Peter was old, he would be taken where he did not wis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at is, to his death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y tradition, the very death he had avoided once, a death by crucifix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that the future is told to him, Jesus calls him one more time to “Follow Me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17:23:07Z</dcterms:created>
  <dc:creator>Glenn Hamilton</dc:creator>
  <dc:description/>
  <dc:language>en-US</dc:language>
  <cp:lastModifiedBy>Glenn Hamilton</cp:lastModifiedBy>
  <dcterms:modified xsi:type="dcterms:W3CDTF">2011-04-26T17:49:17Z</dcterms:modified>
  <cp:revision>3</cp:revision>
  <dc:subject/>
  <dc:title>Follow Me</dc:title>
</cp:coreProperties>
</file>