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fe-g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the water I shall give him will become in him a fountain of water springing up into everlasting life” Jn 4: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iving water would lead to eternal life, and become a source of water with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es what the Spirit supplies lead to lif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 22: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one who hears the Spirit through the word invites others to “Com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a 44:1-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ke water to a dry groun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pours out the blessing of God so that people can belong to Go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as Jesus telling the Samaritan woma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he knew God’s plan for salvation through th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she realized she was talking to th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she could ask for the words of life (living wat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it would not only save her, but become a source of water to oth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ter she does realize He is the Christ (Jn 4:25-26), and the words He spoke become a fount of water for others (Jn 4:3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water, the word of God, is still there for us to drink and to l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10-1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met the Samaritan woman by the wel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asked her for a dr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was amazed that He would speak to 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used the opportunity to speak of liv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4:10-1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"the gift of God"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ay it refers to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 believe it refers to the salvation He off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is the "living water" Jesus offer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ay it is a figure for salvation or etern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s apply it to the Holy Spirit, because of Jn 7:37-3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the gift of God and the living water two different things, or one and the same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ift of G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said, “If you knew the gift of God and who it is who says to you . . .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was clearly the person who had said those th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ough she didn’t know Who He was, the Chr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equally clear that the “gift of God” was not Himself (at least not in this contex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om 6:2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ift of God is eternal life in Christ Jes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Jesus was saying, ‘If you knew of eternal life through the Christ and that the Christ is the one talking to you . . .’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rinking the 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..whoever drinks of the water that I shall give him will never thirst” Jn 4:14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this water be the same as the gift of Go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says, “But the water that I shall give will become in him a fountain of water springing up into everlasting life” Jn 4:14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, the living water leads to eternal life, the gif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at do we k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ter must be drunk, is delivered by Jesus, and leads to eternal l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rinking the 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7:37-3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gain refers to the living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then ties the idea of living water with the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re we to drink the Spirit? And if so, how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 Cor 12: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all baptized into one body and have been made to drink into one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es not say we ‘drink the Spirit’, but we ‘drink into one Spirit’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ther, it begins “For by one Spirit . . 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pirit supplies what we drink; but what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v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es the Spirit supply that we drink in and which leads to eternal life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n 16:5-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Spirit supplied the truth (Jn 17:17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word of God (Eph 6:17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we read and study the Bible, we are drinking what the Spirit supplied – living wat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 5:18-2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we sing, when we pray, when we submit to one another in the fear of Go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are part of filling ourselves with the blessings that come from the Spir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rd teaches us how to be saved, the other things help us along that 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irst-quenching wa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 be sure we understand the living water correctly, consider what else Jesus said,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hoever drinks of the water that I shall give him will never thirst” Jn 4:14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nyone thirsts, let him come to Me and drink” Jn 7:3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es what the Spirit provides quench our thirs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 5:6 – we hunger and thirst for righteous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Tim 3:16-17 – the word of God quenches that thirs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4:23:56Z</dcterms:created>
  <dc:creator>Glenn E Hamilton</dc:creator>
  <dc:description/>
  <dc:language>en-US</dc:language>
  <cp:lastModifiedBy>Glenn E Hamilton</cp:lastModifiedBy>
  <dcterms:modified xsi:type="dcterms:W3CDTF">2010-02-24T18:42:54Z</dcterms:modified>
  <cp:revision>6</cp:revision>
  <dc:subject/>
  <dc:title>Living Water</dc:title>
</cp:coreProperties>
</file>