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817008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817008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817008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esus’ sig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2:19-2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troy this temple, and in three days I will raise it up.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ws thought He referred to the building they were i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had been under construction for 46 years (and wasn’t considered completely finished for almost another 30 yea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destroyed, how could it be raised in 3 day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esus’ sig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makes a play on wo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troy” can mean to knockdown or kil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aise up” can mean rebuild or awaken or rise from the dea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d He promise to rebuild the temple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said in Grk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geiro auto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“I will raise myself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uto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eaning “self” as auto- still does as a prefix in Englis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Jews misundersto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even intentionally misquoted Him (Mt 26:59-61, 27:39-40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ough they then knew what He actually said and meant (Mt 27:6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en the disciples didn’t understand until after His resurrection, then their faith increas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ess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o we make God’s house an emporium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don’t have a physical tem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the church (the people) is God’s temp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h 2:19-2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use their church as a busi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tores, coffee-shops, bake sales, yard sales, etc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 as a place of “good works”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omeless shelters, food pantries, disaster relief, medical clinics, etc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didn’t say the activity was wrong (it was needed), but it was not done in the right way or pl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tead of acting as they ought (1 Tim 3:1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ess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o we make God’s house an emporium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as individuals are also each a temple of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 Cor 3:16-17, 6:19-20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devote their lives to the pursuit of material ga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spend the time devoted to God actually wishing they could be pursuing material things (Amos 8:4-6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come to church to network, make business contacts, do fundraisers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ess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ow is our zeal for the house of Go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saw something was wrong and it consumed Him so He ac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we see something wrong and just turn a blind ey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en the proper worship of God becomes instead an entertainment time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en the church becomes a business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en the church loses sight of its purpose of saving souls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 do we zealously move to correct the problem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elief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2:23-2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ter the incident at the temple, many believ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apparently did miracles/sig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even though He said His resurrection would be the ultimate and indisputable sign, He did provide more immediate proof as we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ir faith did not mean they were sav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n 1:12, 8:30-3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Jesus did not commit Himself to the peo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willing to become what they wanted/expect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knew what they wanted (just as He knew Nathanael before they met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st as He knows the heart of all 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re you zealous for God’s hous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 do you make it a house of merchandis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ill you follow the Lord no matter what the crowd doe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 will you go along with the flow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o you believe enough in Jesus to commit yourself to obeying all that He taught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 do you only believe enough to want Him to be what you desir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knows your answers to all these questions. Do you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738360"/>
            <a:ext cx="8001000" cy="59673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suse of the Te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5791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0e500"/>
                </a:solidFill>
                <a:latin typeface="Arial"/>
              </a:rPr>
              <a:t>John 2:13-2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2:13-1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the Temple at the Passov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ws from all over came to Jerusalem for the feas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yearly temple tax had to be paid in Jewish co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assover lamb had to be unblemished, et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1015920"/>
            <a:ext cx="46483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o be convenie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eychangers set up in the outer cou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hange any currency to correct Jewish coi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lls were set up to sell Passover lamb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stalls set up to sell other sacrificial animal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r burnt offerings or peace or fellowship offering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990720"/>
            <a:ext cx="46483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esus’ re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2:1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think Jesus was simply a loving , peaceful, soft-spoken m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here Jesus made and used a wh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drive out the money-changers and the livestock sellers, as well as the livestoc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He went, He flipped over tables and poured out the money the merchants h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y put, He was ang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esus’ explan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2:1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told those selling doves to take them aw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did not set them free, he did not destroy their propert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was the wrong location for such ac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livestock merchants could still reclaim their livestock (with some inconvenienc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moneychangers could still reclaim their money (by picking it up off the groun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Father’s house was not an emporiu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t was a house of worshi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could anyone worship with all the business going 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y did they leave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e are not told directl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haps intimidated by the whip and His ze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haps they felt somewhat guilty when their abuse was pointed out to th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haps they felt Jesus could be a proph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s seems to be the opening event in His public ministr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Jesus would have been at the Temple three times each year (as He was at age 12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they perhaps knew Him and some of His teachings to some ext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disciples’ re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2:1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embered Psalm 69: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psalm of Davi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vid was passionate about His love for God and a place to worship G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David was passionate, Jesus was consumed with that zeal to a greater exten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wasn’t upset for Himsel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was upset about what they had done to the worship of G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had fulfilled the words of Davi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et another reminder that He was the Chri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Jews’ re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2:1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ably the temple authorities (Sadducees) who had allowed the activ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 driving out the merchants, Jesus was implicitly claiming the right to supersede the temple authoriti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rophet, for example, would have such rig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wanted a sign to prove He had authorit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yet denying the possibility He had the rig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OT prophets (Moses, Elijah, Elisha, Isaiah, etc) had done signs that confirmed their 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5:00:22Z</dcterms:created>
  <dc:creator>Glenn E Hamilton</dc:creator>
  <dc:description/>
  <dc:language>en-US</dc:language>
  <cp:lastModifiedBy>Glenn E Hamilton</cp:lastModifiedBy>
  <dcterms:modified xsi:type="dcterms:W3CDTF">2010-01-20T19:22:28Z</dcterms:modified>
  <cp:revision>4</cp:revision>
  <dc:subject/>
  <dc:title>Misuse of the Temple</dc:title>
</cp:coreProperties>
</file>