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piri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urther, 1Cor 12:3 begins, “For by one Spirit...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pirit supplies what we drink; but wha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does the Spirit supply that we drink in and which leads to eternal lif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6:5-1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pirit supplied the truth, the word of God (Jn 17:1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n we read and study the Bible, we are drinking what the Spirit supplied – living wa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ose who believed in Jesus would receive what the Spirit supplied – the living water, the word of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sponse of the crow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40-4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thought this proved He was the Prophet, others thought it showed He was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dn’t understand they were the sa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s, unaware of the facts surrounding Jesus’ birth, thought He did not fulfill all the prophecies of the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still wanted Him arrested, but no one was willing to try to do that in front of the crow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sponse of the offic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45-4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nes sent to arrest Jesus (Jn 7:3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saying they believed Jes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hey could not discount His teach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they were confused, because of what Jesus said and how He said 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thing more than mortal was going on, and they knew enough not to get invol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esponse of the rul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47-4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fficers have been deceiv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ugh they went and saw and hea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rowd is ignorant and thus cur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ugh the crowd understood both the prophecies and Jesus teach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rulers were the ones who chose igno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ruler has believ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realizing Nicodemus and others believ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3:2, 12:42-4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sponse of Nicodemu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50-5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n’t the Law require a hearing BEFORE passing judgmen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Law did so require: Lev 19:15-16; Exo 23:1-2; Deu 19:15,18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had condemned the crowd for being ignorant of the La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ignored Nicodemus’ comment and the Law, so condemning themselv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said: No prophet comes from Galil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tually wrong: Jonah (2Kgs 14:25) from Gath Hepher in Zebulu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others did not have their place of origin named and so may have been from Galil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used an event in progress to illustrate His mis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d come to be a source for living w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word of God supplied by the Holy Spir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we believe and drink of that water, it will, in turn, become rivers of living w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lowing out from each believer to oth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 tracing their origin back to God’s word, but spreading to fill the ear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the prophets had foreto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ave you been to the fountain of living waters ye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87656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vers of Living Wa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ohn 7:32-5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is in Jerusalem for the Feast of Tabernac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aited until the middle of the feast to appear and teach public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a result of His teaching and discussion with Jewish leaders . . . (Jn 7:30-3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believed in Jesus as the Chr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the leaders just  wanted to get rid of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re will He go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32-3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wish leaders attempt to arrest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ime not directly revealed, but seems to be the last day of the feast (see Jn 7:37, 4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tops them by telling them He would be leaving so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ould return to the One who sent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re He was going they could not 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ders ignored the first part, concentrated on the second 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He was going to leave Judea and preach in Gentile land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isees and chief priests would not go into Gentile lands lest they be uncle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east of Tabernac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991720" cy="5715000"/>
          </a:xfrm>
          <a:prstGeom prst="rect">
            <a:avLst/>
          </a:prstGeom>
          <a:solidFill>
            <a:srgbClr val="003399">
              <a:alpha val="5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ach day of the feast,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igh priest would go to the pool of Siloam and use a golden pitcher to draw wa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people would follow carrying palm branch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vites would blow on trumpe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would be poured out either on the altar or at the base of the altar while the trumpets blew and the people marched around the alt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me see in the actions a remembrance of God providing water and the fall of Jerich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me see a prayer for rai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st see a calling for the fulfillment of prophe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’ll discuss the prophecies in a mo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ivers of living wa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7:37-3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midst of this celebration, Jesus say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anyone thirsts, let him come to Me and drink. He who believe in Me, as the Scripture has said, out of his heart will flow rivers of living water.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irectly quoting any one pas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mmarizing several prophetic scrip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riptures about the Christ and the Prop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ying He is the fulfillment of those prophec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propheci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ropheci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anyone thirsts, let him come to Me and drink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a 55:1-3 – the Christ’s kingd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who believes in Me, as the Scripture has said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ut 18:15-19 – the Prophet like Mo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ut of his heart will flow rivers of living water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a 12:3 – praising God as source of sal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v3 was often read in connection with the priest drawing water at Siloa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saying He is the source of salv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a 43:18-21 – provision, sustenance, guid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a 44:3-6 – Christ as source of blessings, Redeemer, and LORD of Ho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propheci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ut of his heart will flow rivers of living water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a 58:8-11 – Repentance and obedience needed to become  a source of unfailing w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have their soul blessed and to share that blessing with oth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ch 14:6-9 – a passage read in conjunction with the pouring out of the water at the alt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[and a ceremony of lights, which will be discussed in Jn 8:12]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still expect a literal river to flow out of Jerusalem (Ezk 47:1-1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was saying He was the source of the water to flow out of Jerusal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piri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7:3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spoke concerning the Spiri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was He speaking of the Spirit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the other time Jesus spoke of living water (Jn 4:10, 13-1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do we know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must be drunk, is delivered by Jesus, and leads to eternal l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Cor 12:1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are all baptized into one body and have been made to drink into on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not say we ‘drink the Spirit’, but we ‘drink into one Spirit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3:58:17Z</dcterms:created>
  <dc:creator>Glenn E Hamilton</dc:creator>
  <dc:description/>
  <dc:language>en-US</dc:language>
  <cp:lastModifiedBy>Glenn E Hamilton</cp:lastModifiedBy>
  <dcterms:modified xsi:type="dcterms:W3CDTF">2010-06-02T18:14:21Z</dcterms:modified>
  <cp:revision>3</cp:revision>
  <dc:subject/>
  <dc:title>Rivers of Living Water</dc:title>
</cp:coreProperties>
</file>