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iaphas’ prophec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1:49-5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iaphas (that year’s high pries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gh priesthood had been reduced to a yearly office that was purchased from the Roma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ys it would be better to kill one person and thus save the re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ying out “situation ethic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known to Caiaphas, God had put a prophecy in his mou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“situation ethics”, but the need of a death for all, so that all would not have to di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plo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1:53-5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anhedrin decides to kill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goes to the village of Ephra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one is certain of this village’s loc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place it either 15 miles north or about the same distance south of Jerusa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remains there for a week or tw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over draws near, people start early to Jerusalem, need to be “clean” to particip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people debate whether He will come or no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it is a command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anhedrin has made a command that the whereabouts of Jesus be repor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performed a sign that irrefutably identified Him as the Christ, the Son of G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vidence was walking around for all to s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y believed, even those who had not believed earlier sig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some refused to believe, not because the evidence was no good, but because of the possible result of believing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said “I am the resurrection and the life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He proved it with an unmistakable 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you believ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zarus, Come Forth!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1:28-5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was told of Lazarus’ sickne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ited 2 days before going to Beth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zarus had died 4 days earl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rtha showed her faith had not diminish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ill believed in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told her Lazarus would ri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tha thought He spoke of the final resur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told her, “I am the resurrection and the life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tha believed that He was the Christ, the Son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1:28-3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wanted to speak to Mary als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n Mary hears Jesus is near, she hurriedly goes to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Jesus or Martha thought it best to try to keep word of His presence qui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Jews followed Mary thinking to comfort 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aith, love, and doub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1:32-3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y, like Martha, begins with an affirmation of her fai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mply saying Jesus came too late, not doubting His pow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ke Martha, not even considering a bodily resurr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ees how deeply sorrowful Mary and the Jews were, and He too becomes emotion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hing wrong in being sorrowful, cry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recognize His tears as a sign of His lov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s see His tears as an admission of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y couldn’t He have kept Lazarus from dying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ke Away the Ston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1:38-3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“tomb” was typically a two-chambered cave in a hill side covered by a st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first chamber would have one or more bench-like niches carved into the wall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cently deceased would be placed there until the flesh had all decay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the bones would be gathered and placed in a stone box (ossuary) and placed in the second cha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Jesus asks that the stone be removed, Martha says it will st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bably thought Jesus just wanted to see Lazarus one last ti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glory of G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11:40-4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reminds Martha that He had told her she would see the glory of God if she belie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n 11:4 – disciples had been directly tol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ohn 11:25-26 – Martha had been tol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 believed (v28) that Jesus was the source of resurrection and life (probably thinking eter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still didn’t understand what that had to do with her dead brother right no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she allows the stone to be remo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prays alou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nects what is about to happen with God’s approva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d always been true, but to prevent people from making up other explanations (as they did in John 9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zarus, come forth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1:43-4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mell of decay from the open tomb was the ultimate proof that Lazarus was d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calls him to come forth and he do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as living dead, but alive and who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mpletely reversed and removed all signs of death and dec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greater sign (Jn 5:18-2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which showed His approval by and equality with the Fa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11:45-48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belie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remarkable thing may be that not all believ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vidence was stagge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would not believe no matter wh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anhedrin (ruling council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t able to dispute that Jesus did many sig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n 2:18, 23; 3:2; 4:48; 5:36; 6:2, 14, 26, 30; 7:31; 9:16; 10:4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mit that the signs should lead everyone to believe in Jes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nly fear that it will lead to their loss of position and power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ing Romans will come and put down Jesus and his followers and blame the Sanhedri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3:58:34Z</dcterms:created>
  <dc:creator>Glenn E Hamilton</dc:creator>
  <dc:description/>
  <dc:language>en-US</dc:language>
  <cp:lastModifiedBy>Glenn E Hamilton</cp:lastModifiedBy>
  <dcterms:modified xsi:type="dcterms:W3CDTF">2010-08-18T17:05:26Z</dcterms:modified>
  <cp:revision>5</cp:revision>
  <dc:subject/>
  <dc:title>Lazarus Come Forth</dc:title>
</cp:coreProperties>
</file>