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 Fe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9-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ells Peter that if he refuses, then he would no longer have a part with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ter then overcorrec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wash my hands and head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y because they weren’t dirty, Peter had already bath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veiled reference to His betrayer is m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we’ll discuss the betrayer in our next less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asked if they knew what He had d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obvious answer would be, ‘Yes, you washed our feet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would have been the wrong answ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already told them they didn’t know the answer (Jn 13: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isciples at least knew not to ans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Unfortunately many people today practice foot-washing as a religious rite because they still don’t understand what Jesus was doing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13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Jesus position relative to the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their Teacher (a greater positio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their Lord (a much greater positio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He chose to serve them in something that needed doing (washing dirty fee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a greater, He could have ordered one of them to do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e chose to do what needed do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He tells them they should be doing the same for one an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d He expect them to each start washing feet right th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, that would be missing His po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is saying that ought to do for each other whatever needs to be do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licati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many feet need washing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maybe a house needs cleaning, or a lawn needs mowing, or clothes need mending, e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the things that are needed to help one another!  Don’t wait to be ask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understand what Jesus was telling His disciples, then you’ll be blessed if you do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essing comes for those who actually put into practice what Christ tau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e you willing to obey Him now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ving Servi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1-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begins chapter 13 jumping forward to Thursday even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information given by John about Monday-Wednesday, but the other gospels give us s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assover began at sundown Thursday and ended at sundown Friday (start of the Sabbath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ing the day, the lamb for this meal would have been slain and the meal prepa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meal consisted of lamb, unleavened bread, bitter herbs and grape ju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k 14:12-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Jesus’ mi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Jesus and His disciples come to the upper room Jesus is thinking about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ct He has less than one day before He dies on the cro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ct that He will depart to be with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would not happen for some weeks after the resurrection, but He was thinking about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ce He was gone, what would happen to His discip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ct that He loved the 12, but they were going to remain in the world for awh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the apostles’ mind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22:24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were concerned about who would be considered greatest in the king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ill imagining an earthly kingdom with Jesus as k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ed to know how the rest of the hierarchy would be arrang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has been a common argu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t 18:1-5, 20:20-28; Mk 9:33-37, 10:35-45; Lk 9:46-48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tting the sce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Jesus and His disciples came togeth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te the supper, the Passo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gives no details of the suppertime conversation – other gospels do th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postles argued (as we saw in Luke) about who would be greate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tried to teach them about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perhaps Jesus knew that it was not getting throu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had taught the same things on other occas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 Fe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2-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Jesus was eating the Passover alone with His apost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owner had left a basin, a towel, and a pitcher of water at the door to the upper ro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ly a servant would be there to wash feet as guests ente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and His apostles had entered and no one had volunteered to wash f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sat down (reclined) to eat, which left all their dirty feet sticking-out all through the supp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spoke of greatness while their unwashed feet were there for all to s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 Fe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fter the meal Jesus got u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ing about the facts that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given all authority by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ould soon be returning to His glory with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ok off His outer robe and wrapped a towel around Himself, as a servant wou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filled the basin with water, then goes around the table to wash and dry those dirty fe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ere the disciples thinking now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don’t know, until Jesus gets to P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 Fe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3:6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seems to have felt some sh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re he wanted to be great in the kingd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e knew he was not greater than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John the Baptizerhad said he was unworthy to loosen the strap of Jesus’ sandal (Jn 1:2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knew he was not worthy to be served by Jesus in this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ries to explain to Peter that he did not understand, but that He would explain shor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Peter thinks he already understands and finds it unaccep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4:30:54Z</dcterms:created>
  <dc:creator>Glenn E Hamilton</dc:creator>
  <dc:description/>
  <dc:language>en-US</dc:language>
  <cp:lastModifiedBy>Glenn E Hamilton</cp:lastModifiedBy>
  <dcterms:modified xsi:type="dcterms:W3CDTF">2010-09-24T15:29:19Z</dcterms:modified>
  <cp:revision>4</cp:revision>
  <dc:subject/>
  <dc:title>Loving Service</dc:title>
</cp:coreProperties>
</file>