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je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6:60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those who were still literalistic, eating His flesh and drinking His blood was too ha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ather than seek spiritual meaning, they stopped trying to discern the mean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Jesus explained about parables (Mt 13:10-1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teaching was given in figures of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parates the spiritually-minded from oth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xplan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6:61-63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es this offend you?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‘this’ could be (any or all) . . .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idea of eating His flesh and drinking His blo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as bread from hea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as descended from hea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as G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then if you should see the Son of Man ascend where He was before?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f you can’t accept the spiritual truths He was teaching, what will you do when He gives the ultimate proof by returning to heaven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xplan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s to the eating His flesh . . . (v6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said eating His flesh gives life (6:51,53-54,58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says the Spirit gives life, the flesh profits noth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physical body is not what He was asking them to eat, it wouldn’t help the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eating was to be understood spirituall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words that I speak to you are spirit, and they are life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 eating His flesh and drinking His blood, He meant you need to take in His words, be spiritually nourished by them, make them your lif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eternal life is what they will lead you t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je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6:64-66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of those who were following Jesus did not belie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wanted healing or feeding or just to be around someone of notoriety, etc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belief requires a willingness to obe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ose who were unwilling to believe and obey were betraying Jes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Not a reference to Judas alone, but to all who go only part way in obeying – Heb 10:26-31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one has truly believed in Jesus who is not willing to accept ALL He taught and di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any walked away right the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Question and answ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6:67-69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re the apostles willing to accept Jesus for Who He is and what He taught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es, Peter points out there is no one else to go to, “To whom shall we go?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has the words that lead to eternal lif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ctly the point Jesus had been mak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is the bread from hea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s flesh must be eaten and His blood drun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ter understood the spiritual nature of what Jesus had sai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as importantly he accepted it and believed and was willing to act on it in obedie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ome people balk at the idea of surrendering all to Jesu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refuse to accept all His teaching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refuse to obey His comman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pretend to follow, but their heart is not with Him (Jn 6:70-7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ut if you want eternal life, you must come to Him in belief and obedie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re you willing to give Him all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o Whom Shall We Go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6:41-7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 John 6, Jesus feeds the 5,000+ miraculousl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n 6:15 – Many wanted to make Him k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n 6:26-27 – Many were willing to follow in hopes of getting f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tells them they need to work for food that will give everlasting lif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n 6:28-29 – They want to know what wor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says to believe in Hi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n 6:30-31 – They want a sign, like mann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pite being miraculously fed the previous da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6:32-40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compared and contrasted Himself with the manna of Exodus 1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ared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oth sent from God (not Moses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oth provide life by taking them i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rasted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ever hunger (or thirst) again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came down from heaven (a choice He made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is the tru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read of lif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end result depends on whether you believ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ose who do not accept Him as the Son of God will remain dead in their sin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je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6:41-42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knew Mary and Josep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ouldn’t accept His claim to divinit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me argument has been made ever since, ‘He’s just a man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ow could they believe His claim to divinity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had such a high esteem for Mose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ouldn’t accept Jesus as superi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ow could they believe His claim to superiority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understood manna as ‘bread from heaven’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how could Jesus be ‘bread from heaven’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elieving the clai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6:43-4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one comes to Me, unless . . .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 one will believe Jesus’ claims unless . . 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ather . . . draws him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ome think this refers to something irresistible God will do to bring them to Chris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Jesus tells what He means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shall be taught by God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rd and learned from the Father”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that anyone has seen the Father . . .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nying the idea of direct interaction as a means of draw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God’s word is the method of drawing peopl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already explained this method (Jn 5:37-40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bread of lif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6:48-5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na did not give eternal lif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nly kept alive for a little whil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came to bring eternal lif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efore having that life, one must believe (v47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efore believing, one must hear God’s word (v45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belief includes acting on the word, one must ‘eat of this bread’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 in the words and make them part of yo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order for Jesus to be able to impart eternal life through His word, He would have to d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6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reference in John to His coming death         (Jn 3:14-17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je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6:52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many ‘bread’ is only something to eat for physical nourish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lesh’ is only me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ust as Nicodemus could only think of ‘birth’ as the coming into the world (Jn 3:4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s the Samaritan woman thought of ‘water’ as a liquid to drink (Jn 4:11-12, 15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d even the disciples thought of ‘food’ as only something to eat (Jn 4:33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can’t imagine how Jesus could give His flesh for them to eat like they ate the bre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His flesh and bloo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6:53-59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way to have the life He offers if you don’t eat of His flesh and drink of His blo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r literalists this would be repulsiv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r spiritually minded, would understand the idea of taking in the words, teachings, life of Christ (“abides in Me and I in him” v56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ght also recognize a foreshadowing of Jesus sacrificial death and new cove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ter Jesus instituted a memorial supper which should remind us of these truths (Lk 22:19-20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[Oddly Catholics believe they do the action literally, an act Jesus and Jews knew to be repulsive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3:18:15Z</dcterms:created>
  <dc:creator>Glenn E Hamilton</dc:creator>
  <dc:description/>
  <dc:language>en-US</dc:language>
  <cp:lastModifiedBy>Glenn E Hamilton</cp:lastModifiedBy>
  <dcterms:modified xsi:type="dcterms:W3CDTF">2010-05-05T16:12:30Z</dcterms:modified>
  <cp:revision>3</cp:revision>
  <dc:subject/>
  <dc:title>To Whom Shall We Go?</dc:title>
</cp:coreProperties>
</file>