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y Magdale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0:11-1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 has returned to the tomb as Peter and John le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stoops to look (her first look into the tomb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sees the 2 angels, one at the head, one at the feet (the strips and facecloth remaining in plac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n’t seem to realize they are angels, perhaps because of her tea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inking or seeing clearly as to wonder who these two are inside the tom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 says she wants to know where Jesus was la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y Magdale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0:14-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 turns away from the tomb, sees Jesus but doesn’t recogniz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ither because of her tears or a mirac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sks her why she weeps and who she is looking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asks if He had moved the bod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He calls her name, she realizes who it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tells her not to cling to Him (apparently she has grabbed hold and isn’t letting go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hadn’t yet ascended, and there is still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she needs to go let the disciples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 runs off to find the disc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y and the other wome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k 16:9-1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 is the first to see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e disciples don’t believe her 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8:9-1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ther women who had at first ran off, not telling anyone about the angelic mes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w decide (a few minutes to an hour later) to share the good new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their way, they meet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b Him by the feet and worship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tells them to go tell His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atc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8:11-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while, the watch finally reco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re they unconscious this whole time?  Had they awoken and hidden somewhere trying to decide what to do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cide to report to the Jewish lead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because reporting failure to the governor would have meant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wish leaders  decide to pay the watch to lie and say they slept and the disciples stole the bo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Jewish leaders promised to make sure they weren’t punished by the governo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Justin Martyr (ca 150 AD) says the Jews sent messengers to synagogues in every country to spread the story of the sleeping guards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atch - absurdit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they slept, how would they know who stole the body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d 60 Roman soldiers ALL fall asleep on duty knowing the penalty was death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d eleven unarmed men really sneak past 60 armed sleeping m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they manage to open the tomb without waking a single guar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they take the time to unwrap the body, arrange the linen back into order, then carry away the bod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ck to the discip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k 24:9-11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ther women must have arrived just after Mary Magdalene had told her s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e disciples don’t believe them ei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k 24:1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gets up and returns to the tom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parate from the first time, John not with hi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nts another look, finally makes the connection John had already ma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icing the placement of the stri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ondering” (KJV), Grk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aumazo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‘to admire, to marvel’ – not confusion, but “marveling” (NKJV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knows something marvelous happened, though perhaps not yet to a belief in the resurr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e irony is that the Jews wanted to believe the disciples had orchestrated a decep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by their own steps, they actually proved there was no possibility of dece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other irony is that the disciples not only were not plotting a deception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were actually unwilling to accept the fact of the resurrection at the first and second te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the proof was there in that empty tomb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saw it and belie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saw it, then went for a second look, then marve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about you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bf1"/>
                </a:solidFill>
                <a:latin typeface="Arial"/>
              </a:rPr>
              <a:t>The Resurrection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20:1-1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tthew 27:62-28:1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k 16:1-1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ke 24:1-1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76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s crucified on Fri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ering on the cross 9am-3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aining on the cross until shortly before 6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ody taken down, quickly wrapped in linen strips with 100 pounds of spices, then placed in a tom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omb was closed with a large st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iday was the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ay in the tomb since He was placed there before sun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30640" y="685800"/>
            <a:ext cx="3781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tting a watc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7:62-6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wish leaders had actually understood what Jesus meant (Jn 2:18-2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ws they knew the false witnesses were lying (Mt 26:60-6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isciples either didn’t understand or didn’t belie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Pilate to secure the tomb until the end of the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was the 2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day (Sabbath) in the tom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ce the 3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day would begin at sunset, they asked during the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tting a watc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7:65-6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grants them a “watch” (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oustodi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ctually a transliteration of a Latin wor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Roman watch (60 soldiers), Roman guards were sent to secure the tom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the Jewish leaders watching, the tomb is seal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ld have been wax or clay poured along the edge of the stone and mark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could have been a cord stretched across the stone and sealed to the rock on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verify the tomb had not been ope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tone rolled aw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28:1-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wo Mary’s came to the tomb early Sunday morning (the middle of the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a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k 16:1 adds Salome and Lk 24:10 adds Joanna, perhaps coming a bit la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an earthquake (as at Jesus’ deat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quake does NOT move the st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n announcement that Christ had r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ngel descends, rolls back the stone, and sits on the st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guards see the angel and pass out from fea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men had not yet reached the tomb so they didn’t see this (Mk 16:1-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y Magdale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20:1-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 Magdalene had seen enou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tomb was open, she thought it was obvious that someone had stolen His bod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runs to find Peter and Joh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rushing away, she misses the next happening at the tom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5658120" cy="3781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ck at the tomb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k 16:5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ther women (Mary of James, Joanna and Salome) enter the tom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w they see the angel sitting in the right side nich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k 24:4 says there were 2 angels inside, Mark apparently only mentions the one who spo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ld to tell disciples, esp. Peter, “He is rise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He will meet them in Galil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men are afraid, run, but don’t go to the disciples as instruc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ter and Joh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0:3-1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Mary Magdalene tells them, Peter and John run for the tom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men have lef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reached the tomb first, stooped, and looked in (seeing the linen strip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 goes in, sees the linen strips and the face cloth, folded apart from the strip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would have been the exact way they would have been with the body ins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ody left, the strips and facecloth simply collapsed in pl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enters and believ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 rest of the disciples, inc. Peter, did not yet believe in His resurr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3:10:10Z</dcterms:created>
  <dc:creator>Glenn Hamilton</dc:creator>
  <dc:description/>
  <dc:language>en-US</dc:language>
  <cp:lastModifiedBy>Glenn Hamilton</cp:lastModifiedBy>
  <dcterms:modified xsi:type="dcterms:W3CDTF">2011-04-13T16:33:10Z</dcterms:modified>
  <cp:revision>3</cp:revision>
  <dc:subject/>
  <dc:title>The Resurrection</dc:title>
</cp:coreProperties>
</file>