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ontinu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25-3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His works testified of Him, but they did not believe His works (sign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rks showed He was the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they wouldn’t believe His works, they wouldn’t believe His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n if He said “I am the Christ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ere not His shee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sheep know, follow, and obey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gives the eternal life which no one can take away (Rom 8:35-3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cause that is the Father’s will and “I and My Father are on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31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again (Jn 8:59) decide to ston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sks which of the many good works He has done is the reason for sto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those works showed the Father’s approv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say the stoning would be for blasphemy because “You... make Yourself God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miss the fact that if the works are from God, then God must agree with Jesus’ teach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34-3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, Jesus uses Ps 82:6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Jews knew was from God’s inerrant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uses the word “gods” for men who act as judges on God’s beha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fore it can’t be blasphemy to call oneself “the Son of God” if one has a different mission from God (not as physical judge, but as Chris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, the works Jesus has done witness to Who He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repeats essentially what He said in 10:3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is God!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39-4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wish leaders wanted to kill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gain He escapes from right in front of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old how, either miraculous or awe/f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leaves Judea, going into Perea (across the Jordan) for the next few month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came to hear Him t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mpared Jesus to John the Baptiz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d John to be a prophet, but he didn’t do sig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did signs, showing He was gre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had testified of Jesus (Jn 1:6-9, 15, 26-3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fore many believed in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20:30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is calling you to be part of His flo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want to be His sheep, then you will hear His voice (follow and obey Him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don’t listen to Him, then you are not His sheep, no matter what you say or do (Mt 7:21-2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you listen to His cal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ood Shepher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1-4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Pharisees had asked Jesus if they were blind (Jn 9:4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old them . . . (Jn 9:4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y had been blind (knew their condition and need), then they would now see (by the light of the worl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since they thought they were okay (seeing), then they were still in sin (blin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n Jesus made the following illust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llustr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1-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kinds of people want the shee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eves v. 1, 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’t use the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n’t known or followed by the shee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pherd v. 2-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s the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nd followed by the shee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“figure of speech” was not understoo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understood the physical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did not understand the signific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id it have to do with the question about being blin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7-1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 am the Door of the shee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heep who belong to God will listen to none but the true shephe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 are others calling the sheep – thiev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laimed to be the way (door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member, thieves will not use the door (v 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ep following thieves will be destroyed (hel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ep who use the door (Jesus) will be sav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life more abundantly (blessings/eternal lif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11-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 only is Jesus the “door”, He is the Good Shepherd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would lay down His life for His shee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 hireling, but the owner of the shee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knows His sheep and is known by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as other sheep (Gentiles) who will hear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ll His sheep will be one flock (the church – Eph 1-2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17-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 Good Shepherd. Jesus was intimately linked to the Fath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 was recognized as Israel’s true shepherd (Psa 23, Ezk 34:11-1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ctions, even dying, were part of the Father’s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going to willingly die to save His shee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no one could take His life against His w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Jesus claims the power to take up His l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claims are claims to de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et the Father’s command was for Him to die and take up His life again, so He would do th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UMMARY: Jesus is claiming to be . . 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 the doo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 the good shephe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and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t the same tim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eople’s reactions (John 10:19-2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(Jesus) was insane and/or has a dem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y listen to Him? Ignore the signs because you disagree with the teaching (blindnes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must be with Him, because “Can a demon  open the eyes of the blind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ign proves we must listen to the teaching (seeing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ontinu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0:22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the Feast of Dedication (Hanukkah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-3 months later (after Jn 7:1-10:21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want a clear answer from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bably the topic of conversation for month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are the Christ, tell us plainly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make us try to figure it out for ourselves (spiritual lazin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3:40:18Z</dcterms:created>
  <dc:creator>Glenn E Hamilton</dc:creator>
  <dc:description/>
  <dc:language>en-US</dc:language>
  <cp:lastModifiedBy>Glenn E Hamilton</cp:lastModifiedBy>
  <dcterms:modified xsi:type="dcterms:W3CDTF">2010-08-04T16:35:33Z</dcterms:modified>
  <cp:revision>6</cp:revision>
  <dc:subject/>
  <dc:title>The Good Shepherd</dc:title>
</cp:coreProperties>
</file>