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inal saying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9:28-29 – “I thirst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s us He suffered as any man wou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criptures thus fulfilled: Ps 22:15, 69:7-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s 69 is another psalm of distress which also ends with trust in God’s salvation (Ps 69:29-3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9:30 – “It is finished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was fulfilled that needed to take place before His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k 23:46 – “Father, into Your hands I commit My spirit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other quote from the psalms (Ps 31:1-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declaration of complete trus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urther proof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t 27:50-5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eil in the temple (separating the most holy place from the holy place) was torn in tw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veil symbolized the separation between God and man because of man’s 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tearing symbolized that forgiveness and reconciliation was now availab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arthquake, opened graves (and later resurrection of some of the righteous de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showed God’s testimony of the death of His Son, as noted by the centurion als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arthquake and tearing of the veil 40 years before the destruction of Jerusalem was noted by 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entury Jewish historian Joseph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died there upon the cro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ied for us because we had been separated from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ied to set us free from sin so we could be reconciled to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cts 2:36-4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you now obey Him and be saved from your si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bf1"/>
                </a:solidFill>
                <a:latin typeface="Arial"/>
              </a:rPr>
              <a:t>Death on the Cros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9:28-3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t 27:45-5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salm 2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response to pressure from the Jewish leaders, Pilate had Jesus crucifi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as nailed to a cross and left to die (9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ath usually took many hours (with a few reports of men living as much as 3 day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ath resulted from positional asphyxi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nability to exhale caused by the weight of the body hanging from the outstretched h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rder to exhale, the victim must push against the nail in his feet and pull his body upward against the nails in his h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words spoken would be done so while in this agonizing 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poke seven times from the cro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we have already looked a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ther, forgive them, they know not what they do” (Lk 23:3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suredly, I say to you, today you will be with Me in Paradise” (Lk 23:43) to the penitent thie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His mother, “Woman, behold your son”, and to John, “Behold your mother” (Jn 19:26-27)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rknes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t 27:45-4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econd half of the crucifixion was in dark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an eclipse (as some suppose) since Passover occurs during the full mo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ke notes simply that “the sun was darkened” (Lk 23:4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 turned down the lights while the Lord of creation di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homage and testimony to who was dying on the c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if God was acknowledging Jesus through the darkness, why did Jesus say He was forsake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y God, My God . . .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times we miss the fact Jesus was quoting an OT prophe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at the cross missed it to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is quote is the opening words of Psalm 2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quoted in Hebrew/Aramaic, as commonly used by the Je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s should have realized the quot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idn’t quote the whole psalm, since He was in agony and had only the strength for short moments of spe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quoting the opening, Jesus was saying that the psalm expressed His feeling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let’s look at the psa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salm 22 as viewed by Davi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times we forget that the prophetic psalms often had a meaning for the writer as well as making prophecy about the Chr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vid wrote this psalm expressing his feel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se feelings were prophetic of how Jesus would fe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let’s begin by understanding how David must have felt when he wrote these wor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salm 22 as viewed by Davi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1-2 – David is feeling alone and abandon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3-5 – But he knows God never abandoned His people when they trusted in Hi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6-8 – But the ridicule of others has made David feel less than hum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9-11 – Yet he knows God has been with him all his life, so he turns to God now in tru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12-18 – His enemies seem powerful, and he feels weak and helpless before th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19-24 – So he cried to God for help and HE  WAS HEARD, not abandoned or forsak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25-31 – A lesson learned about God for all gener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salm 22 as viewed by Jes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1-2 – Jesus is feeling alone and abandon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3-5 – But He knows God never abandons His people when they trust in Hi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6-8 – But the ridicule of others has made Jesus feel less than hum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9-11 – Yet He knows God has been with Him all His life, so He turns to God now in tru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12-18 – His enemies seem powerful, and He feels weak and helpless before th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19-24 – So He cries to God for help and HE  WAS HEARD, not abandoned or forsak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2:25-31 – A lesson learned about God for all gener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13:36Z</dcterms:created>
  <dc:creator>Glenn Hamilton</dc:creator>
  <dc:description/>
  <dc:language>en-US</dc:language>
  <cp:lastModifiedBy>Glenn Hamilton</cp:lastModifiedBy>
  <dcterms:modified xsi:type="dcterms:W3CDTF">2011-03-30T18:36:23Z</dcterms:modified>
  <cp:revision>4</cp:revision>
  <dc:subject/>
  <dc:title>Death on the Cross</dc:title>
</cp:coreProperties>
</file>