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16-1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’s love for the world allowed Him to send His Son (1 Jn 4:9-1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says this years before He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 death was the plan (Heb 10:5-10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ain the qualified negative “should not perish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f you believe on Jesus, you may still perish if you don’t act on the belie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’ mission was to bring the possibility of salvation (qualified, “might be saved”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dn’t have to bring condemn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already brought condemnation on himself by sin (Rom 3:2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hoice of the new birt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18-1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first choice is to believe or not belie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choose not to believe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are already condemned based on your si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choose to believe, you are not condemning yourself alre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till have to choose whether or not to act on your belief and be saved (Mk 16:16; Jn 3: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you can’t be saved if you don’t believ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reason for the choi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n 3:19-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man must decide whether or not he will be born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od will not make it for yo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decide to leave darkness, sin (rep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who won’t give up their sin won’t be born aga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one who believes, repents, and “does the truth comes to the ligh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ion (in accordance with God’s word) is necessary to come to the ligh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se actions will be clearly seen and done in G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ac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ike Nicodemus, some get this far and then say that can’t grasp what Jesus mea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ther through ignorance, confusion, or an unwillingness to accept the obvi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Jesus said, the Bible plainly teaches about the new birth – Mk 16:16, Acts 2:3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Jesus said, if you won’t believe what He said about earthly things, then you won’t believe the heavenly thing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 Jesus said, if you are unwilling to do what He says, then it is because you love darknes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void all confusion, John tells us what Jesus and His disciples did, they went and baptized people (John 3:2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o you believe in Jesu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not, you are on a road of self-condem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o, you are on the right road toward heav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t you still have to choose . . 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epent of s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openly confess H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baptized for forgiveness of s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obedient to His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r God So Loved the Worl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9-2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icodemus approached Jesus presumably to find out if He was a proph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perhaps one of the awaited for persons: the Christ, the Prophet, Elijah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sus pointed out that the kingdom was spiritual, not physi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rder to see or enter that kingdom would require a new b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birth of water and the Spir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icodemus was confused by the reference to a second bir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 still has a question after Jesus’ expla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fused, skeptical, or humbl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pending on how you view Nicodemus will change which adjective you use to describe his ques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9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he honestly confused by Jesus description of the new birth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he skeptical that such a new birth is possibl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he accepted the need for a new birth and is asking how to go about being born agai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haps Jesus’ answer will tell us what Nicodemus me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esus’ answ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10-1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an you be a teacher, “rabbi”, and not know these thing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“know” here is Grk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ginosk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“definite knowledg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 implies that the new birth He has just spoken of was in the OT, for example . .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er 31:31-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zk 36:26-2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y does Jesus switch to the plural “we”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ink it was a form of empha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ink it was the majestic “w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ink it was the Godly “w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think it was in reference to those who have been born ag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e speak what we know, “perceive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testify what we have seen, “discerned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you (plural) do not receive (“get hold of, accept, understand”) our testimo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 just Nicodemus, but Jewish lead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icodemus was either confused or skeptic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arthly and heavenly thing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f you cannot believe the basic, earthly, things of the kingd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w b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aptism and the operation of the Spirit (Titus 3:5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w would you believe the heavenly, spiritual thing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answer to Nicodemus’ question (v9) is one of those spiritual t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will God be able to give people a new birth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will sin be remove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en though Jesus doubts Nicodemus’ willingness or ability to believe, He answ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 can testify of heavenly thing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13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man has gone up to heaven and returned to testify of those t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nly one who could speak of those heavenly things is the Son of Man who came down to earth from heave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:14, 6:6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yet “who is in heaven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a parenthetical inserted by Joh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a reference by Jesus to His being both man and God at the same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w to the answer of how this new birth can b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lifting up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ohn 3:14-1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bronze serpent was lifted up (Num 21:1-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ving people from the consequence of their s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d belief and obedient 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on of Man (who came down from and is in heaven) must be lifted 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eference to His crucifix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eference to His exalt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ever believes in Him “should not” peris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ould not” a “qualified negative”, not absolu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edient action is requir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n 1:1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4:04:09Z</dcterms:created>
  <dc:creator>Glenn E Hamilton</dc:creator>
  <dc:description/>
  <dc:language>en-US</dc:language>
  <cp:lastModifiedBy>Glenn E Hamilton</cp:lastModifiedBy>
  <dcterms:modified xsi:type="dcterms:W3CDTF">2010-02-03T16:28:19Z</dcterms:modified>
  <cp:revision>3</cp:revision>
  <dc:subject/>
  <dc:title>For God So Loved the World</dc:title>
</cp:coreProperties>
</file>