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tthew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14:30-3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ts assail P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an he actually walk on water? What about the wind and wav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a complete failure (he began to sin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: We will all have setbacks as we try to gr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let them destroy your fai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enough faith to trust in Jesus to sav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Jesus does save h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e need Him, He is there (1 Pet 5:6-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tthew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t 14:32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ult is the same as in Ma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thew makes it cle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worshiped Him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ood Jesus was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de a verbal confession of their 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ohn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6-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the miracles recorded in Mark clea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as dark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the disciples began row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Jesus seeing them struggling was certainly miracul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tance they had made was 3-4 mi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Jesus seeing them at that distance in complete darkness was certainly miraculo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ohn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s another mirac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mediately they were at the other sho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veled the remaining 3-4 m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Some miss this miracle or say it couldn’t have happe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willing to accept He had power to walk on water and calm the sea, but not to move the ship immediately across several m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at even more hard-hearted than the disciples who didn’t understand the significance of the feeding of the 5,000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y lessons to be learned when Jesus walked on the s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reatest lesson is to learn the deity of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ciples were hard-hearted, but even they got that message in the four mirac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ing them across distance, darkness, wea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lking on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ming the wi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orting them the remainder of their jour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learn how much He cares for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ing to them, allowing Peter to grow in faith, saving Peter, calming the wind, not making them row the rest of the wa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lking on the S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6-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and disciples had crossed the Sea of Galile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tude followed on foot to be hea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aught and healed 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He fed the multitude so they wouldn’t go hung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ople then admitted that Jesus was the Prophet like M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decided to force Him to be their k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withdrew into the mountains alone, preventing their purposed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lking on the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incident where Jesus walks on the water is given in more detail in Mt 14:22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in lesser detail in Mk 6:45-5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least detail in Jn 6:16-2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estingly, even though recorded thrice, each author brings out different less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e’ll look at all three accounts and see how they build upon on an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’ll also try to point out the various lessons to be lear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6:45-4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Jesus goes to the mount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told His disciples to take the boat and return to the other s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told the multitude to lea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ent to the mountain to pray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Don’t forget – take time to pray (Mt 7:7-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to get caught up in the mo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tations are everyw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imes we should get away and spend time alone with God (Mt 6: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6:47-4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finished praying, He returned to the shore at a spot away from the multit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saw the disciples straining to r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iddle of the se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high winds at s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ven (anytime after sunset, before daw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Sometimes the miraculous gets overlook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6:49-5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lks out to the boat arriving about the fourth wat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watch was 3am to 6a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us know He had seen them in full dark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us know how long Jesus spent pray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us know how strong the wind w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only went halfway after about 8 ho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trong, violent wind was blo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iples were just 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t scared at a weird, unprecedented si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they couldn’t see it was Jesus when He was near (Jesus saw them from the shor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rk 6:51-5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He gets in the boat, the windstorm immediately stops (another mirac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ow the disciples are greatly amaz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lking on water was a clearly unnatural ev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o was the feeding of the 5,00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: Even the disciples could be hard-he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understood Jesus was Christ and Proph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had not really fully grasped His de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atch out for “hard hearts” in oursel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, some refuse to accept God could create the world in 6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tthew’s accou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gins with the same basic facts as Ma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14:22-2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n adds an extra incid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14:28-2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has faith and wants to show his fa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haps challenging himse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rts well (he actually walks on wate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: Faith needs challenges to gr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hould look for opportunities to do m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39:32Z</dcterms:created>
  <dc:creator>Glenn E Hamilton</dc:creator>
  <dc:description/>
  <dc:language>en-US</dc:language>
  <cp:lastModifiedBy>Glenn E Hamilton</cp:lastModifiedBy>
  <dcterms:modified xsi:type="dcterms:W3CDTF">2010-04-21T16:07:55Z</dcterms:modified>
  <cp:revision>3</cp:revision>
  <dc:subject/>
  <dc:title>Two Kinds of Food</dc:title>
</cp:coreProperties>
</file>