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-380880" y="3885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e500"/>
                </a:solidFill>
                <a:latin typeface="Arial"/>
              </a:rPr>
              <a:t>Receiving the Ligh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0e500"/>
                </a:solidFill>
                <a:latin typeface="Arial"/>
              </a:rPr>
              <a:t>John 1:9-13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already introduced Jesus as (Jn 1:1-4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W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Lif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Ligh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at shines in the darkness (Jn 1:5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o whom John bore witness (Jn 1:6-8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Light of the World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esus came as a Light for all the worl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n 1:4, 1:9, 8:12, 12:46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But the world, in general, did not . . 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prehend” (v4) Grk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katalamban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“to take eagerly, to seize, to possess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now” (v10) Grk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ginosk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“to know, to perceive, to understand, to acquire knowledge of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ven though He was the world’s Creator and Sustainer (Jn 1:3,10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nd His own people did not . . 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ceive” (v11) Grk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aralamban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“to take near, to join oneself with, to associate with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bf1"/>
                </a:solidFill>
                <a:latin typeface="Arial"/>
              </a:rPr>
              <a:t>Why wasn’t the Light known, received, etc?</a:t>
            </a:r>
            <a:endParaRPr b="0" lang="en-US" sz="3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amiliarity breeds contempt (Lk 4:16-30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ven true of his own brothers (Jn 7:3-5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ome loved darkness more than light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n 3:19-20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ome were afraid of what others thou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n 7:12-13, 9:18-23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ome were misinformed of the fact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n 7:40-43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ome were hardened by their traditions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n 9:13-16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ome loved the praise of men (Jn 12:42-43)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y did some accept the Light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benefits of the L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power to become children of God (Jn 1:12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o have the right / power to become means receiving the Light is a prerequisite to becoming a child of Go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miss the point and think believing in Jesus makes them a child of Go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privilege to be born of God (Jn 1:13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ot of blood – not based on ancestry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ot of man’s will – not based on man’s desir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ut on God’s will (Titus 3:5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truly marvelous offer of love (1 Jn 3:1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How to become a child of God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Begins with acquiring the “power to become”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n 1:12 – requires believing in His na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is name” meaning in Jesus and His authority (Jn 2:23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aith only not enough to BE a child of Go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n 8:30-32 – must abide in His words, obe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n 12:42-43 – must be willing to confess Hi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t 10:32-33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How to become a child of God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aith must be acted up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al 3:26-27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e become children of God through faith, yes - but how?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y putting Christ on when we are baptized into Christ!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 becomes the author of our salvation when we obey Him (Heb 5:9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uch as obeying His command to be baptized (Mk 16:16)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reby being born again of both water and the Spirit (Jn 3:5; Titus 3:5)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s they did on Pentecost (Acts 2:36-42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hrist is the Light of the worl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can lead you out of the darkness of si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t you must . . 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elieve in Jesus’ name (identity / authority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ot love the darkness (repent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onfess Him before me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e baptized into Chris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e obedient to (abide in) His word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re you ready to receive the Light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6T14:51:37Z</dcterms:created>
  <dc:creator>Glenn E Hamilton</dc:creator>
  <dc:description/>
  <dc:language>en-US</dc:language>
  <cp:lastModifiedBy>Glenn E Hamilton</cp:lastModifiedBy>
  <dcterms:modified xsi:type="dcterms:W3CDTF">2009-12-16T17:02:56Z</dcterms:modified>
  <cp:revision>3</cp:revision>
  <dc:subject/>
  <dc:title>Receiving the Light</dc:title>
</cp:coreProperties>
</file>