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aring fru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urpose of discipleship is to “go and bear fruit” (v1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Jesus would again tell them (Mt 28:18-2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appointed for social reform, social just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appointed for welfare, edu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appointed for entertai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fruit needs to rema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just get a bunch of people w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tion, strengthe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seeking those goals, you can ask with His authority and receive (Jn 14:13-1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said (many times over) that being His disciple requires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th and obed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for Him and one an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ing others to follow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and growing in faith and knowled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’re willing to be His disciple, then why not start now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Vine and the Branch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5:1-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began this evening thinking about His love for the disciples (Jn 13: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emonstrated that love through humble service (Jn 13:2-1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ommanded that His disciples love one another as He loved them (Jn 13:34-3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then explained about His departur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Jn 14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xplained that He would retu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e would not leave them al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e, the Father, and the Spirit would dwell with them if they were faithful and obed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rue Vi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5:1-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llustration is quite clear and easy to under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sus is the true v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ies there are other vines which are not tr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about the difference in a mo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Father is the vinedresser (the word often indicated ownership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s dead, unfruitful bran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want this to mean simply 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we’ll see in v6 that is not me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es back productive branches to make them stronger and more produ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ame who wish the previous to mean prune, make this word “cleanse” and imagine picking off bugs or di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not the meaning as Jesus will make cl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ranch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want the branches to be denomin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by all denominations are “in Chris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erse 5 makes clear the disciples are the branch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he who abides in Me” makes clear each branch is an individual Christ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a group, sect, church, or denomin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is a branch related to the vin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ranch draws from the vine in order to bear fru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ranch not connected to the vine is usel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bid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5:4-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s relationship Jesus calls “abiding i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 branch ceases to abide (dwell, live) in the vine, it stops bearing fruit (because it di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be a true Christian, we must abide in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letting His words abide in us (v7, Jn 8:3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loving and obeying Him (Jn 14:23-2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walking as He walked (1Jn 2:3-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obedience to the truth (1Jn 2:24-2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Keeping His commandments (Jn 15:9-1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cessary in order to abide in His lo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onsequences of fail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5: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ill lose your place “in Chris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longer be a Christi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Christian is not just one who claims to foll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Christian is not just one who believes i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Christian must abide (obey, love, keep, walk) in Jesus (including ALL His words, command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you see why some want to redefine “takes away in v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Jesus makes clear, He is speaking of branches being cut-off, dying, and being bur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onsequences of abid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5:5, 7-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llowship with the Father and Son (1Jn 1:1-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ing God glory by bearing fruit (Mt 7:2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preading the word, winning more souls (Lk 8:6-15, esp. vv8, 1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ing the fruit of the Spirit (Gal 5:22-2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hey would abide in His love and jo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heir joy would be made full (Jn 17:1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quirements of branch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ready said they had to abide in Him, love Him, and keep His command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5:12-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s and ends with “love one another” as He loved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He told them shortly before (Jn 13:34-3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w expands with the idea of His dying for 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makes us His frien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 conditioned on our obedi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31:33Z</dcterms:created>
  <dc:creator>Glenn E Hamilton</dc:creator>
  <dc:description/>
  <dc:language>en-US</dc:language>
  <cp:lastModifiedBy>Glenn E Hamilton</cp:lastModifiedBy>
  <dcterms:modified xsi:type="dcterms:W3CDTF">2010-12-01T16:22:26Z</dcterms:modified>
  <cp:revision>3</cp:revision>
  <dc:subject/>
  <dc:title>Bearing Fruit</dc:title>
</cp:coreProperties>
</file>