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s wa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call Jesus just said “I am the way” (Jn 14: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added to that by saying if you know Jesus, then you know and have seen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Christ we have the nature, character, and way of God all reveal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ilip wanted to “see the Father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swered (John 14:9-1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“see” and “know” the Father when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believe in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believe in His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believe in His 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explained more about this concept of knowing and seeing God through Jesus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nowing and Seeing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 Jn 2:3-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“know” God is to keep His command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kept the commandments, so He knew the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we know Jesus, then we know the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 Jn 4:7-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“know God” is to love like God lo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e see that kind of love, then we see a reflection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Christ, we see God, because He showed that love perfectly and kept the command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Jn 4:17 - 5: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know Go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’ve never obeyed Him, the answer is “N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beyed the gospel, but are no longer keeping His commands, the answer is “N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need to know God, then look to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ing us God’s nature, character and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ave You Seen Go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7-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told His apostles that He will not be with them much long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ter asked for more information, and Jesus revealed He was going to His Fa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ould prepare a place for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He would return for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mas asked for more information on the way and the destin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He is the way and no one comes to the Father except through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part of His explanation, Jesus says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nowing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7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ing Jesus is the same as knowing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knowing God is the same as seeing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ilip reacts literally and asks to see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did Jesus mean about knowing God and seeing Go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ideas had an OT ba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eing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x 33:12-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knew Moses “by nam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es wanted to know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ow me Your way” (v1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ow me Your glory” (v1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said He would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ke His goodness pass before him (v1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claim the name of the LORD (v1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allow Moses to see His face (v2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ow Moses to see the “back” of His glo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n know God by knowing His way, His goodness, and His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eing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oes knowing His name mea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 34:5-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Knowing His charac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rciful, gracious, longsuffering, abounding in goodness and truth, forgiving and ju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oes knowing His goodness mea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ing His na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odness” means everything that is go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sinlessness, His holiness, et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only thing left is knowing His wa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God put all these aspects togeth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eing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understand His character and nature (and your own), then you know why no man could see God and liv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stice and holiness would demand that our sins be punish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a 6:1-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aiah knew he was a sinner and unworthy to see God even in a vi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a 6:6-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God is also forgi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may be difficult for us to comprehend how God can be all those th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God showed us His way (more about this in a momen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nowing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OT also speaks about “knowing God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days of Hosea, God charged the people with ‘not knowing God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s 4:1-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has a charge (a legal case) against Isra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arge is against the 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nation, as a whole, had entered a covenant with Go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arge is “no truth, no mercy, and no knowledge of God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were things required in the covenant and all were reflective of God’s nature and charact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me specifics of the char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wearing, lying, killing, stealing, adulte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nowing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s 4:4-1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need to argue about the charge or blame oth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had a share in the guil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they had committed the sins or did nothing to stop ot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ople had rejected knowledge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didn’t want to know what God said was right or wrong (knowing God is knowing and obeying His commandments – His way for ma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fore God didn’t want them to be His pri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 19:5-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ill get exactly what they deserv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3:36:23Z</dcterms:created>
  <dc:creator>Glenn E Hamilton</dc:creator>
  <dc:description/>
  <dc:language>en-US</dc:language>
  <cp:lastModifiedBy>Glenn E Hamilton</cp:lastModifiedBy>
  <dcterms:modified xsi:type="dcterms:W3CDTF">2010-11-03T16:08:20Z</dcterms:modified>
  <cp:revision>3</cp:revision>
  <dc:subject/>
  <dc:title>Have You Seen God?</dc:title>
</cp:coreProperties>
</file>