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betrayer identifie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13:23-26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er decides the best way to find out who the betrayer would be, is to as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 has John (the disciple whom Jesus loved) as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ther because of his physical closeness or because of their friendship or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hn is reclining on an eating couch in front of Jes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 simply leans back to ask w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says it is the one to whom He hands a piece of dipped bre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then hands it to Juda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arently Judas had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ition behind Jes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lace of tr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10080" y="4392720"/>
            <a:ext cx="358164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betrayer identifie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magine you were Jud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a day or 2 before you decided to betray Jesus for 30 pieces of sil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arrive and find yourself seated in a place of honor and tru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You think, I am not reveal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washes your fe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You think, He doesn’t know what I will d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n He comments, ‘Not all are clean’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He know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quote from Ps 41 and the direct stat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 knows, but does He know it’s me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the statement to John and the piece of bre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 knows it’s me! Now what should I do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betrayer depar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3:27-3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das still had free-w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could have felt ashamed and repent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instead he resolved to contin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an entered his hea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by force or possession, but invi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 choice was made firmly to betr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recognizes the choice and tells him to get on with it – He knows it is time for His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das departs, but the others don’t realize the reason, even if they heard, don’t connect it to the betrayal Jesus had just spoke abou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knew who would be His betrayer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is yet another reason to believe in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also demonstrated His love, mercy, and patie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ing Judas many opportunities to rep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Judas declines them all for the sake of a bit of mon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we betraying Jesu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haps by not giving Him our all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haps allowing other activities to come between us and Hi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Betray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3:18-3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t is the Passover which began Thursday even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nd His 12 apostles are gathered in an upper room where they ate the meal toge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postles were still bickering about who would be greatest in the kingd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washed their feet to show that they should all be servants, not l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uring that washing He mentioned that one of them was not clean, in spite of the washing (Jn 13:10-1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picks up that train of thought after explaining His actions in washing fe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did Jesus know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70-7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knew one of the 12 would betray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71 tells us Judas was the one who did, but Jesus had not identified which one at this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ow did He know one would betray Him if He didn’t know which on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s 41:9; Ps 55:12-14; Zech 11:12-1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Didn’t the prophecy say Judas would betray Him?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, only that one of His close companions wou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could have been any of the 12, one of them was certain to make the wrong cho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did Judas make his choic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few days earlier, Judas had complained about Mary using costly perfume on Jesus’ fe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2:4-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udas had already made the choice to betray Jesus in a ‘smaller matter’ – embezzling fund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anted more funds to be able to pilfer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he realizes with Jesus talk of His death that there weren’t going to be more fu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was he going to get money when his current source dried u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3:2 tells us that the choice to betray Jesus had been made before the supp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did Judas make his choic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tt 26:1-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days before the Passover, Tuesday evening to Wednesd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Sanhedrin was gathered to decide capture Jesus and kill Him (Mt 26:3-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was again in Bethany having supper (either still Tuesday evening or Wednesday evening) (Matt 26:6-1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woman pours costly oil on Jesus (His head this tim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another protest from some disci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opportunity for funds to steal from is gone and time is running out (as Jesus talks of His buri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did Judas make his choic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tt 26:14-1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das went to Jesus’ oppon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had been seeking information to use in capturing Jesus for weeks (since Lazarus was raised – John 11:53, 57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asked for a price for betraying Jesus to th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the price agreed on was the one prophesi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probably knew they wanted to kill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had been plainly telling His disciples He would be crucified and buried on the Passover (Mt 26:2,12), so it is doubtful that Judas missed the conn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ther he seems to think, if He is going to die, how can I make one last profit from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’ announc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13:18-2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urning to His mention of one who was not clean, Jesus quotes Ps 41: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prophecy of His betraya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nted the apostles to know the betrayal did not come as a surprise to Hi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seems to be moving away from the topic of betrayal in v20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eaks of them being received (not betrayed) and how those receptive people would have received Jesus and the Fath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ut that then makes Him troubled (sad) about the one who no longer received Hi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this time He says plainly that one of the 12 would betray Hi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s it I, Lor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3:2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postles were confu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t 26:2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were saddened to know one of them would betray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asked, “Is it I?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most thought the betrayal would be a mistake or a moment of weakn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3:06:05Z</dcterms:created>
  <dc:creator>Glenn E Hamilton</dc:creator>
  <dc:description/>
  <dc:language>en-US</dc:language>
  <cp:lastModifiedBy>Glenn E Hamilton</cp:lastModifiedBy>
  <dcterms:modified xsi:type="dcterms:W3CDTF">2010-09-24T16:17:29Z</dcterms:modified>
  <cp:revision>3</cp:revision>
  <dc:subject/>
  <dc:title>The Betrayer</dc:title>
</cp:coreProperties>
</file>