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uffering for a greater purpo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sider Sarah, Abraham’s wif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 suffered being barren for 90 yea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to punish h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so that God’s purpose could be shown clearly through h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sider Lazarus (who we’ll discuss in Jn 1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sickened and di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1:4 – but there was a greater purpose serv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sider the blind m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9:3-5 – his blindness allowed Jesus to demonstrate the works of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removal of sin and the consequen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ll we know why we suffer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t alway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it’s a direct or indirect consequence of someone’s sin, then perhaps we’ll kn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it’s a direct result of our serving God, then perhaps we’ll kn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Job was never told why He suffer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we have sinned, then let the suffering lead us to repent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we know we are not suffering for our own sins, let the suffering make us more dependent on Christ and long for heav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about those who feel there can’t be a God who allows suffering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fail to see that much suffering is the result of man’s sinful actions (war, famine, crime,  drugs, some diseases, persecution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fact all suffering began as a result of si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fail to see that some good results from suffering (repentance, God’s purposes, reliance on God, refining, longing for heave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od created a perfect place, man sinned, suffering is a consequence of that si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God has used that consequence as a means of bring us back to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uffer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9:1-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ny who refuse to believe in God claim to do so because of “the problem of suffering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hought goes something like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there is an all-powerful G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if He is a loving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 He could not allow so much suffering in the worl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fore, God is either not loving, not all-powerful, or does not exi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thers, who believe, feel there must be a justifiable reason for all suffer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after personal or national tragedy, they ask, “Why?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o Sinne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9:1-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isciples see a man born bli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assume the blindness must be a punishme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ir only question is “Who sinned?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a baby be guilty of sin before birth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someone be made to suffer as a result of a different person’s si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points out their conclusions are wrong and their assumption is wro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does the Bible teach about the reasons for suffering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unishment for own si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lthough Jesus points out the disciples were wrong in this cas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does not say suffering is never punish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 Chr 26:16-2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ng Uzziah was given leprosy for his s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thers were similarly punished: Miriam (leprosy), Jeroboam (withered arm), Jonah (swallowed), etc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od doesn’t always directly act to punish si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He has arranged the world so that some sins are more likely to produce suffering (Romans 1:26-27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sequence of another’s si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e know that the actions of one often have consequences for oth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sins directly cause others to suffer (assault, rape, theft, etc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s have suffering as an indirect resul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en one engages in sinful behavior and becomes infected with AIDS or other STD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may pass those diseases to others who did not engage in those s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ough birth, blood, coughs, et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m 5: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uffering for righteousnes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b’s friends thought punishment was the only answer to suffering (Job 4: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we know Job actually suffered because he was righteous (Job 1:8-12, 2:3-7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atan used suffering as a tool to tempt Job to si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tan still seeks to lead the righteous from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 Pet 5:6-10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suffering will make us turn from God, then Satan will use that aven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 Pet 4:12-16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ist suffered while righteo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st make sure your suffering isn’t for unrighteousn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uffering to improv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haps a “sub-category” to suffering for righteousnes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trials are there to make us bet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ether or not Satan instigates the tria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as 1:2-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Cor 12:7-1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de Paul more dependent on Chri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sa 43:1-2; Zech 13: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ough the fire, like metal being refin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be true even when one fails, if he learns and makes changes (1 Cor 3:12-1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uffering in the worl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ccl 9:11-1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ffering sometimes happens by random chance (accidents, natural disasters, diseas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ffering and death are a result of the fall of man (Gen 3:16-1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l suffering helps us eagerly wait for heaven (Rom 8:18-22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ffering teaches us the need to repent now, whether or not we are the ones directly affected (Lk 13:1-6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11:43:36Z</dcterms:created>
  <dc:creator>Glenn E Hamilton</dc:creator>
  <dc:description/>
  <dc:language>en-US</dc:language>
  <cp:lastModifiedBy>Glenn E Hamilton</cp:lastModifiedBy>
  <dcterms:modified xsi:type="dcterms:W3CDTF">2010-07-14T14:13:39Z</dcterms:modified>
  <cp:revision>4</cp:revision>
  <dc:subject/>
  <dc:title>Suffering</dc:title>
</cp:coreProperties>
</file>