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should God grant His request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You have given Him authority over all flesh” (v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lan of salvation was the Father’s pla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arry out the plan, He gave the Son autho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thority to give eternal life (v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“eternal life” that begins when we “know” the Father and His Son (1Jn 5:11-1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discussed in a previous lesson “knowing God” is to believe and obey Him (1Jn 2:3-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thority to forgive sins (Mt 9: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thority to execute judgment (Jn 5:26-2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authority in heaven and on earth (Mt 28:18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returning Jesus to His former glory, He verifies Christ’s autho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should God grant His request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 have glorified You on the earth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” (v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id He glorify His Fath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 doing His will and finishing the work He had been given (Jn 4:34, 6:38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have finished the work which You have given Me to do” (v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that He had yet died, but that all the steps had been completed to bring about a certain conclu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He said once the final decision by Judas was made (Jn 13:30-3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returning Jesus to His former glory, He verified that the plan of salvation was His plan and that Jesus had completed that 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 Jesus’ prayer answere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r, asked another way, was Jesus glorifi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s, by His death as a redeeming sacrif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v 5:9-1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s, by His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om 1:4; 1 Pet 1:2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s, by His place at the right hand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Pet 3:22; Eph 1:20-2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s, through more glory to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 Thes 1:10; Phil 2:9-1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prayed that . . 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 would glorify Hi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eturn Him to the glory He had before coming to ea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Father did those things for the 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e too give glory to Him and the Father when we believe and obey Hi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ready to glorify Him by submitting to the plan of salvatio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Father, Glorify Your Son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Lord’s Pray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7:1-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s spent the evening with His disciples (John 13-1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have discussed love, service, obedience, His coming departure, their eternal home, the coming and work of the Spirit, et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w Jesus closes their gathering in the upper room with a pray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 the prayer of Mt 6 which was merely an example of how to pr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17 actually records the Lord’s pray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reading we can understand His concerns at this pivotal mo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rayer can be divided into three part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tition for Himsel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tition for His apost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tition for all future belie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e’ll look at each petition in separate lesson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ing with His petition for Himsel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e’ll try to answer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Jesus asking for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y should God grant His request?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as Jesus' prayer answered?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ason for the pray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ther, the hour has com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began His ministry saying His hour had not yet come (Jn 2: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told the Samaritan woman at the well that the hour was coming that would change the place and manner of acceptable worship (Jn 4:21-2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told the Jews that the hour was coming (and had already begun) when people who heard Him could have eternal life (Jn 5:24-2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se who wanted to kill Jesus the preceding year were unable to, for the hour had not yet come (Jn 7:30, 8:2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ew days earlier, Jesus said the hour had come (Jn 12:23-2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 central to His thoughts for this entire evening (Jn 13: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ason for the pray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ather, the hour has come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imatic point in human hi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rything prior had pointed to this ti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man would finally be saved from s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rything after this point would be because of this ti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salvation became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id Jesus ask for at this climactic hou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Jesus asking fo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etition express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her...glorify Your Son” (v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her, glorify Me together with Yourself, with the glory which I had with You before the world was” (v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did He mea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Jesus asking fo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etition exami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orify – “to exalt to a glorious rank or condition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hay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asks to be restored to His state of glory He had before the world existed (v5)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 request implies two great truths concerning Jes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s pre-existence, as foretold in prophecy(Mic 5: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s Deity, for God shares His glory with no one (Isa 42:8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ing this prayer, we can appreciate why John began his gospel with these words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beginning was the Word, and the Word was with God, and the Word was God. He was in the beginning with God.” (Jn 1:1-2)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is asking the Father to reinstate Him to the glorious position He had before coming to earth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should God grant His request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t Your Son also may glorify You” (v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a selfish request, and a good reminder for us in our own pray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 we ask for blessings that we might better serve God and do His will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y prayers go unanswered because they are for selfish reasons (Jms 4:3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ur requests should always be with the Father's will in mind (1Jn 5:1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how would glorifying Christ also glorify the Father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4:13:29Z</dcterms:created>
  <dc:creator>Glenn Hamilton</dc:creator>
  <dc:description/>
  <dc:language>en-US</dc:language>
  <cp:lastModifiedBy>Glenn Hamilton</cp:lastModifiedBy>
  <dcterms:modified xsi:type="dcterms:W3CDTF">2010-12-29T16:32:40Z</dcterms:modified>
  <cp:revision>3</cp:revision>
  <dc:subject/>
  <dc:title>Father, Glorify Your Son</dc:title>
</cp:coreProperties>
</file>