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irst Trial by Pila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doesn’t stop the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reason He was born and came into the world is to bear witness to the trut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ing the “and I am come” references His incarnation, as opposed to a simple “born to the world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everyone of the truth hears His vo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truth is Jesus speaking about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7:17 – the truth of God’s wor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4:6 – the truth of the plan of salvation and Jesus’ part in that pla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8:31-32 – the truth that makes free from sin and can be found in Jesus word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irst Trial by Pila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how would Pilate view Jesus’ answer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18:38a “What is truth?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very common question in Greek and Roman philosophical discuss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fact many Greek and Roman philosophers either proposed the need for “philosopher-kings” or even advanced themselves as such ‘kings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ilate is not looking for an answ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y didn’t think one exis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st chiming in that he thought he understo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, he thought, was just some philosopher who considered Himself king over His follow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irst verdi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8:38b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find no fault in Him at all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‘not guilty on all counts’ verdic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me didn’t execute philosophers who called themselves k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treason against Caes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kingdom that would be fighting against Roman intere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ilate didn’t wait for an answer, nor did he expect an answer, to his ques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today would agree with Pil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do not think there is TRU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think truth is relative and ever-chan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think truth is impossible to fi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said truth . . 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s and is available to all in God’s w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free you from s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bring you to the Father through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e you of the truth, one who listens to Jesus’ voic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Roman Trial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8:28-3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uke 23:1-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Jewish leaders wanted Jesus de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paid to have Him betrayed into their han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conducted an unlawful interrog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conducted an unlawful, secret, night tr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sought and listened to false testimo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accused Jesus of blasphemy without any proof that His words were against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conducted a sham trial in the mor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unlawfully condemned Him to de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since Judea was under Roman occupation, they did not have the power to execute Him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ila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province of Judea was under Roman governors (since the death of Archelaus, son of King Herod the Great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oman capital was in Caesarea, but the governor usually came to Jerusalem during major fea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nce this was the Passover, the governor, Pontius Pilate, was in reside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late served as governor AD 26-3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nown from Roman history as well as coinage with his name inscrib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irst Trial by Pila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18:28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man officials conducted business from 6am – 3p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bably held their mock trial at the morning sacrifice (6am), then immediately to Pilat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etorium “judgment hall”, place of official busin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tion uncertain, many think a room in the Fortress Antonia, next to the temp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ws wouldn’t enter because it was a Gentile place, felt it would make them uncle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radition made it equal to touching a dead bod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Passover (eating the lamb) was the night before, but the Passover feast (unleavened bread) continued for a week (Num 28:16-17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irst Trial by Pila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8:29-3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e, used to Jewish qualms, goes out to find out the nature of the charges, then back in to hold his tr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ks for a charge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s a reply of ‘he’s an evil-doer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erm means ‘one who does bad things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ense implies ‘he is one who is always doing bad things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e then points out that they had authority to judge and punish people who do bad th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ws are forced to admit they want the death penalty (and need him to put Jesus to death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irst Trial by Pila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uke 23:2 – The charg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Jews had to present charges to get Pilate to try Je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rg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erverting the n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harge amounting to ‘disturbing the peace’, perhaps due to the crowds of follow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n’t a capital offense- ignored by Pi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rbidding paying taxes to Caesa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mplete lie (Lk 20:25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ther Pilate knows it’s a lie, or unconcerned with talk that didn’t stop the tax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aying He is Christ, a K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re is a possible capital crime, treason, setting up a kingdom without Roman autho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irst Trial by Pila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8:33-3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e asks Jesus if he is a 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’ answer is not an eva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ather He is asking whose question it i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Roman is asking “Are you a king?”, then he means a political rul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Jew is asking, then he means the Messiah which is not a political ruler, despite what some Jews thou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e responds, “Am I a Jew?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means ‘king’ the way any Roman woul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admits the charges are from the Jew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now that he knows the Jews are using the word ‘king’ differently, he wants an explan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irst Trial by Pila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8:36-3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answers Pilate’s ques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s kingdom is not a political or earthly o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it were, then there would have already been fighting to keep Jesus from being arres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e goes back to the original ques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re you a king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ce Jesus does not claim an earthly kingdom, how can he claim to be a kin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begins by affirming that He is a 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bviously if one has a kingdom, then he is a k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4:57:32Z</dcterms:created>
  <dc:creator>Glenn Hamilton</dc:creator>
  <dc:description/>
  <dc:language>en-US</dc:language>
  <cp:lastModifiedBy>Glenn Hamilton</cp:lastModifiedBy>
  <dcterms:modified xsi:type="dcterms:W3CDTF">2011-02-16T19:40:33Z</dcterms:modified>
  <cp:revision>4</cp:revision>
  <dc:subject/>
  <dc:title>The Roman Trials</dc:title>
</cp:coreProperties>
</file>