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 place in God’s hom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hat will it be like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 21:1-5, 10-23, 22:1-5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 place of jo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 place of beaut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 place of ligh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 place of worship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 place for eternit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sus said, “… I go to prepare a place for you. And if I go and prepare a place for you, I will come again and receive you to Myself; that where I am, there you may be also.” (Jn 14:2-3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sus promised He has prepared rooms for all of us in His Father’s hous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place like none that earth can off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e has promised to return and bring us to live in that hous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 you want to live there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n why not obey Him now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Going to Prepare a Plac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3:36 – 14:3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t is the Passover which began Thursday even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and His 12 apostles are gathered in an upper room where they ate the meal togeth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washed their feet to show that they should all be servants, not lo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announced He would be betrayed and identified Judas as the betrayer and he lef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gave them a command to love one another as He had loved th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hile discussing the command, Jesus mentioned He was going where they could not come (John 13:33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ter’s respons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n 13:36-38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ter wants to know where Jesus was go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ike the Jews, he didn’t understan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tells him not to worry, he couldn’t come now, but he could come lat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Of course, that hasn’t answered the question of “Where are You going?”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 Peter asks again, adding . . 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 wants to go with Jesus no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 would go anywhere, even to de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knows Peter has answered the question as to ‘where’ He was go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o He answers the ‘why’ Peter couldn’t go now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ter wasn’t ready – he would deny rather than d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reparing a plac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4:1-4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knows they still don’t understand and that they’re worried about being left behin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 tells them not to worr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y believe God and His promis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y can equally believe Jesus, since He is Go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is going to answer their question and make promis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ose promises will be fulfilled as all God’s promises are tru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reparing a plac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s to ‘where’ He is going . . 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is going to prepare a place for th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lace” means a “spot” (was used of a scabbard for a sword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His Father’s “house” (residence/abod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e commonly refer to it as heaven (but the Greek word for heaven could refer to several things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word is the common one for a dwelling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 place in God’s hom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e many “mansions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e think “grand abodes”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meaning for mansion developed in France in the 1500’s, but didn’t make it to England until sometime in the 1600’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y then the word was already in the 1611 KJV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lators have been loathe to change the word for fear people would think they were being ‘cheated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ut the word means “place to stay”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hing about large, stately hom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fact, it would be contrary to the metaphor of being in God’s hou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sus is basically saying He is going to get their rooms ready in His Father’s hom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 place in God’s hom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s there really a better offer possible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 is willing to open His home up for yo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f our permanent home is to be with God, then here is only tempora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b 11:8-10, 13-16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But will there really be enough room for all the saved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says He promises there is, or He would have told them (Jn 14:2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t still, thinking of the OT saved as well as Christians, that’s a lot of people . . 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 place in God’s hom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ow much room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 21:16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,500 miles x 1,500 mile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pprox. land area of Roman Empir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 1,500 mi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literal, but plenty of roo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3:10:39Z</dcterms:created>
  <dc:creator>Glenn E Hamilton</dc:creator>
  <dc:description/>
  <dc:language>en-US</dc:language>
  <cp:lastModifiedBy>Glenn E Hamilton</cp:lastModifiedBy>
  <dcterms:modified xsi:type="dcterms:W3CDTF">2010-10-20T15:25:54Z</dcterms:modified>
  <cp:revision>6</cp:revision>
  <dc:subject/>
  <dc:title>Going to Prepare a Place</dc:title>
</cp:coreProperties>
</file>