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oma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20:24-2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this we call him “doubting Thoma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 others call him a pessimis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he simply didn’t want to be decei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ty had not prepared Thomas for the resurrection, though Jesus’ teaching should hav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 said what he thoug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the disciples were skeptical (doubter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hadn’t believed Mary, the women, the evidence of the empty tomb (except John), the testimony of Peter (except to some extent), the 2 disciples on the road, or their own eyes at fir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omas didn’t have as much to go on (may have missed Peter’s report, certainly missed the 2 disciples from Emmaus and seeing Jesus personally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oma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nk about it from Thomas’ point-of-vie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haps you can hear the pain in his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nail and the spear thrust had impacted Thomas’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had been willing to die (Jn 11:16), but like the others he had fled at the arre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had been there for the crucifixion all the way until the en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ust’ve sounded like a cruel joke when they said, “Jesus is aliv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oma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52280" y="6094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omas wanted proof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knew he could trust his own sen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anting proof is not a bad thing (1 Thes 5:2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d proof in the form of the evidence in the tomb, eye-witness accou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20:26-2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o told Jesus what Thomas said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gives Thomas the proof he asked f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ame proof He offered to the other dis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didn’t scold Thom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did say he should have believed the evidence of the eye-witnesses (as others would d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oma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ook again at John 20: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don’t know if Thomas touched Jesus before making his conf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we can be sure they all touched Him during those days (1 Jn 1:1-4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soon as it was clear that Jesus was really alive, he didn’t hesi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oma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ider also the place of this event in the scheme of the book of Joh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eries of witnesses to the deity of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’s miracl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’s teaching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witness of the Father directly and through the prophe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elief of various individuals (including the discipl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aising of Lazaru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ubt and more belief with crucifixion and resurre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Thomas’ statement of faith and commitment is the clima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llowed by John’s summary (Jn 20:30-3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so you could have faith like Thom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presented to the apostles unmistakable proof of His resurrec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touched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talked with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saw Him e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n He gave them their mission, to witness those things to the world and to explain the signific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entance and forgiveness of s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believe?  Won’t you act on that belief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at You May Believ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0:18-3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4:13-4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arose from the dead on Sunday morn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resurrection was announced by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earthquak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 angel telling Mary, Salome, and Joann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evidence within the empty tomb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believed, the women fled, Mary wep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Jesus appea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rst to Mary Magdale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n the other wom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ther disciples still did not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Peter rechecked the evidence and marvel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ter that d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4:13-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disciples (not of the apostles) headed toward Emma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bout 7 miles from Jerusal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headed home or to visit friends or relatives (still the Feast of Unleavened Bread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sing all the events of the last few d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not recognize Jesus because “their eyes were restrained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ems to indicate some miraculous power keeping them from recognizing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k 16:12 calls it “another form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ter that d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4:17-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disciple is named, Cleop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s everyone is aware of the events surrounding the crucifix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aps the ev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mits their belief in Jesus as a Prophet and as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knowledges the women saw angels who said Jesus is r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e of the women reported the angels until after they had seen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iples must have been including seeing Jesus as just an angelic vi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that Peter and John had seen the evidence of the empty tom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ter that d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4:25-3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ells them they should have believed with all that evidence plus the words of the proph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explained how they should have realized from the books of Moses and the prophe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ly before evening they arrive in Emma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t Jesus to stay with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He broke the bread, they realize who He 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ir eyes opened, the earlier restraint lif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disappears, clearly miraculo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st as clearly He had been there, since He broke the bre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unday even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k 24:32-3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2 realize they should have known Jesus earlier by His teach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cide to head back to Jerusalem immediately (7 miles), arriving well into even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d out from apostles that now Simon Peter has also seen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o mentioned in 1Cor 15:5, but no detai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ems to have the apostles leaning toward belie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k 16: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ill the general attitude of disciples seems to be disbelie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unday even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k 24:36-4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uddenly appears, miraculous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id not walk in the door (Jn 20:19-2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’re hiding from the Jews with the doors sh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sciples are frightened thinking He is a gh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offers to let them touch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told the still didn’t believe for j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 good to be tru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y marveled, some progress over fe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eats some fish and honeycom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as a means of convincing them He is not a gho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unday even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k 24:44-4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with them He teaches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rst, as He taught the 2 on the road, explaining the prophecies about His death and resurre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including a miraculous opening of their understan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, explaining their mission, to go preach repentance and remission of si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20:21-2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pirit not conveyed, but rather promis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ymbolic 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e authority as promised in Mt 16:19; 18:18 – their mission was to explain (under Spirit’s guidance) how to be forgiven (Acts 2: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3:17:20Z</dcterms:created>
  <dc:creator>Glenn Hamilton</dc:creator>
  <dc:description/>
  <dc:language>en-US</dc:language>
  <cp:lastModifiedBy>Glenn Hamilton</cp:lastModifiedBy>
  <dcterms:modified xsi:type="dcterms:W3CDTF">2011-04-20T15:44:29Z</dcterms:modified>
  <cp:revision>3</cp:revision>
  <dc:subject/>
  <dc:title>That You May Believe</dc:title>
</cp:coreProperties>
</file>