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arification, plea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2:3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n’t the Christ supposed to reign forev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 Sam 7:12-13; Ps 110:4; Dan 2:44, 7:13-1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ask who the Son of Man 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ows same event as earlier because title Son of Man was used in v23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ople understood the glorification of the Son as the same as the “lifted up”, and knew the “lifted up” meant dea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either they misunderstood “Son of Man” being Christ (since Christ would live forev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they misunderstood “lifted up” being de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Ligh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2:35-3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does not directly answer their ques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they said was true, except they didn’t realize where the Son of Man would live and reig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ough Dan 7 explains it would be in hea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ead He tells them they need to make use of the light while available (Jn 8:1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on the light would be taken awa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if they did not follow (believe and obey) the light, they’d be lost in darkness (sin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if they believed . . . “they may become sons of light” – more required than faith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He left, they would have to decide now whether or not they believ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ophecy fulfille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2:37-4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pite all that Jesus had done, including raising Lazarus, they didn’t belie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Isaiah had prophesied nearly 750 years before, that they would not believ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a 53:1 in the context of the Christ’s de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a 6:10 where Isaiah was sent to be a proph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eople weren’t going to believe Isaia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750 yrs later they still didn’t believe h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ote: v41 says the passage Isa 6:10 was when Isaiah saw Jesus’ glory, and Isa 6 says he saw Jehovah’s glory – imp. when dealing with JWs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elief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2:42-4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some refused to believe despite the evidence, many did belie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ven among the leaders of the Jew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were afraid to say so because it might cost them their positions and place in socie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elief without obedience is dead (Jms 2:17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told those who believed that they would have to abide in His words (Jn 8:31-3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elief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12:44-50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ief in Christ = belief in the Fath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sbelief of the Christ = disbelief of the Fath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eing Christ = seeing the Fath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esus lived exactly the way the Father wante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you believe in Him, you “should not abide in darkness”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possible to stay in sin while believing (Jms 2:19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came to save, not to jud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is mission (on first coming) was to sav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don’t believe, He isn’t going to judge right now, but on the last day he will be judg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the word of Jesus will judge, beca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of Christ = Word of the Fath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sbelief and /or disobedience is self-judgm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elief + Obedience = eternal life, salv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knew His death was drawing nea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knew some would never belie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they wouldn’t believe the signs and the voice from heaven, nothing would change the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se would be eternally lost by their own choi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knew some believed but were afraid to act on their belie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less they acted, these were in danger of being lost by their own choi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knew others would believe and obey, these would be saved by the sacrifice of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ich group are you i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Departing Ligh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2:27-5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pparently still the Sunday before the crucifix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have supposed vv20-57 are a summary of events during Monday-Wednes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John has been exact on his dates(Jn 12:1,12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need to assume the day has chang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reason people want to spread the events out is because chapter 13 begins on Thursda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John has never been trying to tell every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books were (and are) available for those days (Matthew, Mark, Luk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Jesus is still in the temple, healing and teaching the people who have come to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has just given His answer to Philip and Andrew about the Greeks who wished to see Jesus (Jn 12:20-2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 of that answer pointed to His coming glorification and the necessity of His death and burial before the resurr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that on His mind . .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s death draws clos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2:2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nking about His coming death was troub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knew the kind of death He would di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knew the betrayals that would come fir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knew the pain and humiliation that would be cast on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asks a very human question, “What shall I say? ‘Father, save Me from this hour’?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ould He be looking for a way out of the dea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ould He be asking the Father to save Him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e: He is not asking the Father to save Him, but asking if He should be asking th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s death draws clos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 immediately answers His own ques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for this purpose I came to this hour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t would make no sense to ask to be saved from the very purpose for which He cam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knew the plan before He came to ear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knew the pain and suffering and de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knew this was the only way to save m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willingly chose to co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aying that no matter how troubling thought of His death might be, He wasn’t going to stop no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ather, Glorify Your Nam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ather than give in to the human desire to escape suffering, pain and deat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2:2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is willing to call upon His Father, not to save Him, but to make the Father’s name glorio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is willing to do His part in that caus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ather immediately replies alou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has glorified His name (in past times, including Jesus’ work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will glorify it (through Christ’s death, resurrection, and resulting salvation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elief and Disbelief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2:2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ember, Jesus is in the tem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od speaks, and some think it was just their imagination hearing a voi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 choose to disbelieve, it does not matter how much evidence is avail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thers believed (to an extent), must be an ang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ather communicating with Jesus, y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not the Father directly communic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not?  That would make Jesus too much like Moses (Num 12:1-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if Jesus is like Moses then He is the one prophesied (Deut 18:17-1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udgment of the cros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2:30-3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ason God spoke aloud was to instill belie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in Jesus, but the disciples and peop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 ability to say He did not speak with and for the Fath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is the time of judg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final judgment, but the decision point for the worl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ll there be salva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rux of the war between God and Sat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Jesus is lifted up (crucified), then Satan los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if” shows Jesus still has free wi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3:24:45Z</dcterms:created>
  <dc:creator>Glenn E Hamilton</dc:creator>
  <dc:description/>
  <dc:language>en-US</dc:language>
  <cp:lastModifiedBy>Glenn E Hamilton</cp:lastModifiedBy>
  <dcterms:modified xsi:type="dcterms:W3CDTF">2010-09-15T18:08:27Z</dcterms:modified>
  <cp:revision>3</cp:revision>
  <dc:subject/>
  <dc:title>Slide 1</dc:title>
</cp:coreProperties>
</file>