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0" y="8380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3"/>
          <p:cNvSpPr>
            <a:spLocks noGrp="1"/>
          </p:cNvSpPr>
          <p:nvPr>
            <p:ph/>
          </p:nvPr>
        </p:nvSpPr>
        <p:spPr>
          <a:xfrm>
            <a:off x="0" y="39826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4"/>
          <p:cNvSpPr>
            <a:spLocks noGrp="1"/>
          </p:cNvSpPr>
          <p:nvPr>
            <p:ph/>
          </p:nvPr>
        </p:nvSpPr>
        <p:spPr>
          <a:xfrm>
            <a:off x="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5"/>
          <p:cNvSpPr>
            <a:spLocks noGrp="1"/>
          </p:cNvSpPr>
          <p:nvPr>
            <p:ph/>
          </p:nvPr>
        </p:nvSpPr>
        <p:spPr>
          <a:xfrm>
            <a:off x="468576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2" name="PlaceHolder 2"/>
          <p:cNvSpPr>
            <a:spLocks noGrp="1"/>
          </p:cNvSpPr>
          <p:nvPr>
            <p:ph/>
          </p:nvPr>
        </p:nvSpPr>
        <p:spPr>
          <a:xfrm>
            <a:off x="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3"/>
          <p:cNvSpPr>
            <a:spLocks noGrp="1"/>
          </p:cNvSpPr>
          <p:nvPr>
            <p:ph/>
          </p:nvPr>
        </p:nvSpPr>
        <p:spPr>
          <a:xfrm>
            <a:off x="309168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4"/>
          <p:cNvSpPr>
            <a:spLocks noGrp="1"/>
          </p:cNvSpPr>
          <p:nvPr>
            <p:ph/>
          </p:nvPr>
        </p:nvSpPr>
        <p:spPr>
          <a:xfrm>
            <a:off x="618336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5"/>
          <p:cNvSpPr>
            <a:spLocks noGrp="1"/>
          </p:cNvSpPr>
          <p:nvPr>
            <p:ph/>
          </p:nvPr>
        </p:nvSpPr>
        <p:spPr>
          <a:xfrm>
            <a:off x="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6"/>
          <p:cNvSpPr>
            <a:spLocks noGrp="1"/>
          </p:cNvSpPr>
          <p:nvPr>
            <p:ph/>
          </p:nvPr>
        </p:nvSpPr>
        <p:spPr>
          <a:xfrm>
            <a:off x="309168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7"/>
          <p:cNvSpPr>
            <a:spLocks noGrp="1"/>
          </p:cNvSpPr>
          <p:nvPr>
            <p:ph/>
          </p:nvPr>
        </p:nvSpPr>
        <p:spPr>
          <a:xfrm>
            <a:off x="618336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subTitle"/>
          </p:nvPr>
        </p:nvSpPr>
        <p:spPr>
          <a:xfrm>
            <a:off x="0" y="838080"/>
            <a:ext cx="9144000" cy="6019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p:nvPr>
        </p:nvSpPr>
        <p:spPr>
          <a:xfrm>
            <a:off x="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3"/>
          <p:cNvSpPr>
            <a:spLocks noGrp="1"/>
          </p:cNvSpPr>
          <p:nvPr>
            <p:ph/>
          </p:nvPr>
        </p:nvSpPr>
        <p:spPr>
          <a:xfrm>
            <a:off x="468576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3"/>
          <p:cNvSpPr>
            <a:spLocks noGrp="1"/>
          </p:cNvSpPr>
          <p:nvPr>
            <p:ph/>
          </p:nvPr>
        </p:nvSpPr>
        <p:spPr>
          <a:xfrm>
            <a:off x="468576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 name="PlaceHolder 4"/>
          <p:cNvSpPr>
            <a:spLocks noGrp="1"/>
          </p:cNvSpPr>
          <p:nvPr>
            <p:ph/>
          </p:nvPr>
        </p:nvSpPr>
        <p:spPr>
          <a:xfrm>
            <a:off x="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 name="PlaceHolder 4"/>
          <p:cNvSpPr>
            <a:spLocks noGrp="1"/>
          </p:cNvSpPr>
          <p:nvPr>
            <p:ph/>
          </p:nvPr>
        </p:nvSpPr>
        <p:spPr>
          <a:xfrm>
            <a:off x="468576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4"/>
          <p:cNvSpPr>
            <a:spLocks noGrp="1"/>
          </p:cNvSpPr>
          <p:nvPr>
            <p:ph/>
          </p:nvPr>
        </p:nvSpPr>
        <p:spPr>
          <a:xfrm>
            <a:off x="0" y="39826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ow they came to believe</a:t>
            </a:r>
            <a:endParaRPr b="0" lang="en-US" sz="4400" spc="-1" strike="noStrike">
              <a:solidFill>
                <a:srgbClr val="e3ebf1"/>
              </a:solidFill>
              <a:latin typeface="Arial"/>
            </a:endParaRPr>
          </a:p>
        </p:txBody>
      </p:sp>
      <p:sp>
        <p:nvSpPr>
          <p:cNvPr id="5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 are told that Jesus’ brothers did not remain unbelievers (Acts 1:12-14)</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d it happen that they came to believe?</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 Cor 15:3-8</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resurrection!</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mes (presumably His brother, since the 12 were previously mentioned) saw Him alive</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thers may have seen Him on other occasions (1 Cor 15:6) </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miracles might be faked</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ing from the dead cannot!</a:t>
            </a:r>
            <a:endParaRPr b="1" lang="en-US" sz="24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resurrection shattered blinders of  familiarity, envy, misunderstanding and preconceptions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lesson for today</a:t>
            </a:r>
            <a:endParaRPr b="0" lang="en-US" sz="4400" spc="-1" strike="noStrike">
              <a:solidFill>
                <a:srgbClr val="e3ebf1"/>
              </a:solidFill>
              <a:latin typeface="Arial"/>
            </a:endParaRPr>
          </a:p>
        </p:txBody>
      </p:sp>
      <p:sp>
        <p:nvSpPr>
          <p:cNvPr id="5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t is understandable that some find the gospel story incredible</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an born of a virgi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an who was the Son of Go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an who . . .</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alked on water?</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lmed the seas? </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ed thousands with five loaves and two fish? </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ealed the sick and lame, gave sight to the blind, raised the dead? </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as Himself raised from the dead?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lesson for today</a:t>
            </a:r>
            <a:endParaRPr b="0" lang="en-US" sz="4400" spc="-1" strike="noStrike">
              <a:solidFill>
                <a:srgbClr val="e3ebf1"/>
              </a:solidFill>
              <a:latin typeface="Arial"/>
            </a:endParaRPr>
          </a:p>
        </p:txBody>
      </p:sp>
      <p:sp>
        <p:nvSpPr>
          <p:cNvPr id="6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Yet there is a good reason to believe the incredible story! </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t is, the conversion of those like Jesus' brothers</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o at first did not believe (for whatever reason) </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o were persuaded by the evidence (Acts 10:39-41)</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o never recanted their testimony, despite hardship and persecution </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mes and Jude wrote their respective epistles</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mes was an elder in the Jerusalem church</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mes, according to Josephus, was stoned to death around AD 6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lesson for today</a:t>
            </a:r>
            <a:endParaRPr b="0" lang="en-US" sz="4400" spc="-1" strike="noStrike">
              <a:solidFill>
                <a:srgbClr val="e3ebf1"/>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explains the transformation of Jesus' brothers? </a:t>
            </a:r>
            <a:endParaRPr b="1"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thing that transformed the disciples of Jesus! </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disciples were totally disappointed and on the verge of desperate flight because of the very real reason of the crucifixion, it took another very real reason in order to transform them from a band of disheartened and dejected Jews into the most self-confident missionary society in world history." </a:t>
            </a:r>
            <a:r>
              <a:rPr b="1" lang="en-US" sz="2000" spc="-1" strike="noStrike">
                <a:solidFill>
                  <a:srgbClr val="ffffff"/>
                </a:solidFill>
                <a:latin typeface="Arial"/>
              </a:rPr>
              <a:t>[Pinchas Lapide, former Chairman of the Applied Linguistics Department at Israel's Bar-Iland University (TIME, May 7, 1979)] </a:t>
            </a:r>
            <a:endParaRPr b="1" lang="en-US" sz="20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s Orthodox Jewish scholar concluded that a bodily resurrection could possibly have been that reason!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lusion</a:t>
            </a:r>
            <a:endParaRPr b="0" lang="en-US" sz="4400" spc="-1" strike="noStrike">
              <a:solidFill>
                <a:srgbClr val="e3ebf1"/>
              </a:solidFill>
              <a:latin typeface="Arial"/>
            </a:endParaRPr>
          </a:p>
        </p:txBody>
      </p:sp>
      <p:sp>
        <p:nvSpPr>
          <p:cNvPr id="6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disbelief of Jesus’ brother should serve as a warning:</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let familiarity, envy, misunderstanding, or preconceptions keep you from learning the truth</a:t>
            </a:r>
            <a:endParaRPr b="1" lang="en-US" sz="28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later belief of Jesus’ brothers should serve as an encouragement:</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ir conversion shows there was overwhelming evidence for the resurrection</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mer unbelievers would not be willing to give their lives for Jesus unless proven that He lived and is Who He claimed to be</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others of Jesus</a:t>
            </a:r>
            <a:endParaRPr b="0" lang="en-US" sz="4400" spc="-1" strike="noStrike">
              <a:solidFill>
                <a:srgbClr val="e3ebf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7:1-5</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4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7:1-5</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the feeding of the 5,000+</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sus remains in Galilee</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because He was afraid of the Jews, but because He knew what they wanted to do</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n’t yet time for Him to die, so no need to force the issue yet</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eventually it was time for a mandatory feast, the Feast of Tabernacles (in the fall)</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s brothers told Jesus to go up openly to Jerusalem</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t they did not believe</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y didn’t they believe?</a:t>
            </a:r>
            <a:endParaRPr b="0" lang="en-US" sz="4400" spc="-1" strike="noStrike">
              <a:solidFill>
                <a:srgbClr val="e3ebf1"/>
              </a:solidFill>
              <a:latin typeface="Arial"/>
            </a:endParaRPr>
          </a:p>
        </p:txBody>
      </p:sp>
      <p:sp>
        <p:nvSpPr>
          <p:cNvPr id="4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re not told directly</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we’re given some possibilities</a:t>
            </a:r>
            <a:endParaRPr b="1" lang="en-US" sz="28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haps they were blinded by familiarity</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often said, "Familiarity breeds contemp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ndered many who knew Jesus from childhood (Mt 13:54-58)</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oblem common among prophets (Mt 13:57)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y didn’t they believe?</a:t>
            </a:r>
            <a:endParaRPr b="0" lang="en-US" sz="4400" spc="-1" strike="noStrike">
              <a:solidFill>
                <a:srgbClr val="e3ebf1"/>
              </a:solidFill>
              <a:latin typeface="Arial"/>
            </a:endParaRPr>
          </a:p>
        </p:txBody>
      </p:sp>
      <p:sp>
        <p:nvSpPr>
          <p:cNvPr id="4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haps they were blinded by envy </a:t>
            </a:r>
            <a:endParaRPr b="1" lang="en-US" sz="3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crowds had been following Jesus everywhere </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king it difficult for His family to speak to Him at times (Mt 12:46-47)</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alousy can be a powerful hindrance to seeing things clearly </a:t>
            </a:r>
            <a:endParaRPr b="1" lang="en-US" sz="28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haps they misunderstood (Mk 3:20-27)</a:t>
            </a:r>
            <a:endParaRPr b="1" lang="en-US" sz="3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His own people” thought He was craz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wish scribes thought He was demon-possessed</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easy to reject someone without trying to understand what they are say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y didn’t they believe?</a:t>
            </a:r>
            <a:endParaRPr b="0" lang="en-US" sz="4400" spc="-1" strike="noStrike">
              <a:solidFill>
                <a:srgbClr val="e3ebf1"/>
              </a:solidFill>
              <a:latin typeface="Arial"/>
            </a:endParaRPr>
          </a:p>
        </p:txBody>
      </p:sp>
      <p:sp>
        <p:nvSpPr>
          <p:cNvPr id="4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haps they were blinded by preconceptions</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Jews had wrong ideas about the kingdom (Mk 10:35-37; Jn 6:15)</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s brothers had their ideas as to what He should do (Jn 7:2-4)</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 openly, defiantly to Jerusalem</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 miracles to convince people to follow you and keep them following you</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easy to reject someone if they do not live up to your expectations </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warning for today</a:t>
            </a:r>
            <a:endParaRPr b="0" lang="en-US" sz="4400" spc="-1" strike="noStrike">
              <a:solidFill>
                <a:srgbClr val="e3ebf1"/>
              </a:solidFill>
              <a:latin typeface="Arial"/>
            </a:endParaRPr>
          </a:p>
        </p:txBody>
      </p:sp>
      <p:sp>
        <p:nvSpPr>
          <p:cNvPr id="5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 we let familiarity blind us to the truth? </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we reject what a close friend or relative may tell us?</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specially since they have their own faults of which we are well aware? </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th can be communicated by imperfect messengers (1Cor 2:1-5)</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warning for today</a:t>
            </a:r>
            <a:endParaRPr b="0" lang="en-US" sz="4400" spc="-1" strike="noStrike">
              <a:solidFill>
                <a:srgbClr val="e3ebf1"/>
              </a:solidFill>
              <a:latin typeface="Arial"/>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 we let envy get in the way of truth?</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we jealous that we might be wrong and others may be righ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we think that by admitting others are right, it somehow makes them better?</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th (and salvation!) is too precious to let envy or jealousy keep us from it </a:t>
            </a:r>
            <a:endParaRPr b="1" lang="en-US" sz="28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 we find it easier to just reject what someone says rather than seek the truth?</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we just call them a ‘cult’ and shut our ear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 warning for today</a:t>
            </a:r>
            <a:endParaRPr b="0" lang="en-US" sz="4400" spc="-1" strike="noStrike">
              <a:solidFill>
                <a:srgbClr val="e3ebf1"/>
              </a:solidFill>
              <a:latin typeface="Arial"/>
            </a:endParaRPr>
          </a:p>
        </p:txBody>
      </p:sp>
      <p:sp>
        <p:nvSpPr>
          <p:cNvPr id="5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 we let preconceived notions obstruct a clear evaluation of the truth? </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using to reexamine our cherished belief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jecting a view or teaching simply because we have never heard it befor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th requires a willingness to hear, and has nothing to fear from investigation (Acts 17:11)</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6:14:33Z</dcterms:created>
  <dc:creator>Glenn E Hamilton</dc:creator>
  <dc:description/>
  <dc:language>en-US</dc:language>
  <cp:lastModifiedBy>Glenn E Hamilton</cp:lastModifiedBy>
  <dcterms:modified xsi:type="dcterms:W3CDTF">2010-05-05T18:48:31Z</dcterms:modified>
  <cp:revision>3</cp:revision>
  <dc:subject/>
  <dc:title>The Brothers of Jesus</dc:title>
</cp:coreProperties>
</file>