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aves and fish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8-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rew finds one boy with 5 loaves and two fi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aves” were about the size of a biscu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rley was the cheapest gr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shes” in the diminutive, tiny fis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still can’t imagine what use they could b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mirac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0-1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kept breaking the loaves and fishes and handing the pieces to the disci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isciples distributed to the peop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eople were allowed to eat until they were filled, no limi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,000 men, not including women and child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all were filled, 12 baskets of lefto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e basket for each apost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[Perhaps a side-point: don’t be wasteful]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as truly the Proph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rophet foretold by Mo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had spent the day healing their s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not until He feeds them do they decide He is the Proph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es had fed the people (actually God) in the wilder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had just done something similar in scope and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th was a good reaction, that was the purpose of the miracles, confirming His earlier tea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verre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ing the reaction of faith, they decide He should be king, even if He doesn’t want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better king than one who can supply unlimited foo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people still think of God as a “one-stop-shop” for their own des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 God to provide what they w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leaves before they can try to fulfill their id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it comes to our faith in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imes we undervalue God’s po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hing He can do, so why ask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imes we mistake our desires for God’s w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want it, so God must want me to have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may even twist God’s word to justify our bel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essiah was to be King, so they would just grab Him and force Him to be 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God’s will is not forced by man’s w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 in Jesus as the Christ, the Son of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ultitudes understood there was no other expla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have faith in God as the one who can do above all we can ask or think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you willing to submit your own desires to the will of Go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the answer to each question is, YES, then why not obey Him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eeding the 5,0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 there were many reasons people should believe He was the Son of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the Baptizer’s testimo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iracles He performe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ther’s voice from heav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phecies He had fulfil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 these things pointed to one obvious 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many were unwilling to accept that conclu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once again Jesus leaves Jerusalem to return to Galile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eeding of the 5,00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nly incident (after His baptism and prior to the final week of His life) recorded in all gospel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t 14:13-21; Mk 6:30-44; Lk 9:10-1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 should make us take notice of this ev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hing very significant was taking pl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knew of the other gospels, but still recorded this inci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’ll start with the miracle (as recorded in all the gospels) and lessons lear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ter lessons we’ll look at the follow-up teachings John records to find additional less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1-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d disciples crossed over the Sea of Galil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k and Luke tell us this happened after John the Baptizer was behead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thew points out Jesus had just heard the n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ke tells us Herod Antipas was seeking to see Je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takes His disciples and goes to a deserted place near Bethsaida (Lk 9: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46080"/>
            <a:ext cx="4191120" cy="262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thsaid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wo villages of this na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near Capernau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lled Bethsaida of Galile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me of Peter, Andrew, and Phili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ther, called Bethsaida Julius, a mile NE of the Sea of Galil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shoreline was deserted, perhaps due to seasonal flood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sus went up onto the nearby mountain (where the picture was taken from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Bethsaida was in the land of Iturea, ruled by Herod Philip outside the reach of Herod Antipa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goes here privately, but a multitude follo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ew of the various healings, raisings, et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took time to teach and heal (Lk 9:1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multitu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4-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 the Passover, another year has pas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s the multitude coming (Mk 6:30-34) before they even land the bo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to walk around the Sea of Galile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ut a 5 mile walk from Caperna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mmediately thinks about the fact they will be hung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ks Philip a “test question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 towns closer than Capernaum (a town of 1,500), where can we find enough to feed the crow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6: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ilip’s thought: Jesus said “buy brea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200 denarii wouldn’t be enoug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be they had that am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be it was just an impossible amount (almost a year’s wag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n’t see any possibil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ay spent teaching and healing, then disciples suggest dispersing the crowd (Mk 6:35-3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iples have been thinking about what Jesus said to Phil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ill have no answer other than Philip’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other options were ther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we are as limited in our thinking as the apost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ostles had just returned from the limited commi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had healed the sick, cast out dem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ad power to raise the dead and cleanse lep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t 9: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y couldn’t imagine how God could help with THIS prob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a problem of illness, disease, or de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tunately, God’s power isn’t limited by man’s ability to think how it can be done (Eph 3:20-2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58:42Z</dcterms:created>
  <dc:creator>Glenn E Hamilton</dc:creator>
  <dc:description/>
  <dc:language>en-US</dc:language>
  <cp:lastModifiedBy>Glenn E Hamilton</cp:lastModifiedBy>
  <dcterms:modified xsi:type="dcterms:W3CDTF">2010-04-14T17:27:29Z</dcterms:modified>
  <cp:revision>3</cp:revision>
  <dc:subject/>
  <dc:title>Feeding the 5,000</dc:title>
</cp:coreProperties>
</file>