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actions to the heal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9:26-2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Jews (now assured the blind man had been blind) want to reexamine the meth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ything to avoid confronting the miracl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lind men ask if this reexamination is so that they can become disci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s it a true attempt to believe in Jesus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r is it just grasping at straws to find something to argue abou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actions to the heal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9:28-3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Jews claim to be Moses’ disciples because they know God spoke to Mo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ide- or tradition-blind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lind man points out they knew God listened to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od didn’t answer sinners (Isa 59:1-2; Zech 7:13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 one born blind had ever before been heal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even Moses or the prophets had done th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had done what no other had; therefore, God had acted through Jes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 Jesus was obviously a man of Go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actions to the heal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9:3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Jews are out of argu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nwilling still to confront the miracl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nable to refute his logic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 they attack the ma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were “born in sin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kely based on the fact he was born blind (as the disciples had though 9: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fore, you can’t tell us what we should belie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inded by their prejud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t him out (either physically or perhaps taking an immediate vote to expel hi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rue sigh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9:35-3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the blind man needed was to know who the Son of God 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knew Jesus was a man of God based on the miracle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had SEEN Jesus, not with eyes, but through fai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ce told by Jesus, he immediately confesses his belief and worships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gain notice the man knew that “Son of God” was a title of deit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so note that Jesus accepted the worshi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rue blindnes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9:39-4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brought judgment to the world because man would have to choose what to belie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ne who formerly did not know God (blind) could now understand God’s will (see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ne who thought he knew God’s will (seeing) might now close their eyes against God (blind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Pharisees ask which they w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they had been blind (knew their condition and need), then they would now see (by the light of the world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since they thought they were okay (seeing), then they were still in sin (blind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re are many reasons why people refuse to believe in Jesus as Christ and Son of Go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usion, stubbornness, fear, pride, tradition, or prejudice, just to name a f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may think they see, but are truly blind to their own ne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order to truly believe (see) one first needs to understand their need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are in sin, darkness, blindness without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n understand that Jesus is the Light of the world (a way out of sin, darkness, blindness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Blind Se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9:1-4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had taught during the Feast of the Tabernacles (Jn 7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Jewish leaders had tried to arrest or kill Jesus, but fai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n the day after the feast, Jesus continued teaching (Jn 8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Jewish leaders continued to find a reason to arrest or kill Jesus, but fai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’ teaching culminated with His statement, “Before Abraham was, I am.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Jews immediately wanted to kill Him, but He miraculously walked through their midst unsee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9:1-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’t know if this is the same day as the previous chap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 clear statement of a change of date until 10:22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repetition in 9:5 of the thought of 8:12 makes sense if still the same da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he day of the lighting of the great menora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oked at reasons for suffering in last less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suffering of this man was to allow the works of God to be reveal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night is com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9:4-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s an analogy between the work He is doing (God’s work) and work in the fiel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ork can only be accomplished during the da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en it is night no one can wor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ay is while He is still liv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knew His end was quickly approach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out 6 months away at this poi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is work involved teaching people that He is the light of the world, the Savi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too should realize that we have work to do and our night approach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heal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9:6-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use the clay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for medicinal reaso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uld defeat His purpose of showing He was the light of the wor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rhaps to force the Jews to confront the heal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doing something physical they could call 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rhaps to give the blind man a test of fait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ven with specific instru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ke Naaman (2 Kgs 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r some other reason known only to Jes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actions to the heal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9:8-1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the neighbors, some believed he was the blind man and some refused to belie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o was REALLY blind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ighbors were stuck debating whether the man was who they knew him to be (confus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ver gave an opinion on the mirac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the blind man, he believed that Jesus had caused him to receive s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ough he seems not to know who Jesus wa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actions to the heal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9:13-1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Pharisees stopped at the meth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made clay, that was work in their opin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refore, Jesus didn’t keep the Sabbat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fore, Jesus was not a man of G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gnored the miracle (self-blinded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s looked at the result, and those knew He was not a sinn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od obviously approved of Jes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lind man saw clear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had to be a prophe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actions to the heal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ohn 9:18-25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Jews (leaders) refused to believe the blind man had been bli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asier to reject that any miracle had happene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Jesus not approved by God, just a con m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gain a case of self-blindness, refusing to se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arents tried to remain neutr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Yes, he is our son and was born blin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e don’t know anything el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ying not to see what was obvious, fear-blind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blind man is told Jesus is a sinner, so the miracle must not be attributed to Hi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stead, he reiterates the importance of the miracle itself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58:57Z</dcterms:created>
  <dc:creator>Glenn E Hamilton</dc:creator>
  <dc:description/>
  <dc:language>en-US</dc:language>
  <cp:lastModifiedBy>Glenn E Hamilton</cp:lastModifiedBy>
  <dcterms:modified xsi:type="dcterms:W3CDTF">2010-07-28T15:09:35Z</dcterms:modified>
  <cp:revision>4</cp:revision>
  <dc:subject/>
  <dc:title>The Blind See</dc:title>
</cp:coreProperties>
</file>