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verdi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verdict / sentenc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guilty of a capital off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ll be chastised and relea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stised” means “corrected or traine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ld refer to a beating or whipping or other light to moderate punish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not referring to a flogging or scourging which were considered harsh punish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implied second verdict then is that Jesus may be guilty of some minor off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late didn’t believe so, but was willing to act as if he did to satisfy the Jews (a compromis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second compromi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15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 Jewish leaders didn’t like the first compromise (chastise and releas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fers a second compromise (a pard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vernor would once a year release a priso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petty criminals, but one guilty of a capital off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d one other capital offender – Barabb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bel and murderer (Lk 23:1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econd compromise is that Pilate would change the verdict to ‘guilty of a capital crime’ followed by a pard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d the crowd would approve releasing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cond compromise rejec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19-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’s wife suffered in her dre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from God or simply from knowing He was an innocent man being accu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owd rejects the second compromise – choosing Barabbas because the Jewish leaders had persuaded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arently in frustration at the rejection of his second compromise, he asks what they want done to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ets an answer of “Crucify Hi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ant the maximum penal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cond compromise rejec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7: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Pilate admits he can’t think of a charge of which Jesus is guil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th compromises would have still been miscarriages of just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3:22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es to return to his first comprom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early not guilty of any capital offense, so will just chastise and free – treat as a petty crimi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 Jewish leaders already have the people stirred up and drown out Pilate’s verdi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lesson to be learned is the evil of trying to compromise the tru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knows Jesus is not guilty of any cr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tries over and over to find a comprom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t Herod handle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nd Him guilty of some minor, unspecified charge, chastise and rele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nd Him guilty of an unspecified and unproven capital crime, then pardo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than placate the crowd, each attempt emboldens the Jewish l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can see they are win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oman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8:39-4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23:5-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 27:15-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ish leaders had tried Jesus in unlawful and untraditional w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to find the truth, but to find an excuse to have Him ki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finally settled on blasphemy as the ch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y brought Jesus before Pilate to have Him execut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harged Him with disturbing the peace, teaching against paying taxes, and claiming to be a king in opposition to Caes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found Him not guilty on all cou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Jewish leaders weren’t satisfied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new charge (Luke 23: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hough similar to the earlier charge “perverting the nation” (Lk 23: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ormer charge only meant ‘disturbing the peace’ – not a capital off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charge  literally means ‘shaking back and forth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mean something like ‘fomenting rebellion or riot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ould be a capital offense if tr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change of venue (Luke 23:6-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Pilate learns Jesus was from Galilee, he decides to send Him to Herod for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though Jesus was presently in Jerusalem, if the actions took place in Galilee, He should be tried by Galilee’s rul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’d call it an extradition or venue 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od is Herod Antip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trarch of Galilee and Perea, 4BC-AD3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tetrarch did have power to execute within his domain (would require bringing Jesus back to Galile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son of Herod the Gre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killer of John the Baptizer (Mk 6:14-2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ill a Roman trial because Herod’s office was given by R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rod Antipas was not Jew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father was Idumean (Edomite) and his mother was a Samarit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else do we know of Herod Antipa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k 9:7-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d wanted to see Jesus for more than a ye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k 13:31-3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risees interpreted his interest in Jesus as a desire to kill Him (like John the Baptize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calls him a fox, not meaning ‘cunning’, but rather ‘cowardly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8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ial went something like this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rod wants Jesus to do a mirac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does and says no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rod asks Jesus questions (whether about the charges, miracles, doctrines, etc) uncle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no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ish leaders make lots of charges and accus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no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Roman t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11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ial ends with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rod and his guards dress Jesus up like a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“gorgeous robe”, actually says a “shining rob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wish kings wore a white robe with bits of silver interwo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mock and abuse Him for awh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hoping to provoke a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just out of malice and contem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till does and says nothing (Isa 53:2-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than release Jesus, Herod sends Him back to Pilate (each honoring the oth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Pilate and Herod become frie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econd verdi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13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condenses the 3 original charges to one: ‘misleading the people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by disturbance, tax revolt, or kingsh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ilate found Him not guilty (first verdic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od trie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rod found nothing worthy of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had, he would have sent Jesus back to Galilee for exec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33:12Z</dcterms:created>
  <dc:creator>Glenn Hamilton</dc:creator>
  <dc:description/>
  <dc:language>en-US</dc:language>
  <cp:lastModifiedBy>Glenn Hamilton</cp:lastModifiedBy>
  <dcterms:modified xsi:type="dcterms:W3CDTF">2011-02-23T16:58:48Z</dcterms:modified>
  <cp:revision>3</cp:revision>
  <dc:subject/>
  <dc:title>The Roman Trials</dc:title>
</cp:coreProperties>
</file>