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itness of all discip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ur transformed lives also bear witnes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idence of the influence of Christ in our l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Cor 3:18 - 4:6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n in a changed behavior (Eph 4:17-2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ing us to shine as lights (Php 2:12-16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aren’t transformed, then not any use as wit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our minds are not renewed (Rom 12:1-2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don’t put on the new man (Col 3:9-17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itness of all discip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ur proclamation of the Word bears witn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have a duty to proclaim His prais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Pet 2:9-1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laim how He called us into His marvelous light (and how others too can leave the darkn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laim how we obtained His mercy (and how others can also obtain that same mer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we remain silent, then not useful as wit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don’t spread the gospel (Acts 8:4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we don’t sound forth the Word (1 Thess 1:8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urpose of all these witnesses is to cause people to believe (Jn 1:6-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is the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n take away the darkness of sin in our l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have not acted on your belief in Christ, why wai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have not spread the good news, why wai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earing Witness of the Ligh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1:6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began the prologue to his gospel claiming that Christ was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ent, eter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we get a preview of the first witness in the gospel who bore witness to Jesus being the L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ohn the Baptiz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1:6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other John, not the author of the bo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an sent from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an who bore witness of the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an who was not the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was not the only witness of the L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itnesses began long before the Christ’s bi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itnesses continued throughout Christ’s life and even after His death and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t’s look at this chain of witnesses and note John’s place in 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orerunn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erunners” ran before important peo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ake everything ready, to make sure everyone knew who was co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ke “advance teams” tod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egan with the OT prophets (1 Pet 1:10-1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told His sufferings, and the glory to fol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saiah (ca 720BC) - Isa 7:14, 9:6-7, 53:4-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is estimated there are over 300 distinct prophecies of the Christ in the O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Himself reminded His disciples of the truth of what these forerunners had to s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k 24:25-27, 44-4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Forerunn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’s mission as a forerunner was itself foretold (Isa 40: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gospels identify John as the fulfillment (Mt 3:1-3; Mk 1:1-4; Lk 3:1-6, Jn 1:2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fulfilled his mission by bearing witness of the Light (Jn 1: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laring Jesus to be the Lamb of God and Son of God (Jn 1:29-3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the forerunners all bore witness of the Light before the ministry of Jesus beg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re were also contemporaneous wit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itness of the Fa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Father bore witness through sig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5:36-37, 10:25, 37-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witness was obvious (Jn 3:2, 9:32-3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rectly through His Own vo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Jesus’ baptism (Mt 3:16-1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the transfiguration (Mt 17: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Jerusalem during the last week (Jn 12:27-3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rough the resurrection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m 1:3-4; Acts 17:30-3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itness of the Apost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cts 10:39-4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anded by God to bear witness of the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yewitness testimon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5:27; Acts 1:8, 5:30-32, 13:30-3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yewitness who interacted with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Jn 1:1-2; 2 Pet 1:16-1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yewitnesses who risked their lives to testif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Cor 4:9-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itness of all discip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t eyewitness testimo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17:20-2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witness by their actions – un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cannot develop any group (religious, political, social) without it becoming factio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act of Christians’ unity would be evidence that Christ is the Light (Eph 4:1-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fore, disunity is strongly condem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Cor 1:10-13, 3:3-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3:31:11Z</dcterms:created>
  <dc:creator>Glenn E Hamilton</dc:creator>
  <dc:description/>
  <dc:language>en-US</dc:language>
  <cp:lastModifiedBy>Glenn E Hamilton</cp:lastModifiedBy>
  <dcterms:modified xsi:type="dcterms:W3CDTF">2009-12-09T15:29:32Z</dcterms:modified>
  <cp:revision>3</cp:revision>
  <dc:subject/>
  <dc:title>Bearing Witness of the Light</dc:title>
</cp:coreProperties>
</file>