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ood which end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food is thi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ur text, it is Jesus, the Word of Go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, the Logos (Word) of God (Jn 1:1,14,1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is the true bread from the Father in heaven (John 6:32-33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is the bread of life who offers everlasting life (John 6:34-4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bor for the food which end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must be the primary focus of our labors, in which we strive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lieve in Him, for therein is everlasting life (Jn 6:28-29,4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follow Him, for He has the words of eternal life (Jn 6:66-6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know Him, for that is eternal life (Jn 17:1-3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obey Him, for to those who obey He is the author of eternal life (Heb 5:9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bor for the food which end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we laboring for the food which endures to everlasting lif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Paul's attitude be our example (Phil 3:7-1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eking to know the Lord more and mo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ver content with our current understanding, always pressing further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Peter set the standard (2Pet 1:5-8, 3:1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eking to become like the Lord more and mo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ways abounding, always growing in grace and knowledge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e thing we do not want to be lik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6:30-3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very people who had their sick heal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o had eaten of the bread produced from 5 loaves and 2 fish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o knew He was the Prophet and were willing to force Him to be their k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hey demand a sign before believ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will examine their rejection of Jesus more closely in our next less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t us let Isaiah 55:1-3 be our invitation to come for the food which end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wo Kinds of Fo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22-4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fed the 5,000+ with five loaves of bread and two fish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believed in Him as the Prophet to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wanted to take Him by force and make Him 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told the crowd to leave, told His disciples to take the boat and cross the s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ent to the mountain alone to pr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Jesus caught up to the disciples by walking across the sea (among other miracles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22-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ople Jesus had sent away, didn’t de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xt morning they came together looking for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had seen the disciples leave on their bo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knew no other boat had been take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they assumed Jesus was still aroun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saw Him go into the mou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dn’t see Him walk across the s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hen they couldn’t find Him, they took other boats (either fishing boats or their own boats by which they had followed Jesu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of the huge crowd probably had left the night before, others may have walked ba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inding Jesu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2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ultitude comes to Capernaum and finds Jesus already t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n’t imagine how and when Jesus got ther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boat, to walk would be 10 mi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He walked it might have taken all n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idn’t He wait? He could have sailed with the mult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 explai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26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knew what was in their he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ere interested only in the food, not what the miracle indicat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ted Jesus to provide for th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realizing the miracles meant He was God and they should listen to and obey His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mpting Jesus to warn them about the food for which they labor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r lesson will be based on this warning and making application of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 kinds of food for which you can labor . .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ood which perish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food is thi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terally, it is the food we ea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quickly perishes, even with preservativ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fails to satisfy for long, soon we are hungry and thirsty again (Jn 4:1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guratively,  other "foods" which soon peris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ood of human wisdom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ood of folly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ood of mirth and pleasure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food of great wealth and industrious lab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 of which Solomon found to provide no lasting fulfillment (Eccl 1:17-2:11)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Do not labor for the food that perish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s does not mean we are to make no effort to supply our nee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hristian is to provide for his family (1Tim 5: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a man does not work, neither should he eat (2Thess 3:10-1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that we not labor for “perishing food” to the neglect of food which end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"food" which perishes should not be our priority in life (Mt 6:25-34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esson Martha needed to learn (Lk 10:38-42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 what is the food which endure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ood which end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food is thi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ther texts, it is the Word of Go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which man truly lives (Mt 4: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Job treasured more than food (Job 23:1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David valued more than gold and fine food (Ps 19:10, 119:72, 103, 111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Jeremiah found to be the rejoicing of his heart (Jer 15:16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causes rebirth, and endures forever (1Peter 1:22-2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3:44:52Z</dcterms:created>
  <dc:creator>Glenn E Hamilton</dc:creator>
  <dc:description/>
  <dc:language>en-US</dc:language>
  <cp:lastModifiedBy>Glenn E Hamilton</cp:lastModifiedBy>
  <dcterms:modified xsi:type="dcterms:W3CDTF">2010-04-28T20:01:21Z</dcterms:modified>
  <cp:revision>3</cp:revision>
  <dc:subject/>
  <dc:title>Two Kinds of Food</dc:title>
</cp:coreProperties>
</file>