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victing the world of judg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the world does not understand that there will be a judgment, then they won’t chang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s 17:30-3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ssurance of a judgment is the assurance of Jesus’ resurre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pirit would provide the proof of His resurre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proof would show that Satan had lost, “the ruler of this world is judge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who choose sin over righteousness will know they are on the losing s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ery fact that the world spends so much time trying to prove that sin is not sin shows they have been convicted by the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will the Spirit carry out His work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Spirit must prove the nature of sin, righteousness, and the certainty of judg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12-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ould guide the apostles into all tr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Cor 2:10-1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pirit did this by revealing the mind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words would be the same as the Son’s and Father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 is only one plan of salv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ds would be confirmed by prophe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ds would give glory to Christ by fulfilling His mission (salvation’s pla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Spirit would provide the apostles with the knowledge, words, and guidance need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kingdom to take root and gr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world to understand sin, righteousness, and judg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gave them the word of God (Eph 6:1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remains with us and continues to convict the world of sin, righteousness, and judg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as the Spirit convicted you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o, then why not act in obedience now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rk of the Holy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5-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already told the apostles a few things about the Holy Spir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ould be another paraclete (aid / defender) (Jn 14:1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’d teach them all that they needed to kno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remind them of what Jesus had already taught them (Jn 14:2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’d testify of Jesus (Jn 15:2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else would the Spirit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would those things be don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 He was go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5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s told them several times that He was lea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irst time, Peter had followed up with a question (Jn 13:3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id He was going to His Father’s house to prepare a place for them (Jn 14:2-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mas followed up by saying they still didn’t understand where Jesus was going (Jn 14: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 He was go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ral more times Jesus has said or hinted at His coming departu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ciples no longer asked where He was go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because they understo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imply because they had become more concerned with their own situ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had just told them of the rejection, suffering, and persecution they would end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ir focus was on their coming problems, and they were filled with sor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had latched onto the negatives, but seem to have forgotten the posi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dvantage of Christ’s depar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might think it was best if Christ remai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had thought this (Mt 17:1-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if He remained, then salvation’s plan could not be comple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needed to be the sacrifice (He 10:1-1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also needed to be the High Priest (He 9:11-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nging the offering into he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secures our hope by His presence beyond the veil (He 6:19-2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is departure signaled the beginning of the next phase of that plan – the work of the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rk of the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6:8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onvict”, “to reprov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demonstrate by argument, to prove, to persuade anyone to do a thing by presenting reasons. It hence means also to convince of anything, and particularly to convince of crime” (Alfred Barne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the function of a paraclete in Roman cour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ng the guilt or innocence of the accu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will the Spirit be prov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victing the world of si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Spirit would work to prove to the world that they had sinn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example, on the day of Penteco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s 2:4 – gave apostles utte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s 2:22-36 – Peter preached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s 2:37 – peopl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victe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of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s 2:38-39 – people told to repent and be baptiz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s 2:40-41 – those who were willing did so glad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the Spirit convict the world of si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ough the word of God He revealed to the apost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nvicting the world of righteousnes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 that the world was righteo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rather, in order to see their sin, the world needs to understand righteous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ecifically the Spirit would prove the righteousness of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to understand what it will take for them to be forgiven of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they did on the Day of Penteco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are convicted of sin, you know your unsaved cond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are convicted of righteousness, you know Christ’s righteousness and what it takes to be forgiven of those si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00:59Z</dcterms:created>
  <dc:creator>Glenn E Hamilton</dc:creator>
  <dc:description/>
  <dc:language>en-US</dc:language>
  <cp:lastModifiedBy>Glenn E Hamilton</cp:lastModifiedBy>
  <dcterms:modified xsi:type="dcterms:W3CDTF">2010-12-14T16:37:19Z</dcterms:modified>
  <cp:revision>5</cp:revision>
  <dc:subject/>
  <dc:title>The Work of the Holy Spirit</dc:title>
</cp:coreProperties>
</file>