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nderstand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id the apostles finally understan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knew that Jesus knew all t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been discussing among themselves what Jesus had me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explained what He meant showing He knew what they were thin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shows they finally grasped (to some extent) where He said He was go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, they knew they didn’t have to ask questions of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their questions before they ask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, they believed He came from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 that they understood everything y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vercoming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6:31-3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ciples had just professed a belief in Jesus as come from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Jesus says in a little while they would fail to stand with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a few hours away, at m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et being abandoned by the apostles did not mean He was abando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ther was with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vercoming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6: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old them these things because they too were going to be persecuted and abando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needed to be certain that God was going to be on their side and not leave them al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Paul later found out, the Lord’s presence is enough (2 Tim 4:16-1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ecause He overcame and is with the Father, we know we can overcome and be with Him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v 2:7, 10-11, 17, 26-28, 3:5, 12, 21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orld is set against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ld rejoiced when Christ d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e rejoice that He liv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resurrection showed He had overcome the wor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t gives us the assurance that we can overcome the world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do that we need faith and obedience to Hi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overcoming the worl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vercoming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16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has told them several times that He was leav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irst time, Peter had followed up with a ques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said He was going to His Father’s house to prepare a place for them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followed up by saying they still didn’t understand where Jesus was go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ral more times Jesus has spoken of or hinted at His coming depart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isciples no longer asked where He was going because they had become more concerned with their own situ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 Jesus explained some of the advantages of His depar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little whi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16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ciples understood Jesus was speaking of three coming ev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will not see M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will see M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go to the Father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just didn’t understand the what, why, and how of the ev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lso didn’t understand the when, even though Jesus said “a little whil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‘little’? A few hours, days, week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just as they no longer asked about “where”, they only asked each o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little whi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6:19-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rst period: “you will not see 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time of sorrow for the apost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time of rejoicing for the wor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ime of Jesus’ death and bur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postles mourn their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rld rejoices thinking it has w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“little while” before this period is less than a day aw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econd period: “you will see 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little whi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second period: “you will see Me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ime for the apostles’ sorrow to be turned into joy – the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ittle while of sorrow will be like birth pai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ly forgotten in the joy of what comes l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ittle while of sorrow and not seeing Jesus would only be a few day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joy would not depart (even though Jesus would), because they would always know He was still al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little whi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hird period: “I go to the Father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6:23-2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day” – the period after they had been reassured that Jesus was ali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ask Me nothing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ouldn’t be with them, so they could not ask Him for things or explan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the Father in My nam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ould be with the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ould direct their requests to the Father with Christ as mediator “in My nam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had not taught them to pray in His name previously, because He had not yet gone to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a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6:25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gurative language” “proverb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ans obscure or enigmatic langu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might think Jesus has spoken clearly, but the apostles were confu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that after He has gone to be with the Father, then they would be told plain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was one of the things the Spirit would d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n’t need to ask Jesus to ask the Father, but simply could ask the Father in His na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ther loved them because they chose to believe Jesus, who the Father had s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nderstand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6:28-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makes another attempt to explain where He was go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ame forth from God (v2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ame forth from the Father (v2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presently in the wor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about to leave the worl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He will go to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ciples are happy to think they’ve finally underst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what did they understan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5:13:57Z</dcterms:created>
  <dc:creator>Glenn Hamilton</dc:creator>
  <dc:description/>
  <dc:language>en-US</dc:language>
  <cp:lastModifiedBy>Glenn Hamilton</cp:lastModifiedBy>
  <dcterms:modified xsi:type="dcterms:W3CDTF">2010-12-22T18:35:56Z</dcterms:modified>
  <cp:revision>4</cp:revision>
  <dc:subject/>
  <dc:title>Overcoming the World</dc:title>
</cp:coreProperties>
</file>