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log.remnantbride.com/wp-content/uploads/barle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log.remnantbride.com/wp-content/uploads/barle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wing and Reap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process of rea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griculture, reaping is the harvesting of what has been sow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time of joy and thanksgiv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inning souls to Christ, reaping involves a similar harv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volving souls who have already heard the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volving souls who decide to obey the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cess involving conversion, with great joy and excitement over the results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ping where others have sow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 the crowd moved closer, Jesus tells His disciples they will reap what another plant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had planted the seed in the wo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man had scattered seed in t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this happens toda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haps someone has shared the gospel or just demonstrated a Christian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bring someone who is ‘ripe’ for harve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we misunderstand and glorify the reaper as a great soul-winn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getting all the hard labor of the sow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wing for others to rea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39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the sowing and reaping occurred close in time, they were separate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often there is time between planting and harve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ght be hard to put in a lot of effort and not see the end resul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times misinterpreted as being unproducti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consider the words of Anne Stevens song, “The Apples in a See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ples in a Seed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e fruitful tree there is an apple, Deep within the apple, many seeds, So the Father set all things in order, Knowing what everything would need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ou may count the seeds within the apple, You may count the apples on the tree, You may count the trees within the orchard, Who can count the apples in a se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can count the apples in a seed? Who can say how much the fruit will grow? Who can know the harvest of tomorrow? Who can count the apples in a se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ples in a Seed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rom the mind of God before creation, From the heart of heaven, mercy’s plan, Bringing peace to every tribe and nation, Heaven’s hope for lost and dying ma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od would take the brightest Star of Heaven, Send Him down to hang upon a tree, Tell the world that Jesus is redemption, Say He came to pardon you and m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can count the apples in a seed? Who can say how far the Word will go? Who can know the harvest of tomorrow? Who can count the apples in a se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ples in a Seed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not doubt that someone will believe it, Though a hundred hear and turn away, For if only one heart will receive it, Through the one, a thousand may obe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 may be a gentleman of ninety, It may be a child of only ten, Sow the precious seed for the Almighty, You can watch it multiply again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can count the apples in a seed? Who can say how far the Word will go? Who can know the harvest of tomorrow? Who can count the apples in a se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simple conversation by a well led to many becoming believers in Chr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He had decided not to talk to a Samaritan wom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He decided He was too tired or too hungry to have a religious discuss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many opportunities have we let slip through our finger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planting the see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harvesting what others have sow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are we sitting idly b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rvest Ti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27-4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met a Samaritan woman by a wel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disciples were in town buying f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offered her living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ds of God leading to eternal lif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could be a spring of living water with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ing others to eternal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r He confronted her with the fact He was the Messi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fter proving to her that He was a prophe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she had the essential knowledge, but what would happen . . 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isciples retur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2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find Jesus speaking to the Samaritan wo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y are surpris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know if she asked something of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did He speak to her fir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know enough to know not to interru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didn’t even get close enough to h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woman’s testimon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28-3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excited at hearing the news that He was the Christ that she didn’t finish her err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ft her water po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ld the people of town the two essential elements of her convers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re was a prophet at the we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ld her everything she had d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 marriages and non-marri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He is perhaps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s people to consider the possi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already knew He was Chr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 and His discip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31-3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y left Jesus He was tired and they went to get some f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is now afternoon, so after the woman leaves they decide it’s time to e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, He has had food to 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isciples think someone must have brought Him some fo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as with His discussion of living water, they are being too lite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iritual f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3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id His food was doing the will of the Father and completing His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you ever been so involved in an activity that the thought of food left you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as it ever been a Bible study or discussion or an activity based in scripture (a singing, etc)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’s what Jesus was telling His dis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ing the will of the Father was what kept Him go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of course, He was already looking forward to the completion of that a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67400" y="0"/>
            <a:ext cx="267660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arvest ti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4:3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explains with an ana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eople think it takes 4 months from planting to harv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proximate time for grain to ri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en doing God’s planting the harvest may not be so s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just minutes ago had planted a seed in the woman’s hea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He says, ‘Look, the harvest is ready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barley ripens it turns wh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amaritans traditionally wore light colored gar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ople coming out in a huge crowd walking to the well probably looked like a white barley fi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owing and Reap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36-3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l-winning is like farming: needs sowing and rea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cess of sow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agriculture, sowing involves preparing the soil and planting the se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winning souls to Christ, sowing likewise involves preparation and planting (Lk 8:4-1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s are being prepared to receive the gosp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s are first introduced to the gosp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process involving time and effort (teaching and influence) often with little visible result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4:38:02Z</dcterms:created>
  <dc:creator>Glenn E Hamilton</dc:creator>
  <dc:description/>
  <dc:language>en-US</dc:language>
  <cp:lastModifiedBy>Glenn E Hamilton</cp:lastModifiedBy>
  <dcterms:modified xsi:type="dcterms:W3CDTF">2010-03-10T16:40:48Z</dcterms:modified>
  <cp:revision>3</cp:revision>
  <dc:subject/>
  <dc:title>Harvest Time</dc:title>
</cp:coreProperties>
</file>