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Son of God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ohn reveals a further purpose of his baptizing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thorized by God so he would know who was that greater person (Jn 1:30-34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He knew Jesus, as his cousin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He did not know Him as the Christ until His baptism (Mt 3:13-17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erhaps before the baptism John only knew Jesus was a better man than h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ohn knew after the baptism that Jesus was the Son of Go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one of greater rank / import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one for whom being a menial slave was too much to hope f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Creator, God incarnate, God with u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Like John we need to point the way to Jesu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 is the Lamb of Go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e only means of salvation through His blood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 is the Son of Go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Deserving of all honor, praise, and glory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 did what no one and nothing else could do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By being the perfect sacrifice, provided by God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Will you let His blood be applied to you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Lamb of God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ohn 1:19-36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After stating in the prologue the claims to be proven, John moves forward to some 30 years into the life of Jesu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It had been almost 1500 years since Moses prophesied (Deut 18:15-19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More than 700 years since Isaiah (Isa 11:1-5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400+ years since Malachi (Mal 4:5-6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people were waiting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r a prophet like Mos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r Christ the K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r Elijah’s retur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confession of Joh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When John the Baptizer appears . . .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Jews realized he was a man of God, prophe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e first true prophet since Malachi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ut which prophet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Like Moses? The Christ? Or Elijah?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n 1:19-23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y asked him, “Who are you?”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He confessed he was not the Chris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e was not trying to pretend to be something he was no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re had been (and would continue to be) pretenders, but John knew His ro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confession of Joh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ey asked if he was Elijah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e said, “I am not”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he Jews were looking for the literal return of Elijah (since he had been caught up to heaven)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John knew he was not Elijah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e is not denying he was the one Malachi foretol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k 1:17 – the angel foretold he would b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t 17:10-13 – Jesus explained i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ey asked if he was the Prophe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e said, “No”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He knew that was not his role either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Lesson: The role of a messenger is to point the attention to the Lord; not to gather attention to oneself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confession of Joh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What was John’s role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forerunner (Isa 40:3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e same role Malachi foretold (Mal 3:1, 4:5-6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n 1:24-28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at was the purpose in John’s baptism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f he had authority as Christ, Prophet, or Elijah, then they could presumably understand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 what authority did John hav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ohn admits he is baptizing, but refuses here to state the purpose or explain the authorit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He actually had done both in quoting Isaiah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od was the authority and the purpose was to prepare people for the Chri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confession of Joh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Furthermore, if they were looking for someone of importanc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ohn said He was among the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One who came after him in time (since he was the forerunner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But was greater than him in rank / importanc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 much greater, John says he was not fit to be his most menial serv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t should have been obvious who John referred to, not a great teacher; but to God Himself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Lesson: Some people refuse to understand what is plainly said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Lamb of God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n 1:29-36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wice John calls Jesus, “the Lamb of God”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What was significant about that title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 22:1-18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braham knew God would provide a suitable sacrific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e place was called “The LORD will provide”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e willingness to give up one’s only son was tied to the promise of blessing for all peopl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Lamb of God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What was significant about that title?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odus 12 – the Passover lamb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v 5 – without blemish, separated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v 7 – blood applied to the doorposts and lint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v 11 – it is the LORD’s passover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v 13 – when the blood was seen, they would be spared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esus would be that Lamb for the whole worl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Without sin (Heb 4:15; 1Pet 2:21-25)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Whose blood cleanses/protects/saves us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 Pet 1:18-19; Heb 10:19-23; 1 Jn 1:7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pplied through baptism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cts 2:38; Rom 6:3-7; 1 Pet 3:2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Who is the Lord’s passover offering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m 3:23-26; 1 Jn 4:9-10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30T14:09:33Z</dcterms:created>
  <dc:creator>Glenn E Hamilton</dc:creator>
  <dc:description/>
  <dc:language>en-US</dc:language>
  <cp:lastModifiedBy>Glenn E Hamilton</cp:lastModifiedBy>
  <dcterms:modified xsi:type="dcterms:W3CDTF">2009-12-30T16:13:01Z</dcterms:modified>
  <cp:revision>3</cp:revision>
  <dc:subject/>
  <dc:title>The Lamb of God</dc:title>
</cp:coreProperties>
</file>