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” – not a disrespectful term, but a common form of add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it have to do with M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not the one responsi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unning out of drink might embarrass someone, but hardly a crisis situ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ur has not yet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Mary wanted a display of Jesus’ miraculous power so others would kn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id it was not yet time for such a sig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lu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5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understands Jesus to be willing to help, but unwilling to perform a large-scale 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rects servants to do whatever Jesus s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y showing she did have a position of authority in regard to the fe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ants fill 6 waterpots (20-30 gallons each) with water all the way fu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room to add the customary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in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urification pots, so no residue of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in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ld the servants to serve it to the governor of the feast (for his approval- as norm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big, outward sign of a miracle being d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those present knew what happe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2:9-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vernor of the feast was not told of the mira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he recognized th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s better than what had previously been serv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as bett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tarch (46 - 120 AD) said,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ndered feeble in strength when it is frequently filtered. The strength or spirit thus being excluded,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ither inflames the brain nor infests the mind and passions, and is much more pleasant to drink."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rical records consistently indicate that the best wines were freshest, unfermented juice available” 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ld Testament Beverag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Jesus produced was likely pure, fresh grape ju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governor is asking is, if you had fresh juice, why did you serve the watered concentrate at first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ff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:11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th was strengthened in His disc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lready believed (as in Jn 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sign increased the amount of faith they h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gn wasn’t for everyone at the f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a few were privileged to know what happe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ign showed His glory (Jn 1:1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lory of divinity, for who, but God, could change one substance into anoth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already believed were shown something gre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with John the Baptizer or Nathanael, a single sign showed who Jesus w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Jesus showed a power no person, not even the prophets, ever h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, through Elijah(1 Kgs 17:14-16) and Elisha (2Kings 4:1-7, 42-44), caused oil, flour, and bread to be multipli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re, Jesus changed the elemental nature of wa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hing even today science can’t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only answer for that power was that He was the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Miracle at the Wedding Fea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:1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’s purpose in writing is to produce fai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20:30-3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has told us of the faith of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he Bapti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he fulfillment of a prophe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rew, Philip, and P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ime spent with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hana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Jesus’ miraculous knowledg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we move to a more public opportunity for Jesus to demonstrate who He 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2:1-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Cana of Galil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4 miles from Nazare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e of Nathanael (Jn 21: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third day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y after speaking to Nathana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y since Jesus and disciples arrived in Galil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y since they left Jud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y of the wedding feast (typically 7 days lo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08560" y="-457200"/>
            <a:ext cx="38354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edding Fea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nd his disciples were invit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mother, Mary, was also invit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ingly, John never names 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here was already a tendency toward worshiping Mary when John wro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suppose the marriage must have been of a relative of Mary’s for her to be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east would typically last 7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vities, foods, drink, etc were managed by “the governor of the feas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the couple, their family, or other celebra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milar to a “wedding planne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: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ran out of “win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re they drinking win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rk wor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fers “to all products of grape juice”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w Testament Beverag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coholic content is not 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be juice, vinegar, or w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Hebrew, there were specific words for many kinds of drink, but this is a general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kind of drink would they be serv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think it had to be alcoholic because they had no way to prevent fer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fermentation is not controlled, the result is vinegar, not win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“How to Make Vinegar”, Vinegar Connoisseurs Internationa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lumella, 1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century writer, said it was common in both Italy and Greece to boil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iny (62 - 113 AD) wrote that Opimiam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had the consistency of hone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articular product had been in production for more than two centur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irgil (70 – 19 BC) instructed his readers to boil the juice of grapes down to or 1/3 of its original volume to make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in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keep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kind of drink would they be serv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boiling the juice keep it from ferment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"By boiling, the juice of the richest grapes loses all its aptitude for fermentation, and may afterwards be preserved for years without undergoing any further change.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erman Boerhave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lements of Chemist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age 81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yrup would be mixed with water before being serve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vernor of the feast would be responsible for making sure the mixture tasted 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ways used in ancient times to prevent fermentation were filtration and refrig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refrigeration sealed containers were stored in cool caves or sunk in wel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: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ran out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in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did this concern Mar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she was helping rather a celebr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she was a friend or relative of those who were in charge of providing the food/dri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id she bring the problem to Jesu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suppose Jesus had never done a miracle before this (based on Jn 2: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Jn 1:48-49, show Jesus doing a mira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as Jesus first public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seems Mary knew Jesus could do something, and it must have been based on previous ev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09:04Z</dcterms:created>
  <dc:creator>Glenn E Hamilton</dc:creator>
  <dc:description/>
  <dc:language>en-US</dc:language>
  <cp:lastModifiedBy>Glenn E Hamilton</cp:lastModifiedBy>
  <dcterms:modified xsi:type="dcterms:W3CDTF">2010-01-13T17:41:25Z</dcterms:modified>
  <cp:revision>3</cp:revision>
  <dc:subject/>
  <dc:title>The Miracle at the Wedding Feast</dc:title>
</cp:coreProperties>
</file>