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tnes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even if they choose to reject Jesus’ witness of Who He i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was still the witness of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5:36-4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ugh the mira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ly through His voice from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ugh the Scrip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ather’s witness is true and validates Jesus’ cla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harisees pretended not to know Whom Jesus meant by His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d plainly understood His reference before (Jn 5:17-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grees that they don’t know the Father, otherwise they would have accepted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s 4:6 – such had long been true of Isra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ho believes and obeys Jesus knows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lost in the darkness of the worl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lieve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ey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 baptized and be set free from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you can be a light for the world, leading the lost to Jesus, the greater Light (Mt 5:14-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Cor 4:1-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ght of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12-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east of Tabernacles ended the day bef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day was also a holy da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Israel was to asse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 teaching in the te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risees had attempted to trap Jesus by using an adulterous woman as a pro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turned the tables on them by making them consider their sin in the mat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Golden Menorah"/>
          <p:cNvPicPr/>
          <p:nvPr/>
        </p:nvPicPr>
        <p:blipFill>
          <a:blip r:embed="rId1"/>
          <a:stretch/>
        </p:blipFill>
        <p:spPr>
          <a:xfrm>
            <a:off x="5572080" y="2095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 had developed some traditional practices added to the fea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as the elaborate ceremony surrounding the drink offering each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ther tradition was the lighting of a giant menorah in the temple courty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believe there were a pair of such menor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enorah was lit either each evening of the 8 days or only on the evening of the 8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8: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He is the Light of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more need to walk in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arkness of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figurative depiction of the sinful state of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 5:14 – used by Elipha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 12:24-25 – agreed with by Jo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 107:10-11 – a place of rebell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3:1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 13:12-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ph 5: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arkness of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news (terrorism, war, oppression, sexual abuse, greed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media (pornography, filthy languag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xperienced in life (adultery, physical and verbal abuse, false religions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described in Eph 4:17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walk in darkness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the futility of their mind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rkened in their understanding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ienated from the life of Go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gnorant because of the blindness of their hear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st feeling, given over to lewdnes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ing all uncleanness with greedines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is the Light of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claim made several times in Joh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4-9; 9:5; 12:35-3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light, no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li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prophecy of the Messiah – Isa 9:1-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uded to in Zacharias’ prophecy – Lk 1:76-7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filled by Jesus – Matt 4:12-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light not just for Jews, but for all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prophesied – Isa 42:6-7; 49:6; 60:1-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 those who follow Hi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existence of light is of no use for those who refuse to leave the dark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3:19-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 97:10-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order to follow Him, one mus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ieve and repent (Jn 12:4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de in (obey) His word (Jn 8:3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baptized (Mt 28:18-2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8:13-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harisees rejected the claim as self-wit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points out that prohibition against one witness was to prevent l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testimony was true because of Who He 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b 6:16-1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possible because He is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d rejected Jesus based on appearances and preconce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id He would not judge in that mann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would judge truly, because of Who He 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3:13:58Z</dcterms:created>
  <dc:creator>Glenn E Hamilton</dc:creator>
  <dc:description/>
  <dc:language>en-US</dc:language>
  <cp:lastModifiedBy>Glenn E Hamilton</cp:lastModifiedBy>
  <dcterms:modified xsi:type="dcterms:W3CDTF">2010-06-16T15:52:28Z</dcterms:modified>
  <cp:revision>4</cp:revision>
  <dc:subject/>
  <dc:title>The Light of the World</dc:title>
</cp:coreProperties>
</file>