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ranting the bod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Knowing Jesus was dead, Pilate grants Joseph the bod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under Roman law, a person convicted of treason could not be buried by friends or relati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remains would be disposed of by the Romans to prevent the burial site from becoming a rallying point for dissen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fact that Pilate grants the body goes back to the fact that Pilate never found Jesus guilty of treason, or any other crime worthy of dea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ther slap in the face of the Jewish leaders who had forced Pilate to execute Je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eparation for buri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9:39-4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codemus, another Sanhedrin member and secret believer, joins Josep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uld also be seen taking the body, becoming an open discip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rings 100 pounds of spices (myrrh and aloe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ody was wrapped in strips of linen with spices between the lay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head was wrapped separate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method of wrapping “strips” proves the ‘shroud of Turin’ to not belong to Jesus (the Jews did not use shrouds in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entur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piece shrouds became common during the dark and middle a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tomb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9:41-4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ter securely wrapping Jesus in strips of linen with the 100 pounds of sp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aced in a new tomb near the crucifixion si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d to be placed there before 6pm to avoid working on the Sabb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t 27:59-6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was Joseph’s own new tom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mbs were generally used for man generations by a single family due to expe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seph was a rich man (Mt 27:57), perhaps why he had a new tomb hewn for him near Jerusa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arge stone rolled across the entr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omen watched and saw the pl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does the burial of Jesus mean to us?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was dead when they placed him in the tomb, contrary to some theories that would explain away the resurrection of Jesus Christ from the de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is its significanc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 names it as one of the three central facts of the gospel (1Cor 15:1-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 tells us that not only were we baptized into Christ’s death, but that in our baptism we were als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uried with Hi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baptism (Rom 6:1-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died to sin when we were buried with Him in baptism!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bf1"/>
                </a:solidFill>
                <a:latin typeface="Arial"/>
              </a:rPr>
              <a:t>Burial of Jesus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9:31-4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day after Jesus had eaten the Passover with His discip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s hurried to try Jesus and find Him worthy of death for blasphem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s then forced Pilate into having Jesus crucified for treason by threatening to charge Pilate with treason before Caes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spent six hours upon the cross before dy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inal 3 hours the sun was darken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His death the earth shook and the temple veil was torn in two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firming His deat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9:31-3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s did not want the bodies to remain on the crosses during the Sabbath (Dt 21:22-2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specially since it was the Sabbath in the midst of the Feast of Unleavened Brea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mans did not normally break the legs of those being crucifi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point of crucifixion was to make the victim suffer for as long as possib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ith broken legs, the victim would no longer be able to exhale and would die within minut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firming His deat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9:3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later unbelievers have suggested that Jesus merely fain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one fainted on the cross, death would follow in minutes from asphyxi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omans would not be fooled by someone trying to fake de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killed people this way regularl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knew what a dead man looked lik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gns included red / purple blotches on the 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He didn’t raise His body to breathe, then He was dead after just a few minut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uld have seen Him breathe while they were breaking the legs of the thie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firming His deat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9:3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be extra certain He was dead, one soldier stabs Jesus with a spe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 sometimes think of it as an abdominal woun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the soldier was stabbing upwar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act that “blood and water” came out tells 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ther he pierced the heart or the lu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uring asphyxia there can be massive internal bleeding into the lungs and a swelling of the pericardium with a clear flu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He had been alive, there would have been spurting blood, not to mention the screams from the p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firming His deat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9:35-3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confirms that he saw the stabbing of Jesus and results thereo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so 2 prophecies were thus fulfilled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s 34:20 – not a bone broken (also seen in the Passover lambs – Ex 12:46, Num 9:12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Zech 12:10 – “they will look on Me whom they have pierced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could not have forced the fulfillment of either prophecy, yet they happen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sking for the bod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rk 15:42-4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seph of Arimath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prominent member of the Sanhedrin who had not consented to Jesus’ execution (Lk 23:50-51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ecret believer (Jn 19:38; 12:42-4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good, just man, who believed in and waited for the kingd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aking courage (Mk 14:43) – his act took him from ‘secret believer’ to ‘open disciple’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ght lose his place on Sanhedrin, removed from synagogue, or wor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firming His deat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rk 15:44-4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e wants to be certain Jesus was de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ks centurion (who oversaw the execution) if Jesus was “dead for some time” (NKJV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k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ala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“long ago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was some hours AFTER He had been seen to be dead and was stabb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He had moved at all afterward it would have been se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He hadn’t moved, He couldn’t have breathed, and would be de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centurion is certain there is no possibility Jesus was aliv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4:13:41Z</dcterms:created>
  <dc:creator>Glenn Hamilton</dc:creator>
  <dc:description/>
  <dc:language>en-US</dc:language>
  <cp:lastModifiedBy>Glenn Hamilton</cp:lastModifiedBy>
  <dcterms:modified xsi:type="dcterms:W3CDTF">2011-04-06T19:27:59Z</dcterms:modified>
  <cp:revision>3</cp:revision>
  <dc:subject/>
  <dc:title>Burial of Jesus</dc:title>
</cp:coreProperties>
</file>