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as paracle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ill not leave you “orphans” (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phan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d means bereaved or grieved, most often of those who lost par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will come to you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He refers to His Second co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o, then they would be bereaved for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He refers to His resurr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o, He was only coming for a short st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He is referring to the Spirit co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o, why did He say “I will come to you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another possi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see what else He says . .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rif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ly the world would see Jesus no m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ysically: His death and later ascen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guratively: Unwilling to believe and obey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ostles would se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ysically: After His resurr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guratively: By believing and obeying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of His life, they will l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lvation,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rif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that day . . . What da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y of His resurrection (v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y of His coming to them (v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y of the Spirit coming to them (v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ably the first, by proxim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know that Jesus is “in” the Father, and that they were “in” Jesus, and that Jesus was “in”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ever was meant in v17 about the Spirit being “in” them applies to all these other relationship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rif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4:21-2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it mean to be “in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have Jesus’ commandments and keep th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loving Chr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loved by the Fa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loved by Christ and will see Chr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Note: vv21&amp;23 make clear this promise is for all who love, believe and obey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as thinks a literal seeing as Philip had (v8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love and obey Jes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o be loved by the Fa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o have the Father and Son and the Spirit come and make their home with us (by our sid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not love Jesus is to not obey Hi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not obeying Jesus is not obeying the Fa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ulling it all toge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be “in”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must believe and obey (love Him, v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“in” Him, because we have united ourselves with His purp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are united with Him, then He is united with “in” 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Christ arose, all could see that He was “in” the Father (united with His purpos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are united with Him, and He is united with the Father, then we are united with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are all dwelling together, we are not al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pirit coming is just “another” one to be on our side to defend and give a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wants His followers to know they will not be alo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y stay faithful to the word of God, then God is with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y don’t obey or don’t stay faithful, then God is not with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more to say about the Spirit and His work, but that will be for later less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welling or Indwel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5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you hear the word “indwelling”, what do you think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eople think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bide within as a guiding forc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possess (a person) as a motivating forc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d simply means “to dwell in, inhabi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idea being that a spiritual power will somehow inhabit our bodies and control or motivate 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uch is taught by groups about the topic of “indwelling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do you realize the word does not appear in the text of any major English transl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roblem is we read “dwell” but somehow hear “indwell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some translations put in headers which may use the term “indwell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 there a difference between “dwelling” and “indwelling”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oesn’t scripture teach that the Spirit will be “in” u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 are looking at some promises Jesus made to His apost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lesson we will look at promises which some interpret as “indwell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di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looking at what is promised, realize He put conditions on that prom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ust love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ust keep His command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realize He is still addressing His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romise is specifically for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 promise has applicability to other believers, there must be proof of that elsewhe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Helper / Comfor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d Jesus uses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raklet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hich is only used 5 times in the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4 times in John 14-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ce in 1 Jn 2:1, translated “advocat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d literally means “called to one’s sid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who comes to another’s aid, def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glish word “paraclete” meaning “advocate, intercessor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saying the Father would send “another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is saying He is one, a paracle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imes we think of “helper” as a servant and a “comforter” as a shoulder to cry 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aclete is an active defen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ther paracle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s not the Father, but would come from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s not the Son, but would come as a result of the Son’s pray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would be able to aid / defe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would “dwell with them forever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not say “dwell in” or “indwell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who “dwells with” you at home, does not “dwell in” yo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romise to be at their side, defending and aiding – not controlling or gui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service will continue throughout earthly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ther paracle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o is the other paraclet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“Spirit of truth”, the Holy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erson, not a thing, a person of the Godh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ld cannot “receive” or “claim” His advocacy, because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ld does not see or know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discussed in an earlier lesson, to “see” or “know” God is to believe and obey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refuse to believe and obey will not have the Spirit working on their be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ther paracle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Jesus says “He dwells with you and will be in you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d “with” means “by your sid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an the Spirit be “in” the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Cor 6:19-20 we are a temple of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not a container of God, but a place of service, communication, and wor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fore we can fully answer the question of what Jesus meant, let’s see what else He has to say about the ide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05:38Z</dcterms:created>
  <dc:creator>Glenn E Hamilton</dc:creator>
  <dc:description/>
  <dc:language>en-US</dc:language>
  <cp:lastModifiedBy>Glenn E Hamilton</cp:lastModifiedBy>
  <dcterms:modified xsi:type="dcterms:W3CDTF">2010-11-17T18:22:15Z</dcterms:modified>
  <cp:revision>3</cp:revision>
  <dc:subject/>
  <dc:title>Indwelling</dc:title>
</cp:coreProperties>
</file>