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ever you as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is this a promise for all believer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believers are taught to ask (Mt 7:7-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there is a promise of an ans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believers are to do everything “in word or deed” in the Lord’s name (Col 3: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even have a specific example (James 5: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there any limits on the “whatever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ized – as already mentio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s glory to the Father in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ll that we think is best is really b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Jesus Himself prayed (Lk 22:41-4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made some promises to His apostles (and to future believer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though He was leaving, He was still going to be with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lping them to spread the gospel message because He lives in heav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swering prayers that are authorized and in accordance with God’s w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made still more promises, but we’ll look at those in future less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want those promis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why not faithfully obey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2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told His apostles that He will not be with them much long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ter asked for more information, and Jesus revealed He was going to His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prepare a place for them then retu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mas asked for more information on the way and the destin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e is the way and no one comes to the Father except through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ilip asked to see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if one knew Him, they saw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llowing-u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disciples are distraught that Jesus is leav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though He promised to return later and bring them with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 follows-up with more prom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ses made to those wh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lways, not faith only, but an obedient fai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want to limit what Jesus says here to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n He could have said “you” rather than “he who believes in 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promise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ks that I do he will do also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reater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than these he will do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problem is that we assume “works” refers to His mirac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postles could do some miraculous work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piritual gifts have died out (1 Cor 13:8-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if “works” means ‘miracles’, could the apostles claim to do “greater works” than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id some similar works, but certainly none greater in po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reater wor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fact the word “greater” here (Grk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meiz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means “larger, more”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‘mightier’ (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schu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(Mat 3: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romise of more 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over their lifetimes the apostles did more miracles (though no real proof of tha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still doesn’t answer why He says it is a promise for those wh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the word “works” just means ‘deeds, actions, labors’ (used 177 times in NT of both good and evil, human and divine actio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reater wor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promised that those who believe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do works like He d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rtainly Christians should do that (1 Jn 2:6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do more works than He d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ither cumulatively more wor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that we do better or more powerful 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 possibly individually (due to longer lif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 possibly in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made a few hundred (or maybe a few thousand) dis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’ followers have made millions of disciples of Chr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s sense with Jesus’ explanation “because I go to My Father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le to do more because of the proof of His resurrection and ascen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promi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3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promise is made to “you” rather than “he” as in verse 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the promise is made specifically to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a general promise to believers including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a specific promise to the apostles that may have some applicability to other believ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know He is addressing the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any of these promises have applicability for other believers should be approached cautiously and with other confirm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ever you as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want to read this as a ‘blank check’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for ‘whatever’, and just put it on Jesus’ tab by saying “in Jesus’ na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if it doesn’t happen, they feel che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lose their ‘faith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“in My name” isn’t a ‘tag-line’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 3: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His name” means ‘with His authority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uthority must come FIR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ask for something that is authorized, then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5:15:19Z</dcterms:created>
  <dc:creator>Glenn E Hamilton</dc:creator>
  <dc:description/>
  <dc:language>en-US</dc:language>
  <cp:lastModifiedBy>Glenn E Hamilton</cp:lastModifiedBy>
  <dcterms:modified xsi:type="dcterms:W3CDTF">2010-11-10T17:16:52Z</dcterms:modified>
  <cp:revision>4</cp:revision>
  <dc:subject/>
  <dc:title>Promises</dc:title>
</cp:coreProperties>
</file>