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mocking crow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3:35-3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emptation Christ bore on our behalf!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fully able, not only to come down from the cross, but to destroy these men along with the world that He had created (Col 1:15-1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commitment Jesus showed in staying where He did not want to be, but needed to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wondrous love He demonstrated toward these miserable sinners and toward us as well (1Pet 2:21-24, 3:13-18, 4:12-1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hie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ke 23:39-4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thief acted like the crowd out of selfish desires to be f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ther shows great understa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knew Jesus was innocent, just as he knew that he was on the cross because he deserved i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knew Jesus was Go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knew Jesus was King and that His kingdom was not of this world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knew Jesus would receive his kingdom after his death!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thing even the apostles didn’t seem to gra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 while suffering, Jesus gave forgiveness to ano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uch was His right and power as God (Mt 9:2-8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s moth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25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id Jesus make these arrangements for His mother’s car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ad living brothers who later came to believe o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perhaps because they did not yet believe, He knew that it would be best if John cared for 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 while approaching death, Jesus was mindful of His duty to honor His mother by caring for 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e’ll look at the end of His crucifixion in our next les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r now think about what He demonstrated there upon the cro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humanity and His de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love, compassion, and forgive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kingship, authority, and pow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ommitment to our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rucifix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17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ish leaders had determined to kill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ilate found Jesus to be not guilty of any crime worthy of dea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because the Jews threatened to tell Caesar that he was disloyal, he gave 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out finding Jesus guilty, he gave permission to have Jesus executed by crucifix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19:1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short summary, but we’ll look at the other gospels to add some details and learn more about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rrying the cros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oman condemned prisoners carried the crossbar (not the entire cross) to the site of execu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ut 125 pou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all His back was already flogg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urple robe was remov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3: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pparently was unable to carry His cross all the way out to the crucifixion s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ugh the Son of God, He wasn’t superhum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uffered the limitations of human flesh, just as we all do (Heb 2:9-1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ern for oth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ke 23:27-3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we learn that Jesus was lo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t all wanted Him crucified, many were mourn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that He loved the peo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ough He was suffering to the point of weakne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ough He was being led to His death,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was more concerned for the people’s future than His own (Mt 23:37-38, a few days earlier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eople who treated Him so shamefully and yet whom He loved (not just those of that day, Rom 5:8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isible demonstration of God’s love for 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sus points out that the future is bleak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rulers, both Jewish and Roman, will crucify an innocent, righteous man (green wood) . . 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will happen when destructive forces are turned on a wicked and rebellious people (dry wood)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ullness of His suffer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k 14:2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tried to give Him wine mingled with myrr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reason was to dull the pain as nails were driven into hands and feet and the cross dropped into its ho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refused, choosing to experience suffering fu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thing was held bac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sus had options – Man was not forcing the Son of God to the cross, though it might so appear (Heb 5:7-9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, Jesus wasn’t looking forward to dea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He understood the necessity of His dea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He faced it fully taking nothing to even dull the p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orgivenes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k 23:32-3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y crucified Him with 2 thieves (Is 53:1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praying to the Father to forgive them of what they were doing in ignoranc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did not fully comprehend who it was they were killing nor the consequences of that deat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y had, they would not have crucified Him (1Cor 2:7-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lived by his teachings (Mt 5:44-4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nscrip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9:19-2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rime was inscribed above those being crucif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Jews realized the wording “The King of the Jews” meant Jesus was their k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ing the crime treason against Ro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making the Jewish leaders guilty of treason against their 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wanted it written “He said he was the king of the Jews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ing the charge blasphem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ilate unwilling to compromi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had forced Pilate to condemn Jesus because of trea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 Pilate puts a charge that points out the guilt of the Jewish leaders – they killed their 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ividing His gar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23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phecy should amaze us (Ps 22:1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ritten by David almost 1000 years pri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involved would not have known the prophecy (Roman soldier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ould they be interested in aiding the fulfillment there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t, God had the power to bring about even this small detai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hasizes the point that Jesus’ death was not acciden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had acted as God had determined (Acts 2:22-2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7:40:06Z</dcterms:created>
  <dc:creator>Glenn Hamilton</dc:creator>
  <dc:description/>
  <dc:language>en-US</dc:language>
  <cp:lastModifiedBy>Glenn Hamilton</cp:lastModifiedBy>
  <dcterms:modified xsi:type="dcterms:W3CDTF">2011-03-15T21:24:08Z</dcterms:modified>
  <cp:revision>3</cp:revision>
  <dc:subject/>
  <dc:title>Slide 1</dc:title>
</cp:coreProperties>
</file>