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hen and where do we show our lov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our commun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of the world won’t see us in our assem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y’ll see our love or lack of it everywhere el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erhaps we work with other Christia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the world see the difference in the way we deal with those brethren (employers / employees/ fellow-workers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ho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erhaps we have family or neighbors that are Christia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the world see your sacrificial love for the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scho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erhaps we have teachers or fellow-students who are Christians, can others tell who they are by our a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our community see our love? Eph 4:32, Col 3:12-1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gave a powerful tool to persuade the world that we are His discip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rtainly we show our discipleship by faithfulness to His doctrine (Jn 8:3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the world will care little about doctrine until they see it in actions they can appreciate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ow is your love for your brother in Christ?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it a Christ-like, sacrificial love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it observable in all aspects of our life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ove One Anoth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3:31-3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t is the Passover which began Thursday even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nd His 12 apostles are gathered in an upper room where they ate the meal toge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postles were still bickering about who would be greatest in the kingd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washed their feet to show that they should all be servants, not lord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nnounced He would be betrayed and identified Judas as the betray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udas lef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Jesus has some further things to teach His remaining apost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lory (Honor, Magnify)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3:31-3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has often equated His glorification with His death, burial and resurrection (Jn 12:2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and the Father have spoken of the same as glorifying the Father (Jn 12:27-28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the departure of Judas, everything has been set in mo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will be glorified, and that is so certain in His mind, He speaks of it as finish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if the Son is glorified, then God is glorified through the actions of the S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if God is glorified through the Son, then God is glorified will give glory to the Son and will do so quickl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re I am go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3:3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had already told the Jews He was going somewhere they could not come (Jn 7:34-36; 8:21-2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Jews didn’t understand where He was go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n though He explained it to them (Jn 8:23-2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Jesus tells His apostles that He is leaving them as we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ur next lesson will look at His leaving in more detai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new command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3:34-3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ys He has a new command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what was “new” about i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command to love was not ne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v 19:1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t 22:37-4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depth /quality of that love has chang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s “as you love yourself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w “as I have loved you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acrificial love (John 15:13; Eph 5:1-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new command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else made this commandment “new”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visible and distinguishing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just words but deeds (1 Jn 3:16-18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uld be recognized by the world (unbelievers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ligions are distinguished b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ood they e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lothes they we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ir tit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ir educa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ir social programs, et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the world see that you are a Christian without being tol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uld it surprise others to learn that you are a Christia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ow do we develop this lov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aught by Go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Thes 4:9-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does He teach us? 1 Jn 4:7-11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His example, sending His Son to die for us while we were in s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aught by Jesu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Jn 3:1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more you think about and appreciate what Jesus did, the more likely you’ll show lov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tirred up by the brethr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b 10:24-2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e reason some don’t love as they should is that they don’t assemble as they shoul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hen and where do we show our lov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our assembl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we are assembled and have visitors, we have an opportunity to demonstrate our love for one anoth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do visitors see?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they see Christians who..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glad to see one another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willing to take the time to visit with each other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 each other's problems and concerns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not think they need one another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3:31:44Z</dcterms:created>
  <dc:creator>Glenn E Hamilton</dc:creator>
  <dc:description/>
  <dc:language>en-US</dc:language>
  <cp:lastModifiedBy>Glenn E Hamilton</cp:lastModifiedBy>
  <dcterms:modified xsi:type="dcterms:W3CDTF">2010-10-13T16:05:37Z</dcterms:modified>
  <cp:revision>6</cp:revision>
  <dc:subject/>
  <dc:title>Love One Another</dc:title>
</cp:coreProperties>
</file>