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worldencyclopedia.org/entry/Image:Sea-of-Galilee-1900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o are you?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question none dared to as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would they have wanted to ask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ither He was again in “another form” (Mk 16:1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they would simply have liked some confirmation of what they kne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some time has passed since the last time they saw Him aliv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haps some doubts had been setting 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didn’t they dare ask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st time they had questioned what they saw He rebuked them for their unbelief (Lk 24:37-3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wanted to be the one who said they doubted what they sa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keptics want people to believe that the story of the resurrection was a deception thought up by the discip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the disciples themselves were doubters, not decei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to be presented with evidence over and over and over ag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t is the accumulation of that evidence that gives us the basis for our belie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you believ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you ready to act on that belief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eakfast by the Se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21:1-1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arose on a Sunday morn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wed Himself to Mary Magdalene, 3 other women, Peter, and 2 disciples on the ro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t evening showed Himself to the other apostles (except Thoma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ght days later, showed Himself to Thom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some point Jesus showed Himself to more than 500 disciples (1 Cor 15:6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He showed Himself to James (1Cor 15: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 may sometimes think Jesus spent all 40 days between His resurrection and ascension with His apost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He only appeared to them on a few occa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ack to Galile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 angel told the women at the tomb to tell the disciples to meet Jesus in Galilee (Mt 28:5-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Jesus Himself tells the same women to tell the disciples to go to Galilee (Mt 28: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the disciples didn’t believe the wom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Jesus appears to them that evening, and then again 8 days la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were still in Jerusal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ventually they did follow instructions and returned to Galilee (Mt 28:1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they were in Galilee awaiting Jesus . . 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oing Fish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21:1-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all remaining apostles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lilee was ho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(and perhaps most) o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m had been fishermen 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ea of Galil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had been 3 years since they walked away from their boats to go fishing for men (Lk 5:1-11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ter announces he is going fish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’t know if he is thinking to return to his prior occupation or just finding something to d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ther fishermen among the apostles (James, John, Thomas, Nathanael (Bartholomew), and 2 others – one is probably Andrew) join hi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on Peter’s last night fishing, they catch noth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Fisherman in the Sea of Galilee, 1890-1900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43640" y="0"/>
            <a:ext cx="36003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oing Fish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21:4-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day dawns they are returning to sh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is not recognized (either miraculous or just the darkness and distance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call asking if they had caught anything was probably a common occurrence for returning fisherme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response to cast to the right and find fish would have been od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they do it, and catch a huge multitude of fis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had also happened the last time Peter went fish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t is the Lord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21: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though at least 4 of them had been present 3 years before, John is the first to realize what the current catch mea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tells Pet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er reacts first by putting on his outer garment, which had earlier taken of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“naked” as in no clothes, but rather inappropriately cloth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as only wearing an inner tunic befo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xt, Peter jumps into the s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t is the Lord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y did Peter jump into the sea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feel he was in a hurry to go see Jesus and swam to sh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only 100 yards from shore, and Galilee is less than 3 feet deep that close to sho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s the large catch that much more astou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so, why put on more clothes if trying to swim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ourse he could still just be wading to sho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ater temp for that time of year is about 64 degrees F (which may also explain the outer garmen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other possibility is that he was getting in the water to help get the boat and net ash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ming asho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21:8-1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er does not appear to have gotten to shore any quicker than Joh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ter was there to drag the net asho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someone took time to count how many  large fish -15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racles in the catch location, the size and amount, and the net not brea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cooks breakfast for them and bids them to eat the fish and bre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reminding them of similar meals in the past (like the feeding of the 5,00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3:57:16Z</dcterms:created>
  <dc:creator>Glenn Hamilton</dc:creator>
  <dc:description/>
  <dc:language>en-US</dc:language>
  <cp:lastModifiedBy>Glenn Hamilton</cp:lastModifiedBy>
  <dcterms:modified xsi:type="dcterms:W3CDTF">2011-04-26T17:28:53Z</dcterms:modified>
  <cp:revision>7</cp:revision>
  <dc:subject/>
  <dc:title>Slide 1</dc:title>
</cp:coreProperties>
</file>