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rue worshipper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God wants true worshippers (Jn 4:23-24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those who seek to appeal to the physica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andles, incense, instruments, clapping, dancing, hand-holding, vestments, etc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ut who will worship Him in spiri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those who do not follow His w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Whether deliberately or ignorantly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ut who will worship Him in truth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Are you a true worshipper of God?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ill you lay aside all that is not in the truth of God’s word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ill you worship Him in spirit rather than trying to worship Him with only the physical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f so, God is seeking you to worship Hi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Won’t you answer His call?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rue Worship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John 4:20-24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At Jacob's well, Jesus and the Samaritan woman discussed the matter of worship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amaritans and Jews differed as to where one should worship (Jn 4:20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Samaritans believed they should worship on Mt. Gerizim 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Jews understood that it should be in Jerusalem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Jesus said the time was coming for a different kind of worship (Jn 4:21-24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Where worship would not be defined by its location (though Jews had been right)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Where true worshippers would worship the Father in spirit and truth 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Question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What did Jesus mean by “in spirit and truth”?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Is there a correct place for worship?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When would the change Jesus refers to be made and why?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Worship in spiri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Jesus began by saying “God is Spirit . . .”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worship of God is to be “in spirit” (i.e., spiritual)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f course, God always required spiritual worship (Deut 6:4-7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he problem was that the Jews had substituted physical compliance for spiritual worship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sa 1:10-18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he physical was merely to be a shadow of the spiritual (Col 2:16-17; Heb 10:1)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Worship in spiri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NT worship is less physical and more spiritua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od's temple is now spiritual, made up of Christians (1 Cor 3:16; Eph 2:19-22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l Christians are priests, offering up spiritual sacrifices (1 Pet 2:5,9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r prayers are as sweet incense (Rev 5:8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r music (from the lips – Heb 13:15) is making melody with the heart, not the harp (Eph 5:19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Lord's Supper, though with physical emblems, is a memorial (Acts 20:7; 1 Cor 10:16-17, 11:17-34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iritual sacrifices of service (Rom 12:1-2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Worship in truth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worship of God is to be in truth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od’s word is truth (Jn 17:17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So worship in truth is worship in accordance with God’s word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od always demanded worship in truth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Deut 5:32-33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Jesus even admitted the Jews had the truth as to the place of worship (Jn 4:2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Some changed the truth (Matt 15:1-9)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Others were ignorant of the truth (Acts 17:22-31)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Others made-up a “truth” (Col 2:18-23)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r worship will have to be according to truth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Matt 7:21-23 – doing the will of the Father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Worship today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Is there a correct place for worship?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on Mt Gerizim and not Jerusalem (Jn 4:21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Jerusalem had been the correct place for the Jews (Jn 4:22)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nce worship would be spiritual . . 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Worship would still be in the temple, but the temple would no longer be the building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 Cor 3:16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Sacrifices become a part of daily life (Rom 12:1-2)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Worship today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When would the change take place?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Jesus said “the hour is coming” (Jn 4:21) when the place of worship would chang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Jesus said “the hour is coming , and now is” (Jn 4:23) when true worshippers would worship in spirit and truth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God always desired worship in spirit and truth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 even at that moment under the Law there were true worshipp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But the time was coming when it would be clearer, when the Old Law was taken away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eb 8:7-13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3T13:57:38Z</dcterms:created>
  <dc:creator>Glenn E Hamilton</dc:creator>
  <dc:description/>
  <dc:language>en-US</dc:language>
  <cp:lastModifiedBy>Glenn E Hamilton</cp:lastModifiedBy>
  <dcterms:modified xsi:type="dcterms:W3CDTF">2010-03-03T15:26:53Z</dcterms:modified>
  <cp:revision>3</cp:revision>
  <dc:subject/>
  <dc:title>True Worship</dc:title>
</cp:coreProperties>
</file>