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Lif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is the life (Jn 14:6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kind of life does He have to offer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n 10:10 – abundant lif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n 11:25-26 – eternal lif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n 14:27 – peaceful lif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n 15:9-10 – loving life (Jn 13:34-35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n 15:11 – joyful lif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can we receive that lif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n 3:3-5 – must be born again (Acts 2:38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n 15:10-14 – must obey to His command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is truly the way, the truth, and the lif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way to knowing and experience God as our Heavenly Fathe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embodiment of truth that provides freedom from the guilt and bondage of si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ource of life that is blessed now and lasts forever!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as Jesus become your way to God, your truth, and your life?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Way,</a:t>
            </a:r>
            <a:br>
              <a:rPr sz="4400"/>
            </a:b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Truth,</a:t>
            </a:r>
            <a:br>
              <a:rPr sz="4400"/>
            </a:b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d The Lif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4:4-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has told His apostles that He will not be with them much long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had told them earlier He would be crucifi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told them they would not be able to come with Him, but could follow la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fter Peter asked for more information, Jesus revealed He was going to His Fath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would prepare a place for th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n He would return for th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inding the Wa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4:4-5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concludes His remark by saying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know where He is go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ven, from His preceding stat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know the wa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omas says he doesn’t understa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dn’t catch the meaning of Jesus going to His Father’s hous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d if you don’t know where, then you can’t know the wa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 am . . 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4: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’ answer to Thoma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 am the way, the truth, and the lif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 one comes to the Father except through M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ain the answer to where He is going is “to the Father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addition, He says He is the way to the Fa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exactly what did Jesus mean by saying He is the way, the truth, and the life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Wa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clearly said He is the ONLY way to the Father (Jn 14:6b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ter later said the same (Acts 4:1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seem too exclusive in our politically correct culture, but it is what Jesus sai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ow is Jesus the Way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y revealing the Fath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n 14:7-9; 1:18; 12:44-45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y opening the way to draw near to the Fath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b 10:19-20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y serving as our high pries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b 2:17-18; 4:14-16; 10:21-22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y interceding for us (Rom 8:34; Heb 7:24-25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our Advocate (1Jn 2:1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our only Mediator (1Tim 2:5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y virtue of His life on earth, His death on the cross, and now His service in heaven, Jesus is truly the only way to God!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Truth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also claimed to be “the truth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what is truth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question posed by Pontius Pilate (Jn 18:37-38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sider the meaning of the Greek words translated as "true" and "truth"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s defined in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Vine’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ue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leth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- "unconcealed, manifest...actual, true to fact"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ue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lethino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- "denotes 'true' in the sense of 'real, ideal, genuine;'"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uth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lethei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"objectively, signifying 'the reality lying at the basis of an appearance; the manifested, veritable essence of a matter' (Cremer)“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"subjectively, 'truthfulness,' 'truth,' not merely verbal, but sincerity and integrity of character"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hen Jesus speaks of truth (Jn 14:6, 18:37), He uses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letheia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objectivel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cribes that which is reality, factual, and absolute, not relativ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ow is Jesus the Truth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e proclaimed that truth is real and knowable (Jn 8:31-3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proclaimed that truth can set one free from the bondage of sin (Jn 8:32-34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is word is the way to truth that frees one from sin (Jn 8:31, 34-36)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e faithfully proclaimed His Father's Word, which is truth (Jn 17:14, 17)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y abiding in Jesus' teachings, we can know the truth (the absolute reality) and the freedom it offers!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2:32:48Z</dcterms:created>
  <dc:creator>Glenn E Hamilton</dc:creator>
  <dc:description/>
  <dc:language>en-US</dc:language>
  <cp:lastModifiedBy>Glenn E Hamilton</cp:lastModifiedBy>
  <dcterms:modified xsi:type="dcterms:W3CDTF">2010-10-27T14:41:28Z</dcterms:modified>
  <cp:revision>4</cp:revision>
  <dc:subject/>
  <dc:title>The Way The Truth and The Life</dc:title>
</cp:coreProperties>
</file>