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we honor the 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5: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seeking the Father’s w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that the Father gave Jesus to do, He d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"food" was to do the Father's will (Jn 4:3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came down from heaven to do the Father's will (Jn 6: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glorified the Father by doing the work He was given to do (Jn 17: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nts us to do His Father's w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wise we will not enter the kingdom of heaven (Mt 7:21-2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wise we will not be part of His family          (Mt 12:46-50)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 should honor the Father and the 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 5:12-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should honor Them now by believing and obeying the Word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that we can be forgiven and made ali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 will one day honor both the Father and the 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for those who did not do so in life, it will be too late to save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nor the 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16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provoked much controversy during His earthly minist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He healed on the Sabbath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5:1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wanted to kill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of His answer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5:17-1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wanted even more to kill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understood He was making Himself equal with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already looked at this truth (Jn 1:1-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ather and the 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explains (Jn 5:19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works every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swering prayers, maintaining His creation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on does the works of God on the Sabb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aling the sick, showing mercy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s realized that a Son is of the same nature as the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if Jesus claimed to be the Son of God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He was claiming the same nature as the Father (Phil 2:5-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nor the 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5:20-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the Jews they should honor the Son just as they honor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lear claim by Jesus to the exact same worship as given to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equal in nat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had not misunderstood His earlier state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hould they (and we) honor the S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 Jesus offer proof for His claim to honor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honor the So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cause the Father loves the 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of? The works Jesus has done including the Sabbath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3:1-2 (“We know . . .”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proof? Greater 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ould raise the de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irus’ daughter (Mk 5:21-4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n of the widow of Nain (Lk 7:11-1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zarus (Jn 1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greatest life-giving would be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Cor 15:2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ill say more about this in a mo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honor the So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cause the Father has given judgment to the 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necessary if He is going to give life to s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lready made the same claim (Jn 3:17-1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explains more fully (Jn 12:44-5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udgment will be based on the words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 by the Father to the Son to m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honor the So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cause the Son offers eternal lif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5:24-2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sed on the fact that He has authority to jud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He must have authority to sa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salvation “is coming and now is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began in Jesus ministry, but not fully realized until after His death and resurr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dead” in v25 would be the spiritually d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how do we honor the So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we honor the 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5:24-2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hearing His voice 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day ALL will honor Him by hearing His vo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ve or dead, righteous or unrighte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 2:9-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hear Him NOW, we can have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wait to hear Him on that day, we will have condemn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“hearing” requires belief and obed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k 6:46-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8:31-3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50:21Z</dcterms:created>
  <dc:creator>Glenn E Hamilton</dc:creator>
  <dc:description/>
  <dc:language>en-US</dc:language>
  <cp:lastModifiedBy>Glenn E Hamilton</cp:lastModifiedBy>
  <dcterms:modified xsi:type="dcterms:W3CDTF">2010-03-31T18:11:08Z</dcterms:modified>
  <cp:revision>4</cp:revision>
  <dc:subject/>
  <dc:title>Honor the Son</dc:title>
</cp:coreProperties>
</file>