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at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ome people spend a lot of time trying to show “water” isn’t really wat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writer came up with 5 completely different and unrelated explan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ut before the 1500s no one thought Jesus meant anything other than water baptis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is not any one Christian writer of any antiquity in any language but what understands it [Jn 3:5] of baptism . . . . I believe Calvin was the first that ever denied this place to mean baptism. He gives it another interpretation, which he confesses to be new." - William Wall (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story of Infant Baptis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ater and the Spiri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ater is present in physical birt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hild comes out of the wa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ater is present in spiritual birt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hild of God comes out of the wa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cts 2:38-41, 8:35-39, 16:15, 32-33; 1 Pet 3:20-22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Spirit acts upon our spirit when we are immersed in the water (Titus 3:5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pirit also provided the words which convicted us of sin leading us to baptis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 Pet 1:22-25; Jn 16:7-13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vidence of spiritual birth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3:6-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physical birth, you see the physical body and can tell birth has happen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will there be evidence of spiritual birth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 direct evide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ke the wind (Grk word is same as Spirit) which can be detected by indirect means (sound, effect on other thing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idence of spiritual birth can be shown indirec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water is only evidence of wa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 evidence one was born of water and the Spiri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f course, the absence of water would show no spiritual birth had taken pla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vidence of spiritual birth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doesn’t immediately explain the evidences of spiritual birt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icodemus asks a question and the conversation heads in a slightly different dir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e’ll look at that in our next less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ut elsewhere, Jesus does tell us . . 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t 7:16-2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y their fruit (Gal 5:22-24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y their obedience (1 Jn 5:3; Jms 2:17-19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aith alone and feelings are not evidence of spiritual birth (as water alone would not be evidence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o you want to see the kingdom of God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o you want to enter the kingdom of God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you answer, “Yes”, then why not obey the Lord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 born again; born of water and the Spir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k 16:15-16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orn Agai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3:1-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any religious people use the term “born again Christian”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erm is actually repeti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o be “born again” means to become a Christia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f you weren’t “born again” then you didn’t become a Christia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f you are a Christian, then you were “born again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 this lesson we’ll see how Jesus explained this concept to a Jew named Nicodemu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Nicodemu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3:1-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 Pharisee and a ruler of the Jew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the strictest religious se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had asked John the Baptizer if he was the Christ (Jn 1:19-27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ould have known John’s answer that someone greater was among the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member of the Sanhedrin, ruling counci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ame to Jesus at n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wanting anyone to notice (Jn 12:42-43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Nicodemu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alled Jesus, “Rabbi” meaning “my master”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ten used as an honorific for a teacher or superi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aid “we know”, who are the “we”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ld be the Sanhedr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ld be the Pharise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ld be the Jew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ed “know” Grk 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eid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meaning “see, perceive”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the Greek word for definite knowled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d seen the miracles and understood the necessity of God’s approv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swering the need for a sign (Jn 2:19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orn agai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3: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“see” the kingdom of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sed 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eido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like Nicodemus had used i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ying if you are not “born again”, then you won’t really “see” the kingdom of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Jews had been looking for an earthly king and kingdom which all could se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says it won’t happ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ust as they could “see” the signs and still not completely believe and know He was Chri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lling Nicodemus he would have to do better than his opening statement indicated if he hoped to see the kingdom of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kingdom of Go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at kingdom were they speaking of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icodemus probably thought in terms of a physical kingdom with the Christ as k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knew that was not the plan of Go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k 17:20-21; Jn 18:36-3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is trying to get Nicodemus to understand the spiritual nature of the kingd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orn a second time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3:4-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icodemus gets stuck at “born again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d He mean an physical second birth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ow could such a second birth be possible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says He is not talking physical bir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at only brings physical lif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irth He spoke of was to bring spiritual lif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ust be born of water and the Spiri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2 births (born of water and born of the Spirit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one singular birth with two essential components (Titus 3: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kingdom of Go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otice that the spiritual birth Jesus speaks of is to “enter” the kingdo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is not enough for someone to just “see” the kingd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kingdom is where people are who are being saved (Col 1:12-13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to enter that kingdom one must be born of water and the Spiri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4:44:23Z</dcterms:created>
  <dc:creator>Glenn E Hamilton</dc:creator>
  <dc:description/>
  <dc:language>en-US</dc:language>
  <cp:lastModifiedBy>Glenn E Hamilton</cp:lastModifiedBy>
  <dcterms:modified xsi:type="dcterms:W3CDTF">2010-01-27T17:32:05Z</dcterms:modified>
  <cp:revision>3</cp:revision>
  <dc:subject/>
  <dc:title>Born Again</dc:title>
</cp:coreProperties>
</file>