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f we take Jesus' prayer seriously, we will do all we can to . . 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hieve un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 faithfull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lk in lo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re you doing your part to see that His prayer is answered?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bf1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e3ebf1"/>
                </a:solidFill>
                <a:latin typeface="Arial"/>
              </a:rPr>
              <a:t>For Those Who Will Believe”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Lord’s Pray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t 3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7:20-26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s the gathering in the upper room ends, Jesus pray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’ prayer can be divided into three part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petition for Himsel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ather, . . . glorify Your Son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petition for His apost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ayed for their unity, joy, strength, and sanctifica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petition for all future believ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s we’ll see it is similar to His prayer for the apostl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 prayer for unit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n 17:20-23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natur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of the oneness Jesus desir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He and the Father are o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gether with the Father and the S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urpos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of the oneness Jesus desir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at the world may believe the Father sent the S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at the world may know the Father sent Jesus, and loves the obedient followers of His S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mean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to the oneness Jesus desir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glory which God gave Chris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glory of being children of God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Christ had by nature and right (Jn 17:5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we have by faith, love and adoption (Jn 1:12; 1Jn 3:1; Eph 1:3-6; Gal 3:26-4:7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 prayer for salv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17:24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we be with Him where He 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 heaven, as He had mentioned earlier (Jn 14:3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we behold His glory given to Him by the Father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at glory prayed for earlier (Jn 17:1-5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eternal glory He had with the Father before the world wa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the Father loved Him before the creation of the worl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Glory like that depicted in the visions of Revelation (Rev 5:6-14)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 prayer for lov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17:25-26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ather has loved us (v23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anifested by sending His Son (Jn 3:16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anifested by offering Him as a propitiation (1Jn 4:10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ather does and will love us (v26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ith the same love He has for His Son!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r all who know the Father and Son (v25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nowing is belief and obedience (1Jn 2:3-6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eping His commandments (Jn 14:21,23)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at is what Jesus prayed for us, but what is our responsibility in fulfilling His prayer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o strive for and achieve unit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reserving the unity of the Spirit (Eph 4:1-6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lowliness, patience, gentleness, forbearance, and lo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unity that is also doctrinally pure (one Lord, one faith, one baptism, etc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aining unity of mind and judgment (1 Cor 1:10-13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having the mind of Christ (Phil 2:1-8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at the world might know that God loves us and has sent His Son (Jn 17:21, 2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o live faithfull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o remain steadfast to the end (Heb 3:12-14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 is a real danger of developing a heart of unbelie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are partakers of Christ (and His glory) if, and only if, we remain steadfast to the end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o receive the crown of life (Rev 2:10, 3:21-2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must remain faithful till death, even if it causes our dea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must overcome if we are to sit with Him on His thr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at we might behold His glory in heaven and throughout eternity (Jn 17:24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o walk in lov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ove for God  (Mt 22:37-38; Jn 14:15, 2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greatest commandment of the Old Law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monstrated by keeping the commandments of the Lord (1Jn 5:3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ove for God’s children (1Jn 5: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so demonstrated by keeping the commandments of G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itating God who loved us (Eph 5:1-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at we might remain in His love (Jn 17:26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4:50:07Z</dcterms:created>
  <dc:creator>Glenn Hamilton</dc:creator>
  <dc:description/>
  <dc:language>en-US</dc:language>
  <cp:lastModifiedBy>Glenn Hamilton</cp:lastModifiedBy>
  <dcterms:modified xsi:type="dcterms:W3CDTF">2011-01-12T17:46:53Z</dcterms:modified>
  <cp:revision>7</cp:revision>
  <dc:subject/>
  <dc:title>For Those Who Will Believe</dc:title>
</cp:coreProperties>
</file>