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His Revel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"No one has seen God at any time. The only begotten Son, who is in the bosom of the Father, He has declared Him" (Jn 1: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denying that men had witnessed manifestations of God, as when he appeared to Moses and the prophets (e.g., Num 12: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her that no one had seen the essence of God or fully known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 God told Moses (Ex 33:18-20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rophets delivered what they heard God spea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revealed God as His equal, understanding fully His nature “in the bosom of the Fathe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declared the Father as no one had done before!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Jesus told Philip (Jn 14:9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Jesus expressed in His prayer (Jn 17:6,24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written in the epistles (Col 1:15; Heb 1:1-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e too can behold His gl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Cor 3: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behold His glory in the mirror of God’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ritten by those who saw, heard and touched  (1Jn 1:1-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d by signs (Heb 2:2-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eeing His glory we are to be transform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o the image of His Son (Rom 8:29, 12:1-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one day we will see Him in all His gl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 3:1-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p 2:9-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the Word became flesh and dwelt among us, and we beheld His glory . . .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may not have seen Jesus in the flesh, but we can still behold His glory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ough the testimony of His apostles and the Word of Go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Jesus comes again to be revealed in His glor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ill we do with the glory of Jesus as declared by His apostl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should let it transform our lives as we behold the glory of the L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when Christ comes, He will be glorified in us, and we in Him! (2 Thes 1:10-12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y Beheld His Gl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:14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last few verses of the prologue (Jn 1:1-1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identifies the Wor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was in the beginning with God, and was God (Jn 1:1-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ough whom all things were made (Jn 1: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was life, and the light of men (Jn 1:4-5, 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came into the world, though many did not receive Him (Jn 1:10-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t those who received Him, were given the right to become children of God (Jn 1:12-13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d was Jesus Chris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came flesh and lived among men (v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glory was seen by men (v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d "glory" as used here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s "majesty, dignity, splendor" (Barn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s “magnificence, excellence, preeminence, dignity, grace” (Thay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taining to Christ, it refers to His personal excellence or majes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writes, "We beheld His glory"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majesty, dignity, magnificence, preeminence, grace or splendor did John and others see in Jesus when He walked in the flesh among 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the Incar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d became flesh and dwelt among us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, the Word, came into a fleshly exist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me” 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ginoma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“to come into existence, aris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at he newly existed, for He was eternally God (Jn 1:1-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at he took on a new form, fle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did so to dwell among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welt” 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keno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“tented, tabernacle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‘pitched His tent with us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es the temporary nature of His vis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inds us of God who dwelt with Israel in the tent (tabernacle) – He came to show us the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His De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"the glory as of the only begotten of the Father" (v1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"The dignity which was appropriate to the only begotten Son of God" (Barnes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or splendor that could belong to no other, because it expressed His rank and charact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lory that was clearly seen at the  transfiguration (Lk 9:28-32; 2 Pet 1:16-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that was also seen in His miracles, His doctrine, His resurrection, and His ascension (Jn 2: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the Son of God could say and do such thing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His Gr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"full of grace . . . grace for grace . . . grace and truth came through Jesus" (Jn 1:14, 16-1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e means a gift or fav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s full of grace – kind, merciful gracious, doing good to 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His grace led to more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ltimately to His gift of His own life to save ou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t He did not just reveal His grace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His Tru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"full of grace and truth . . . grace and truth came through Jesus Christ“ (Jn 1:14,17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declared the tru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th of God’s word (Jn 17: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lived the word, He taught the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he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His life He showed how man should have liv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howed the truth of our sinful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ruth shows the deservedness of punishment for si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His Preemin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who comes after me is preferred before me for He was before me” (Jn 1:15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ferred”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ginoma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ans “came into existence, arose” (same as “became” in v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before me”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mprosthen m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ans “in front of 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birth order, but preeminence, import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before me”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tos m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ans “first in ti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first, prexist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rist was preexistent and remains preemin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16:10Z</dcterms:created>
  <dc:creator>Glenn E Hamilton</dc:creator>
  <dc:description/>
  <dc:language>en-US</dc:language>
  <cp:lastModifiedBy>Glenn E Hamilton</cp:lastModifiedBy>
  <dcterms:modified xsi:type="dcterms:W3CDTF">2009-12-22T16:14:33Z</dcterms:modified>
  <cp:revision>3</cp:revision>
  <dc:subject/>
  <dc:title>They Beheld His Glory</dc:title>
</cp:coreProperties>
</file>