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ru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25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who love the life they have will only have that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no matter how you try, you can’t keep that life forev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who hate life in this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realize this word has nothing of lasting good (1 Jn 2:15-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are the ones who will keep the reward of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et one life requires rejecting the other (Matt 6:2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ru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tting back to the question ag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one wants to see Jesus, then one needs to follow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just say they follow Him, but actually obey His words (Jn 8:31-32; Mt 7:21-2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is what Jesus has always been teach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t 16:24-2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one does that, then they have the assurance they will get to be where Jesus is at that time (in heave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cause the Father will honor in heaven those who choose to serve the Son on earth and in heav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did the Greeks get to see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’re not told direc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all they got was the message Jesus gave to Philip and Andr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want to see Jesus, then you will need to follow and serve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ing Him is part of the reward of rejecting this life in favor of eternal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wish to see Jesus, then you need to get started n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e Wish To See 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20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nday of the week of Crucifixion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s entered Jerusalem amidst much celebration and shouts of trium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tthew, Mark and Luke record that He went to the temple and once again drove the merchants and money-changers from the tem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t 21:12-17; Mk 11:15-19; Lk 19:45-4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does not record the cleansing, perhaps because he recorded a similar earlier incid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2:13-2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tthew also includes the fact that the blind and lame then followed Jesus into the temple to be healed and the children shouted “Hosana, Son of David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ree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2:2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are now introduced to “certain Greek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o are these Greeks?  4 possibil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lenistic Jews (Jews who lived in Greek areas, spoke Greek, adopted Greek cul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usually called Greeks, but Hellen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elytes (Gentiles who had converted to Judaism and were circumcis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re usually called “proselytes”, but were allowed full-access to the temple cou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-fearers (Gentiles who believed in God, but had not been circumcised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called “proselytes of the gates”, not allowed into the Court of Israel, but could worship in the Court of Gentiles as close as the gates to Israel’s cou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ans (Gentiles who did not believe in Go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ldn’t be there to worship, though some did bring gif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ree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which Greeks do we have he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ed Greeks rather than Hellenists, seeming to eliminate Hellenistic Je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ame up to worship, eliminating the Pag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aves Proselytes and God-fear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selytes could have been coming to the feast to celebrate Passov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Jews they were allowed to eat Passo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have been able to go find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-fearers were allowed to worship at the feast, but not join in the fea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would not have been able to find Jesus if He was in the Court of Isra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sking Phili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know for certain why they asked Phil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he was just the first disciple they sa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because his name was Gree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might also mean Philip spoke Gr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they knew Phili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ght be implied by the reference to his homet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sk (very politely) to see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 glimpse, but to converse with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might have been in the Court of Isra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ing Philip to go ask Him to come o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He might simply have been too bus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ing Philip to set up a meeting somewhere less crow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hilip goes to Andr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2: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we mentioned in a previous lesson on Phil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was a “facts and figures”, “by-the-book”, practical minded, non-forward thinking, non-spontaneous individu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was a new situation, He doesn’t want to do the wrong thing (and get rebuk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had spoken of certain group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t 10:5-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He had made exce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t 15:21-28 (Genti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4 (Samarita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He takes the matter to Andr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rew was more out-going, and more of a risk-tak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rew brings Philip and the question to Jes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needs to hear the request, and Andrew is not afraid to bring this request to Jes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answ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thing Jesus mentions is that it is time for Him to be glor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ither a reference to His approaching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an acknowledgement that it is time for the gospel message to reach out to more than just Jews so that all could give Him glo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both, since His death is approaching, people like these Greeks are right in looking to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by glorifying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answ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hysical part of the analogy is cl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seed must die before it can give life to a new pl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He saying, and does it answer the ques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ference to the seed dying, being in the ground, and spring up into new life certainly is a reference to His coming death, burial and resurr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d with v23, seems to be saying the time is COMING for Greeks to glorify Him, but they need to wait for His death, burial and resurr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here will be much fr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26:35Z</dcterms:created>
  <dc:creator>Glenn E Hamilton</dc:creator>
  <dc:description/>
  <dc:language>en-US</dc:language>
  <cp:lastModifiedBy>Glenn E Hamilton</cp:lastModifiedBy>
  <dcterms:modified xsi:type="dcterms:W3CDTF">2010-09-02T16:41:18Z</dcterms:modified>
  <cp:revision>3</cp:revision>
  <dc:subject/>
  <dc:title>Slide 1</dc:title>
</cp:coreProperties>
</file>