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ather’s testimon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s failed to accept the testimony of the Scrip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expected to find salvation in the law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did not abide in the wor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refused to believe in the One of whom the scriptures testifi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pt asking for more signs / pro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onically, by refusing to accept Jesus, they rejected the very life they sought to fi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eighing the eviden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5:41-4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did not go around proclaiming His position as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r did He ask others to go around making that cla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fact, He often asked people not to spread that  f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nted each to come to believe based on God’s witness (works and scriptur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nly REAL evidence (honor) is evidence supplied by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Jews refused that witness in favor of self-witnes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eighing the eviden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one came making a claim to be Messiah, they would belie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lier 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BC –  Judas ben Hezekiah and Simon of Pere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BC – Athro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6 – Judas of Galile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r 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46 - Theuda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58 – “that Egyptian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66 – Menahem ben Juda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70 – John of Gischala and Simon bar Gior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135 – Simon bar Kokhb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400-2000 – at least 18 other Jews have made the claim and gathered follow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final witnes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5:45-4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es witnessed of Jesus (Dt 18:1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should have recognized Jesus as the one who was ‘like unto Moses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eople recognized the difference (Mt 7:28-2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es is testifying against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just the direct words in Deuteronom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also in other prophecies and promis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 3:15 – to E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 12:3 – to Abrah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 50:8-12 – from Jacob to Juda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 24 – from Bal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y won’t believe Moses, it’s not surprising they don’t believe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evidence for Jesus as deity and Christ is clear and indisp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did not try to argue against the wit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had told them who Jesus w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miracles clearly showed who Jesus w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voice from heaven said who Jesus w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criptures clearly pointed out who Jesus w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problem was they did not want Jesus to be who He w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y accepted Him, then they’d have to obe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ill you accept Him and obey His words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tnes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5:31-4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ealed the man (lame for 38yrs) at the pool of Bethes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were upset that He had done so on the Sabb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aid He did His Father’s 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were even more upset that He made Himself equal with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explained that si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showed continued love of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en by His ability to perform mirac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od entrusted the judgment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they had no reason to be ups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continues to explain and defend His de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oes so by showing there are many witnesses to His divin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witnesses are better than oth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in a legal case, not all ‘witnesses’ are eq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proceeds to name the various witnesses and to evaluate their wor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lf-witnes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5: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yone can claim anything about themsel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puts the value of self-witness at zer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possibly l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did not rely on self-witnes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ains why Jesus did not go around proclaiming Himself the Messia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nted people to believe based on other witne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ohn’s witnes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5:32-3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testified to Jesus’ identity (Jn 1:26-3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id so several tim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affirms that John’s identification was accu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s had checked with Joh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just didn’t want to accept that testimo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ugh they had been happy to hear him when he preached repentance (Mt 3:1-1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since it is the witness of a man it really has little 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since they had recognized John as a prophet it held some value in saving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itness of work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5:3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ct that Jesus was able to perform miracles proved He was sent by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cluding the very miracle (healing the lame man) for which they were upse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odemus said the Jews ‘knew’ this was the inescapable conclusion (Jn 3:1-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are the very works He had told them He was doing for His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had caused them to be even more ups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alue of this witness is greater than John’s testimony since it shows approval by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ather’s testimon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5:3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’s testimony came in two f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rect testimony to His relationship with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t 3:16-1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Jews had not heard the voice, but probably knew about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wice more in following years this witness was repea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t 17:5 – at the transfiguration before 3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12:27-33 – before many Jews, but explained away and disbelie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y refused to hear the voice of God, they also refused to recognize His form in Jesus  (Col 1:1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ather’s testimon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John 5:38-40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econd way the Father testified of Jesus is through the scrip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estimony the Jews should be willing to accep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y looked to scripture to find how to be sa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are more than 300 prophecies of the Messiah in the O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rn of a virgin (Isa 7:14; fulfilled in Mt 1:22-23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rn in Bethlehem (Mic 5:2; fulfilled in Mt 2:5-6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ed “out of Egypt” (Hos 11:1; fulfilled in Mt 2:15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sacre of innocent male children (Jer 31:15; fulfilled in Mt 2:16-18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eded by a forerunner (Isa 40:3; fulfilled in Mt 3:3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would begin in Galilee (Isa 9:1-2; fulfilled in Mt 4:12-16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uld take "our infirmities" (Isa 53:4; fulfilled in Mt 8:17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uld teach by parables (Ps 78:2; fulfilled in Mt 13:34-35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er Jerusalem on a donkey (Zech 9:9; fulfilled in Mt 21:1-10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d for 30 pieces of silver (Zech 11:12; fulfilled in Mt 27:9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ts cast for His clothing (Ps 22:18; fulfilled in Mt 27:35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36:45Z</dcterms:created>
  <dc:creator>Glenn E Hamilton</dc:creator>
  <dc:description/>
  <dc:language>en-US</dc:language>
  <cp:lastModifiedBy>Glenn E Hamilton</cp:lastModifiedBy>
  <dcterms:modified xsi:type="dcterms:W3CDTF">2010-04-07T17:04:58Z</dcterms:modified>
  <cp:revision>4</cp:revision>
  <dc:subject/>
  <dc:title>Witnesses</dc:title>
</cp:coreProperties>
</file>