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hilip and Nathanae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45-4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know if this occurred before the return to Galilee or af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Andrew, Philip had spent enough time with Jesus to have come to a similar conclu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oes not name Him the Christ he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m of whom Moses in the Law, and also the prophets, wrot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be the Prophet or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realizing they were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Andrew calling others to come to the source and find out for themsel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athanael and Phili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athanael is a bit of a skept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a bit more knowledge of scripture perha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mediately points out that Nazareth is not the prophesied place for the birth of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wasn’t the birthplace of any proph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didn’t let his skepticism keep him from examining Jesus for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: Sometimes we are afraid to bring skeptics or “knowledgeable people” to the Bi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be afraid, let the Bible speak for it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and Nathanae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47-4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with Peter, Jesus immediately identifies the character of the 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Israelite indeed in whom is no deceit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en and honest person, the way all God’s people should b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athanael doesn’t dispute the characteriz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act he agrees to it, but wonders how Jesus knew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 could have told Jesus earl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Jesus know Nathanae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and Nathanae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fore Philip called you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‘when Philip called you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arently an incident that occurred without anyone else’s knowled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Nathanael had been praying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Jesus said, “I saw you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id this is how He knew Nathanael had no guile, dec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w what occurred or was sa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Nathanael pouring his heart out to God and holding nothing b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athanael immediately believ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es Nathanael belie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49-5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 the S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God could have known about what happened under the fig tr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 the King of Isra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 Son of God was here, he was Israel’s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matter Israel’s earthly ruler, God was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King of Israel” was also what the Christ was expected to be, so perhaps that is includ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Nathanael that there would be more impressive proof of His nature and ti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would see the fulfillment of Daniel’s prophecy (Dan 7:9-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[Some think the reference was to Jacob’s vision, but that would miss the point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confirms He is the King, the Christ, the Son of God, and the Son of Ma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Nathanael would see Him seated on the throne, ministered to and obeyed by an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in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confess that belief and obey His word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:35-5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ministry of John the Baptiz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as a forerunner, preparing the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to turn people back to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to identify the Lamb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ve testimony to Jesus as the S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35-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people didn’t immediately follow Jesus, John gave his testimony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of John’s disciples got the message and followed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a previous series on the twelve apostles, we looked at this incident several ti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of the 12 apostles begin following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we did cover this incident, is it worth going over agai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viously, I thought so, since that is our lesso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iew is always go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 looking at the same incident in a different way may help some lessons become clear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. since we won’t try to cover their entire lives, but just this one inci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two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rew is clearly named (v4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other is presumably Philip (v4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it was John the apos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happened that first day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37-3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don’t know any of the detai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spent the remainder of the day with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the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our (about 4p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:  They wanted to learn more about “the Lamb of God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d heard John’s testimo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y wanted to find out for themsel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id Andrew learn that first day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40-4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just a few hours of hearing Jesus, as well as John’s testimony, he names Jesus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” Grk. and “Messiah” Heb. Are both terms meaning “anointe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OT to refer to kings, priests, and proph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prophecy to point to the one who would come to set up God’s kingd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John the Baptizer never said that Jesus was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by the end of the day, Andrew was convinc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 and Pe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order to be so certain in such a short period of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w had to have been ready and open-min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heart was right, that’s why he was following John the Baptiz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knowledge of who and what the Christ would be was great enough that he could be certai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certainty was enough to make him want to bring his bro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rew brought Peter to the sou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Too often we think we need to convince someone of who Jesus 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e need is to learn ourselves (heart and mi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show our certainty and bring others to the sou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ctually his name was Sim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renames him Cephas (Aram. “stone”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is the same name in Gree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d of “stone” the word refers to, is a piece broken off of a larger st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could be a chunk of a few pounds to a bould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as not the bedrock (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petr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id Jesus call him a ston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it his character? Hardhead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it his future? To be a piece of something great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08560" y="-685800"/>
            <a:ext cx="3835440" cy="8077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hili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:43-4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planned to return to Galil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 is where He had grown up, in Nazare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 is where Philip and Andrew both were fro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in Bethabara at the time (v2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did Jesus call Philip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onshi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hing He saw in Phili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96080" y="3352680"/>
            <a:ext cx="868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ethabar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543440" y="3505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0120" y="914400"/>
            <a:ext cx="12841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ethsaid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4:54:11Z</dcterms:created>
  <dc:creator>Glenn E Hamilton</dc:creator>
  <dc:description/>
  <dc:language>en-US</dc:language>
  <cp:lastModifiedBy>Glenn E Hamilton</cp:lastModifiedBy>
  <dcterms:modified xsi:type="dcterms:W3CDTF">2010-01-06T16:46:32Z</dcterms:modified>
  <cp:revision>3</cp:revision>
  <dc:subject/>
  <dc:title>The First Disciples</dc:title>
</cp:coreProperties>
</file>