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Jesus’ answe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7:21-23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did one miracle (healing the lame man – Jn5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y marveled (wondered, questioned, not awed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cause on the Sabbath (Jn 5:8-1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y circumcised on the Sabbat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ecessary to start a relationship with Go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made the man completely wel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t just physical, but spiritual (Jn 5:14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 restored the man’s relationship with Go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w could the restoration be any less important than the beginning of that relationship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Judge righteous judg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7:24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it comes to making a choice . . 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Get all the facts and weigh them righteously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y God’s standa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 our wants or desires or preconcep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[True for all life’s choices]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it comes to choosing to believe Jesus (His works, His claims, His teachings) or not . . 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xamine all and weigh them with God’s wor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If you’re choosing to be worldly, you reject God’s word and so can’t judge righteously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on’t reject Him because He isn’t what you expected, or because of the consequences to you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Jud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7:25-27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tting Jesus words into practice – looking at all the fac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Yes, the leaders are trying to kill Him – he’s not crazy, etc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 has stated His teachings and claim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rulers have not disputed those teachings and claims other than to simply deny th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es that mean the rulers know Jesus’ claims are tru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so, the choice would be obvio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ut isn’t the Christ supposed to be a mysterious person who appears from nowhere?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preconception, not a prophe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at do you know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7:28-29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problem isn’t knowing Jesus or His orig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se ‘apparent problems’ could be addressed from Scripture and shown not to be a problem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Get back to righteous judging!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problem is NOT knowing God or His wil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s He said earlier, if you lived your life by God’s will, you’d know the truth of what Jesus taught (John 7:16-17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ime to make a choice based on all the facts and righteous judgmen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7:30-31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me wanted to shut Him u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Unwilling to judge righteousl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ny others finally made the choice to belie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Once all the evidence was weighed . . 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more could the Christ do, than what Jesus has done?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righteous judgment based on the fac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s works testified of Him – Jn 5:36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you believe the works, you’ll believe the teaching confirmed by the wor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you believe the works and teachings, then you know the validity of His claim to be the Christ, the Son of Go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Judge Righteous Judg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7:6-31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n life we constantly make choic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st choices are ordinary, and not very consequenti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ther choices can be “life-changing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One of the life-changing choices is whether or not to accept Jesus as the Son of Go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’ll look at several different groups facing that choice and see what decisions they made and wh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s we do so, ask yourself about your own decisions regarding Jesu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Jesus’ brother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e looked at them in our last lesso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y chose not to believe (at first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part because Jesus did not declare Himself openly (Jn 7:3-5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esus explained further (Jn 7:6-10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ing openly would lead to His death and it wasn’t time for that y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He would go, but not yet, not openly, and not with His famil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s brothers would not be harmed because they had made a choice not to oppose the worl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Jn 3:19-20, 15:18-19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vil only hates those who fight 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f you are worldly, you will see no reason to make a choice for Jesu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Jew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7:11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ws” here could not refer to Jewish peop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lmost everyone attending would be Jewish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ohn used the term in John 5:16-18 to refer to the Jewish leaders seeking to kill Jes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se same Jews are seeking Jesu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 looking to become discip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y had wanted to kill Him before when He was last in Jerusalem (Jn 5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sumably they are still wanting to do so and this would be their opportun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re about their choice in a mo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peo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ohn 7:12-13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people thought Jesus was goo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Just look at what He has done’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iked the works, but ignored the claim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 willing to say He is Christ, just “good”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y today think Jesus was “good” but choose not to accept His claims – why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ther said He was a deceiv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isten to what He claims to be: Christ, God’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gnored the works that confirmed the claims because they didn’t like the claim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y today think Jesus was a liar or lunatic because of His claims, simply ignoring His works – why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y feared the consequences of an open choi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o accept His claims means one must obey Him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o accept His works means His claims are verified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Jewish leader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7:14-15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makes his public appearance in the middle of the feast and in the temp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 “taught”, the Greek word conveys the idea of prolonged, formal instructio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leaders forced to wait and liste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tead of hearing the message, they choose to concentrate on the messeng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w could Jesus be teaching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tters” means schooling, He hadn’t been to any of the Jewish rabbinical schoo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day, some choose to ignore the gospel simply because the messenger isn’t a seminarian, theologian, ordained, et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Jesus forces a choic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7:16-19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those who sought to either ignore the message (Jews) or to delay choosing (peopl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claimed He was teaching God’s wil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f you align your life with God’s wil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n you would realize Jesus’ teaching was in complete harmony with God’s wil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[Some erroneously think Jesus said, ‘If you just wish to do God’s will, then God will internally tell you what to do’]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life that both teaches and lives in harmony with God’s will glorifies Go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ut the Jews were not aligned with God’s wil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y wanted to kill Jesus (a clear violation of “You shall not murder” – Ex 20:13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peo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7:20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ill not wanting to make a choi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’s crazy’: demon-possessed or paranoi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y knew the Jews were after Jesus (Jn 7:11,13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id not want to consider His teaching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it said about their own lack of following God’s word would be hard to fa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easier choice was still to ignore His teaching by trying to discredit only one pa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y didn’t say He was living out of harmony with God’s wil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 even be saying, ‘No one wants to kill you, but violating the Sabbath law is a death penalty’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19:50:37Z</dcterms:created>
  <dc:creator>Glenn E Hamilton</dc:creator>
  <dc:description/>
  <dc:language>en-US</dc:language>
  <cp:lastModifiedBy>Glenn E Hamilton</cp:lastModifiedBy>
  <dcterms:modified xsi:type="dcterms:W3CDTF">2010-05-26T16:54:30Z</dcterms:modified>
  <cp:revision>13</cp:revision>
  <dc:subject/>
  <dc:title>Judge Righteous Judgment</dc:title>
</cp:coreProperties>
</file>