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significance of His pre-existenc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Li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3-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fe would not exist without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fe could not continue to exist without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 1:16-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things created by Him, through Him, and for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Him all things are held together (consis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, He is the one who can offer us eternal life (Jn 5:21, 11:25-26, 14: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significance of His pre-existenc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L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4-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live in a world of dark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 4:17-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bringing a way out of sin, He brought light into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2:35-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be “sons of ligh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8: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have “the light of lif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n 1:5-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“walk in the ligh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19-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refuse the light and the life brought by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n’t stubbornly remain in dark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only death t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to the light of the world and find etern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:1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gospel of John has a clearly stated purpo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20:30-3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bring about belief in Jesus as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follow-up on belief so that one might be sa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gospel is not a complete account of all Jesus did or sa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not even cover all time periods of His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events covered toward the end of His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7 – begins the last 6 month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3 – begins the last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does not cover most events in Matthew, Mark, and Luk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ably John wrote 30 years after the other gospel wri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accounts were known and availa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emphasizes belief in Jesus as the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ents usually revolve around an individual who comes t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swers: Why and what did they believ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xed in are some examples of those who didn’t believe or didn’t act on their 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eachings of Jesus center on who He is and how His listeners can know for 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begins with a prologue (foreword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1-1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in John makes the claims he will set out to prove throughout the gosp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irst group of claims, which will be our focus in this lesson (Jn 1:1-5)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Jesus existed before He was bo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Jesus was God, the Cre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Jesus’ work as Creator has significance for us tod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title only used by John (in Jn 1:1-14, 1 Jn 1:1, and Rev 19:1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e title “the Word” mean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“A ‘word’ is that by which we communicate our will; by which we convey our thoughts; or by which we issue commands; the medium of communication with others.” (Barn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 Heb 1:1-3 – Jesus as the means of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because 1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century Jews used ‘the Word’ as a title of the Messiah based on Isa 55:11 and similar passa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bo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e-existence of the Wo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beginning was the Word” (Jn 1: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beginning” references Gen 1: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s” – past tense, already existing, ete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OT prophets had prophesied of a pre-existent Messia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ah 5:2 - “from of old, from everlast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9:6-7 – “Everlasting Fathe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ch 2:10-11 – the Messiah’s promise to come made 500+ years before Jesus’ b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e-existence of the Wo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imself affirmed His pre-exist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8:56-5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re about this statement in a later les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said He existed before Abraha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7:4-5, 2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isted before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 22: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tles that indicate His eternal na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ul also taught the pre-existence of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Cor 10:1-4; 2 Cor 8:9; Php 2:5-8; Col 1:16-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so in Heb 1:2-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significance of His pre-existenc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specifically states this fact (Jn 1:1-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God” showing a relationship with yet a distinction from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s God” showing an equality of na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ternal existence prophecies (Mic 5:2; Isa 9:6-7) show the Messiah to be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chariah’s use of the LORD as both the Messiah and the One who sends the Messiah (Zec 2:8-11; 12: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de this claim by His use of “I A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.g., Jn 8:58-59 – the Jews recognized the claim being made based on Ex 3:13-1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31:39Z</dcterms:created>
  <dc:creator>Glenn E Hamilton</dc:creator>
  <dc:description/>
  <dc:language>en-US</dc:language>
  <cp:lastModifiedBy>Glenn E Hamilton</cp:lastModifiedBy>
  <dcterms:modified xsi:type="dcterms:W3CDTF">2009-12-02T17:23:51Z</dcterms:modified>
  <cp:revision>4</cp:revision>
  <dc:subject/>
  <dc:title>The Word</dc:title>
</cp:coreProperties>
</file>