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t revealed about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lov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is disciples (Jn 18:8-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nted them to be free to depart without being harm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ll mankind (Jn 18:10-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at the betrayal and arrest was part of the plan for salv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therwise He could have had 12+ legions (72,000+) angels to defend Him (Mt 26:5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ven those who were arresting Him (Lk 22:49-5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can we learn from the betrayal and arrest of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’s foreknowledge and wisdom in bringing the plan of salvation to its fulfill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tter sinfulness of 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ve of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allowing Himself to be taken, He was giving us the opportunity to be sa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trayal and Arre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1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imagine most of us have never been arrested on false charg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perhaps some have been falsely acc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know how that hurts deep down ins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it damages your reputation, relationships, and even your sense of self-wo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t hurts worse when it comes from someone you trusted and felt close t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feel betray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betrayal awakens all kinds of reactions and emo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lesson is about the betrayal and arrest of Jesus, and the lessons we can learn from 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s place in God’s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od knew the betrayal would take pl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 41:9 (1,000 years earli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ch 11:12-13 (500 years earli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He would be betray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64, 70-71 (more than 1 year earli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because of Judas’ character and/or actions He knew he would be the 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ys He knew “from the beginning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ginning of . . .time, His ministry, their ca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26:20-25 (earlier that even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t Judas know that He kn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3:27-3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s place in God’s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betrayal was part of the pla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s 2:22-2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hat the betrayer did not have a cho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as made a sinful choice (Jms 4: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oice God knew he would ma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has often used sinful people to further His plans (Pharaoh, Nebuchadnezzar, Cyrus, et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didn’t make them sinful, but used their sinful choices (which He foreknew) to further His p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 required Jesus to die as an atoning sacrif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betrayal accomplished this, but it also showed something more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t revealed about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 tries to hide his sinful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k 22:52-5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could have arrested Jesus any day during the week as He was in the temple each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k 22:2 – they didn’t because they knew the people would disappro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is your hour and the power of darkness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meful, sinful activity happens frequently at night;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eople think they can hide in the darkness (1Ths 5:4-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t revealed about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utter sinfulness of 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rayed by a fri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 times in the gospels, the writers point out that Judas Iscariot was “one of the twelv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as if they too could hardly believe that one of their own had betrayed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even remarks on their friendship (Mt 26:5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ugh He knew it would be a friend (Ps 41: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action of betrayal was a symbol of friendship and brotherly love, a ki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remarks on the hypocrisy of using a kiss as a sign of betrayal (Lk 22:47-4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t revealed about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utter sinfulness of 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rayed for a mere 30 pieces of silver (Mt 26:14-1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value of a slave killed by an animal (Ex 21:3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demption value of a free adult female (Lev 27:4; a free male valued at 50 silver, Lev 27: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Zech 11:13 calls it “a princely sum”, but the sarcasm should be obvio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insult of the price shows the greed and sinfulness of both Judas and the chief pries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t revealed about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utter sinfulness of 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ested like a dangerous crimi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8:3 sent an armed detachment (band, cohor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unit typically of 600 Roman sold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officers, probably from the temple gu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to arrest ONE man at night known to have only a few lightly armed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then, they seemed to be afraid (Jn 18:4-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it His words, “I am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it knowledge of His pow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it guil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46:18Z</dcterms:created>
  <dc:creator>Glenn Hamilton</dc:creator>
  <dc:description/>
  <dc:language>en-US</dc:language>
  <cp:lastModifiedBy>Glenn Hamilton</cp:lastModifiedBy>
  <dcterms:modified xsi:type="dcterms:W3CDTF">2011-01-19T18:48:06Z</dcterms:modified>
  <cp:revision>4</cp:revision>
  <dc:subject/>
  <dc:title>Betrayal and Arrest</dc:title>
</cp:coreProperties>
</file>