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zarus will rise aga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23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understands that there will be a resurrection of the d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’ belief about the resurr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isees and most Jews believed in the resurrection, including Mart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dducees did not believe in a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knew that resurrection would be “at the last day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inal judg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 The Resurrection and the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25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makes His claim to being the source of the resurrection and lif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ilar to earlier statements (Jn 1:4, 5:2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ife and no resurrection apart from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:1-3; Col 1:15-1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other clear claim of de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17:24-2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ave resurrection and life one must “live and believe in”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lieve in Christ (includes works – Jms 2:14-26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Live in Christ (abide in His words – Jn 8:30-32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 The Resurrection and the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– even if not fully comprehending what Jesus is saying – very readily believes Jesus’ claim to being the resurrection and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s it up in her own words, “You are the Christ, the Son of God, who is to come into the world”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tha’s response, quite clearly is in contrast with Jesus’ detractors  (Jn 6:66; 8:59; 10: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tated it clearly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want to have hope of eternal life, we m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lieve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ve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s that include obedience to His comm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in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ready to live in Jesus and live for Hi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surrection and the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1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bout 3-4 months has passed since the Feast of Dedication (Jn 10:2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s been in Perea beyond the Jord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out one day’s journey from Jerusa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now 2-3 weeks before the Pass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gou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ohn 11:1-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any: about 1 ¾ miles (est. 30-45 minute walk) east of Jerusalem. This is also the city where Lazarus and his sisters (Mary and Martha) ar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Jesus and His disciples are in Perea: beyond the Jordan (Jn 10:40, 11: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10495" r="0" b="0"/>
          <a:stretch/>
        </p:blipFill>
        <p:spPr>
          <a:xfrm>
            <a:off x="4600440" y="990720"/>
            <a:ext cx="40672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2666880"/>
            <a:ext cx="2133720" cy="1219320"/>
          </a:xfrm>
          <a:prstGeom prst="line">
            <a:avLst/>
          </a:prstGeom>
          <a:ln w="572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114800" y="3581280"/>
            <a:ext cx="2895480" cy="152424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zarus and his sisters, Martha and Mary, lived in Betha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ere friends of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is the one who anointed Jesus with oil and wiped His feet with her h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incident hasn’t happened yet (Jn 12:1-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told that Lazarus is very si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elayed 2 days before go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takes 1 day to walk to Beth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he arrives, Lazarus has been dead 4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ing Lazarus had probably died before Jesus was told he was si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His disciples Lazarus was not sick unto death (not going to end in his death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ickness would glorify the Son of Go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other opportunity to reveal His true natur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previously spoken about His de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m the bread of life (Jn 6:3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m the light of the world (Jn 8:1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Abraham was, I am (Jn 8:5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m the door…good shepherd (Jn 10:7-1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nd My Father are one (Jn 10:3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aims were coupled with signs that testified of who He is and where He came fr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eding of the 5,000 (Jn 6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aling of the blind man (Jn 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elay and retur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7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ited 2 days – may not have made a difference as to Lazarus d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delay would make the coming sign more significant, and completely undenia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disciples worry that the Jewish leaders would still be looking to kill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escapes in the past 6 months (Jn 8:59, 10:3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it is time for Him to go to Jud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night is approaching (Jn 9:4) – His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any other traveler, He needed to get where He was going while it was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not finish His journey would be to walk in darkness (sin), and that He would not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zarus is dea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1:11-1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displays miraculous knowledge of Lazarus’ cond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ciples now take it for granted that Jesus has this pow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ugh they think Lazarus “sleeping” is g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clarifies that He meant Lazarus is d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ad He wasn’t there, probably because He would have been tempted to heal Lazarus rather than let him di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disciples’ faith it was important that Lazarus be clearly d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was why He delayed 2 da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shows great loyalty, willing to die with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’s Fai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17-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goes to meet Jesus, Mary does n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y may not have heard Jesus was ne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acknowledges faith that Jesus could have healed Lazarus if He had been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still has faith that Jesus can ask anything of God and have it gran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not thinking of reviving her bro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st saying, ‘I still believe in You’, even after the disappointment of her brother dy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14:07:59Z</dcterms:created>
  <dc:creator>Glenn E Hamilton</dc:creator>
  <dc:description/>
  <dc:language>en-US</dc:language>
  <cp:lastModifiedBy>Glenn E Hamilton</cp:lastModifiedBy>
  <dcterms:modified xsi:type="dcterms:W3CDTF">2010-08-11T17:10:26Z</dcterms:modified>
  <cp:revision>4</cp:revision>
  <dc:subject/>
  <dc:title>Lazarus, Come Forth!</dc:title>
</cp:coreProperties>
</file>