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answ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delay, Jesus clearly demonstrates that He was not seeking to act as judge or pri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fact, the scribes and Pharisees were probably the correct authority since they acted as judg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they had already passed judg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ho is without sin . . .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saying a judge must be sinles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ther, he who did not sin in this mat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ccusing them of adultery or for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sin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sin could the scribes and Pharisees have had in this matte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taking the matter to the pri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accepting the sentence of the jud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having the required 2 or 3 wit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having investigated the mat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verting just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ut 22:2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is the m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uil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…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t him throw a stone at her first.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knew she was guilty, and He did not dispute the findings of the jud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that did NOT mean she automatically died under the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method of judgment and execution had to be obey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yone who had not themselves violated the Law in accusing or judging this woman could go ahead and execute her (starting with the witnesse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He ignored them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9-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by one all the Pharisees and scribes le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knew in their heart justice was not their a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had perverted just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sks where are the judges and wit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ne had remai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hen says He does not condemn 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in the moral sense, but the legal sen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could not condemn her – He was not a judge or a priest or a witnes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even if a witness because He knew all things, one witness was not enough under the La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in no 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as to moral guilt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, and sin no more.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was guilty and needed to stop her sin (repen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s is a much misused passag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use it to say you can’t accuse another of sin – ‘Don’t cast stones’ or ‘He who is without sin, cast the first stone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didn’t tell them not to cast ston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didn’t mean one had to be sinless to accuse or judge ano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rather that the ends do not justify the me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utcome can only be righteous if the means of getting there are righte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Jesus said a few days previously, “Judge righteous judgment” (Jn 7:2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dulterous Wo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53-8: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east of Tabernacles was for 7 days (Lev 23:3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ish leaders had tried to figure out how to kill or arrest Jesus without an upro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failed to do it themselves (Jn 7:3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ir officers refused to do it (Jn 7:43-4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odemus pointed out they were not following the Law by not waiting to hear Jesus before condemning Him (Jn 7:50-51), but he was ignored and belitt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7:53-8:1 – the feast ended and people went home (rather than return to the booth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did not have a home here, possibly went to Bethany on the far side of Mt Oliv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the eighth day was also a holy day at which all were to assemble (Lev 23:3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Jesus and all the people return (Jn 8: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took this as another opportunity to tea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ing the last day at which all were required to attend, the leaders know they must act n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ith the large crowds, they also must act in a way to keep themselves blamel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ques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3-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harisees and scribes bring a woman before Jesus (and the crow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ccuse her of adulte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evidence is overwhelming (caught in the ac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ses’ Law is summarized to say she must be sto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is asked to pass judg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’ response is to ignore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inventively try to say what Jesus wrote, but we’re not to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ackground of the tes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y would they think Jesus would disagre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ea was Roman-control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oman law did not allow the Jews to carry out death penalties (Jn 18:31) with a few exceptions not applicable he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 people think Jesus is the Christ, then they thought He was going to cast out the Rom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Jesus says, ‘Obey the Roman laws’, the people will stop thinking He is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Jesus says, ‘Stone her’, then He can be turned over to the Romans as a law-break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trick question, like later in Mt 22:15-2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id the Law say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y’d asked Jesus a question about the La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d been sitting there teaching the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they waited for His answer perhaps they would think about the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Deut 16, immediately after describing the Feast of Tabernacles (Dt 16:13-1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 the law of judges and justice (Dt 16:18-2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ointed judges were to pass judg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was not an appointed judge, though the Pharisees and scribes had carried out that ro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ice demands no attempt to hide or twist the f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id the Law say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fter appointing judges and demanding just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w set out the process of judging (Dt 17:2-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all wickedness “transgressing His covenant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example is idolatry (v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xamples given in later chap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matter must be investigated “diligently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 must be 2 or 3 witness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itnesses must be willing to act first as execution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y are untruthful, they would be guilty of mur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id the Law say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the judges couldn’t determine whether the death penalty was applic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w told them who would make the decision (Dt 17:8-1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Levitical pries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was not a priest nor a Lev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people won’t listen to and obey the judges or the priests . . . (Dt 17:12-1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were to be put to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3:18:21Z</dcterms:created>
  <dc:creator>Glenn E Hamilton</dc:creator>
  <dc:description/>
  <dc:language>en-US</dc:language>
  <cp:lastModifiedBy>Glenn E Hamilton</cp:lastModifiedBy>
  <dcterms:modified xsi:type="dcterms:W3CDTF">2010-06-09T15:37:51Z</dcterms:modified>
  <cp:revision>4</cp:revision>
  <dc:subject/>
  <dc:title>The Adulterous Woman</dc:title>
</cp:coreProperties>
</file>