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bible-history.com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242.photobucket.com/albums/ff267/reedhitz/Thorns/crownofthorns1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third Roman trial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ohn 19:8-9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new trial: Pilate returns to the Praetorium with Jesu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ilate “more afraid”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rhaps afraid because of his wife’s war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 perhaps afraid of displeasing the Jew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 perhaps afraid of a possible rio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ut the idea of having just scourged and mocked deity terrifies him m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is idea of deity would have been paga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sks Jesus where He is from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 looking for “Galilee”, but perhaps remembering Jn 18:36-37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kingdom “not of this world”, “not from here”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 have come into the world”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esus doesn’t answ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third Roman trial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ohn 19:10-11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ilate claims to have the power to crucify Jesus or to release Hi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esus says Pilate had no power at all in the matter  (Jn 10:17-1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e crucifixion was foreordained by God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ilate was powerless to stop i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Or Jesus could be prophesying why Pilate would not stop the crucifixion – because his power came from Caesar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 the one who delivered Jesus to Pilate (Caiaphas – Jn 18:28) has greater si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ilate was merely trying to do his job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aiaphas was actively trying to murder Jesus and manipulating laws, the crowds, and even Pilate to bring it abou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third Roman trial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19:12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lied that the third verdict was also not guilty since Pilate sought to release Jesu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fact that Pilate didn’t release Him shows the truth of what Jesus had said (v11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w did the Jews get him not to release Jesus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y threatening to charge Pilate before Caesar with treason for letting a self-proclaimed king go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berius Caesar was stern, harsh, and paranoi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illed many men on the slightest indication of treason or insul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ilate is backed into a corner: either crucify Jesus or risk being killed himself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entenc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19:13-16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late takes his place on a raised platfor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resents Jesus as their king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haps still hoping for p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y just mocking the Jews who had forced his hand, getting them ma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ucceeds in riling the Jew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y even say Caesar is their only k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denial of God as their k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denial of their Messianic hop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late hands Jesus over to be crucified, an unjust condemnation since Pilate had still not found Jesus guilty of any capital offen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esus, the Son of Go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esus, the King of Kings, Lord of Lord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Mocked, beaten, tortured, then unjustly condemne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nd He allowed it to happen, because it was necessary for our salvation (Isa 53:5-8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Roman Trial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6572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art 3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19:1-16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Jewish leaders wanted to have Jesus execute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y brought Jesus before Pila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ilate tried Him and found Him not guilt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Jewish leaders weren’t happ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late sent Jesus to Herod Antipa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erod tried Jesus and found Him not guilty of anything worthy of death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Jewish leaders were still not satisfi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 Pilate begins offering compromis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irst compromise: Find Him guilty of a minor crime, chastise and releas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wish leaders not happ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cond compromise: Find Him guilty of a capital crime, then pardon and releas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ws call for release of Barabbas and death of Jesu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ilate announces that Jesus is not guilty of any crime, but will be chastised and release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crowd’s noise overpowers Pil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t 27:24-25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Roman Scourge Instrumen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91520" y="2543040"/>
            <a:ext cx="1638360" cy="43149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ird compromis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19:1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late has Jesus scourged, implicitly treating Him as guilty of a major offen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scourge was a whip of one or more lengths of leather with bits of bone or metal in i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signed to tear through skin and muscle,   ripping out piec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ed as a severe punishment, just short of crucifix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ould permanently maim and disfigur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Often resulted in death from shock, pain, and blood los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ird compromis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19:2-3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llowed the scourging with a mock coron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thorns were most likely a hard, woody, 1+ inch variety common in the area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 the kind from a rose bush or bramb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urple was symbol of royalty in many land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cking the idea of a Jewish k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tt 27:27-30 elaborates on the mocker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ncludes a mock scepter, which is then used to beat Him on the hea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iving the thorns into his scal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467480" y="152280"/>
            <a:ext cx="1524240" cy="14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ird compromis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19:4-5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late says he has found Jesus not guil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is actions were those imposed on someone who is guilty of a serious crim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late is saying something like, . . 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ere is what I think of Jesus as a Jewish king’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e’s no king, and no threat to Rome. Look what we did to Him.’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Look at Him, He’s just a man’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You wanted me to punish Him. Now He’s been punished.’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Reaction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19:6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f Pilate thought his last compromise would end the matter (satisfaction or pity), he was wro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ewish leaders again started up the “Crucify Him” chan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late tells them to crucify Jesu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ot giving permission, since he says he has found Jesus not guilty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o saying that if they want to murder Jesus, then go do i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new charg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19:7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Jewish leaders finally get to the charge they had found Jesus guilty of, blasphemy for claiming to be the Son of Go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y admit that the charge was only according to Jewish law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2T14:47:33Z</dcterms:created>
  <dc:creator>Glenn Hamilton</dc:creator>
  <dc:description/>
  <dc:language>en-US</dc:language>
  <cp:lastModifiedBy>Glenn Hamilton</cp:lastModifiedBy>
  <dcterms:modified xsi:type="dcterms:W3CDTF">2011-03-15T17:41:07Z</dcterms:modified>
  <cp:revision>4</cp:revision>
  <dc:subject/>
  <dc:title>The Roman Trials</dc:title>
</cp:coreProperties>
</file>