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ible.ca/maps/maps-palestine-33AD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ible.ca/maps/maps-palestine-33AD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o your wa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4:5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tells him to go home, “Your son lives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he is faced with the question of belie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had meant for Jesus to come with him and do something to heal the chil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w Jesus says the child is wel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’s a full day’s walk to get back and if he’s still sick, another two days to come back to Cana and retur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oes he believe in Jesus without a sign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does believe, and starts down, apparently walking through the nig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heal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4:51-5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the way down, he meets some of his  servants on their way u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r son lives!” is their greet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knowingly echoing the exact words of Jes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asks when his son began to impr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natural healing takes tim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might think, ‘Perhaps Jesus was only telling me that my son was recovering on his own’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ants say the fever left him at a certain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dden healing so that they could say, 1:00 p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exact time Jesus spoke, and his faith gre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does this incident teach us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’ primary concern is your sou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your health (2 Cor 12:7-1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your wealth (Mt 6:2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your relationships (Mt 10:34-39,12:46-5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ef on the cross (Lk 23:39-43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dn’t save his life, but saved his sou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ames and John (Mt 20:20-23, 26-28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concerned with their desire for greatness, but in their godly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woman at the well (Jn 4:1-26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interested in her gender, her nationality, etc, but interested in saving her sou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does this incident teach us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is not a respecter of pers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special treatment of this noblem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dn’t go out of his way to accompany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ms 2:1-9 – Christians are to show no partial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l 3:27-29 – all are equal in Chri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does this incident teach us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’ power is astonish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you want to know something will be done properly, you ask for a demonstr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demonstrated His pow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 the elements of matter (Jn 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 physical ailments, distance and time (Jn 4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 physical laws – feeding 5000, walking on water (Jn 6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 death (Jn 1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when He says (Eph 3:20-2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 can believe He can do as He say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is power is astonishing!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can and will keep His promis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wants you to believe so that you can be sav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’s His, and should be our, top prio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’s true regardless of who you are (or aren’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e has the power to bring about our salv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 well as to bless us in so many way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on’t you come to Him now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Your Son Liv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4:43-5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fter the events surrounding the Samaritan woman at the well, Jesus stayed two day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4:4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went on to Galilee, where He had been headed earlier (John 4:1-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is own countr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4:44-4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was “His own country”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me think it was Judea, explaining why He lef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Jn 4:1-4 shows He left Judea because He was too popular, causing Pharisees to be jealo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me think it was Galilee, explaining why He had not done many miracles the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sn’t exactly match the words used speaking of hon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bably it was Nazareth based on Lk 4:16-30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laining why He didn’t go to that c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rcRect l="22380" t="7129" r="11190" b="35646"/>
          <a:stretch/>
        </p:blipFill>
        <p:spPr>
          <a:xfrm>
            <a:off x="4525920" y="0"/>
            <a:ext cx="4618080" cy="6248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n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55627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4:4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na, abt 4-5 miles north of Nazaret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passed by Nazare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ople knew Him from miracles done at the feast (Passover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well as the miracle at the wedding feast in Cana (Jn 2:1-1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as not well-known at the time, but word has sprea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rcRect l="22380" t="7129" r="11190" b="35646"/>
          <a:stretch/>
        </p:blipFill>
        <p:spPr>
          <a:xfrm>
            <a:off x="4525920" y="609480"/>
            <a:ext cx="4618080" cy="6248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pernau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5867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pernaum, believed to be near north coast of Sea of Galilee, abt 20 miles NE of Can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bigger city, had a tax office and a Roman garris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 nobleman – anyone connected to the ruling house (Herod Antipas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ld be a rela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ld be an offic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me think it might have been Chuza, Herod’s steward (Lk 8:3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nobleman’s s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4:46-4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agine yourself in the nobleman’s pl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r son is dying, doctors are helpless, your wife is cry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l options are gone, you are ready to take any ch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n you hear Jesus is back in Galile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rd of His miracle in Ca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rd of His miracles in Jud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o important a mission to send a serva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goes to get Jes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a is physically uphill, so he begs Jesus to come down to Caperna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esus’ respon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4:4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doesn’t answer the appeal at fir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s a statement questioning the motive behind the reque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re you just wanting a sign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n 2:18 – the Jewish leaders wanted signs before accepting Jesus as having autho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wanted people to believe in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hn 6:29, 20:30-3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racles were a means of confirming who He w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a ‘sideshow’ or ‘speedy clinic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is the nobleman asking because he believes or because he is desperate for a cur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respon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4:4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nobleman merely repeats his pl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is despera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does believe Jesus can hel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rhaps he can’t think of anyway to show his belief without requiring a sign to be done in Capernau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11:30Z</dcterms:created>
  <dc:creator>Glenn E Hamilton</dc:creator>
  <dc:description/>
  <dc:language>en-US</dc:language>
  <cp:lastModifiedBy>Glenn E Hamilton</cp:lastModifiedBy>
  <dcterms:modified xsi:type="dcterms:W3CDTF">2010-03-17T18:42:23Z</dcterms:modified>
  <cp:revision>3</cp:revision>
  <dc:subject/>
  <dc:title>Your Son Lives</dc:title>
</cp:coreProperties>
</file>