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IRST Jewish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’ answer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, “You said i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iaphas has already correctly identified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has already pointed out His position and nature to the Jews (Jn 5:31-40; 8:58-59; 10:30-3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, He adds allusions to prophe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an 7:9-10, 13-14, 26-2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lear prophecy of the Christ and His kingd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s 110: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Jesus Himself had pointed out just a few days earlier (Mt 22:41-46) . .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prophecy can only make sense if the Christ is greater than King David (who was ruler at God’s appointmen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IRST Jewish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26:65-6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ew charge, “Blasphemy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peaking against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es Jesus lied and misapplied Scrip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proof of either was gi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lled for an immediate vote (violating tradition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id the judges were the witnesses (violating Law and tradition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gan with his own verdict (violating tradition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26:67-6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cked and beat Him (violating Law and tradi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ke picks up from here (Lk 22:63-6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ECOND Jewish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k 22:66-7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ited until day (after morning sacrific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 attempt to comply with their tradi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ughable after all the violations during the n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probably for the masses, so they could say it was done r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dn’t bring in the false witnesses from the night before, went straight to the char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 asking Him if He was the Chr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says, they won’t believe if He answ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says if He asks them (if He is Christ), they won’t ans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in either case, they will not release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they will one day see the fulfillment of the prophecies and will have their ans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ECOND Jewish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nce Jesus said He’d sit at the right hand of God, they ask, “Are You then the Son of God?”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hand place was one of honor for one of like power or an he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grees that they have figured it out correct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gain they decide He is guilty of blasphe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out any lawful witness (since He could not be a witness against Himsel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out any proof that what He spoke was blasphem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ce His works, words, etc all were proof that God approv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Jews had decided to kill Jesus months befo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‘trials’ were a sham to give them some ‘justification’ for killing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even though they finally decided they had the reason, the Romans did not allow the Sanhedrin to execute any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we’ll look at the Roman trial n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endured all this because He knew it was the plan of God and necessary for our salvation (1 Pet 2:21-2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Jewish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tthew 26:59-6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rk 14:53-6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uke 22:63-7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st lesson, looked at Jesus before Ann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really a trial, more like a preliminary examin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ping to find witnesses or evidence to use against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permitted by law or tradi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8:24 ends with Jesus being sent on to Caiaphas, the current high prie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8:28 begins with Jesus being sent from Caiaphas to Pila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skips over the whole Jewish tr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y does John skip the Jewish trial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haps because the story was recorded elsewhere (Matthew, Mark, and Luk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seems the case with the prayer of Jesus in Gethsema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perhaps because the Jewish trial was deemed less import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Jews did not have authority to execute Jesus so the Roman trial was the important 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rst is the more probable explan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IRST Jewish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ou might not realize that there seem to be 2 separate trials of Jesus by the Jew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thew and Mark seem to record the first, and Luke a second one (as we’ll see shortl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26:59-6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eeting of the Sanhedrin (council) at n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iolation of tradition which only allowed court proceeding to be held between morning and evening sacrifi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ght “false witnesses” – violation of the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IRST Jewish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ught “false witnesses”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olating tradition by “seeking witnesses” rather than just hearing those who came for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olating the La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y seeking false witness (Ex 20:16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y listening to false witness (Ex 23: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y not punishing false witnesses (Dt 19:15-2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restingly, could not at first find any testimony to put Him to dea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couldn’t get 2 to tell the same s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even lying, the witnesses didn’t say anything which would qualify as ‘believable’ and worthy of death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 Pet 2: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IRST Jewish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nally got 2 witnesses to say the same th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imed, “This fellow said, ‘I am able to destroy the temple of God and to build it in three days.’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Jesus say tha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2:18-2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: Jesus did NOT say He would destroy the temple, but rather that they wou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His words had been worthy of death, they would have arrested Him th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w almost 3 years have passed, people might recall He said something like what the witnesses claim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finally had a ‘believable’ 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IRST Jewish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26:62-63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gh priest asked Jesus to respo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charge had actually been ma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implied charge is that He threatened to destroy the temp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ithout some sort of attempt or preparation, it was not an offe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Law did not require the accused to testif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wish tradition forbade asking the accused to testif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remained silent (Isa 53: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IRST Jewish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26:63b-6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priest drops the threatening the te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ries a new approach by placing Jesus under oath and demanding an answer: “Tell us if You are the Christ, the Son of God!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iolation of Jewish tradition to try to get the accused to self-incrimin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, can’t be a crime under the Law to be the Christ since God clearly prophesied His co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nswers: Wh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ither because no crime is being charged, 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has been asked under oath to identify Himse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6:02:07Z</dcterms:created>
  <dc:creator>Glenn Hamilton</dc:creator>
  <dc:description/>
  <dc:language>en-US</dc:language>
  <cp:lastModifiedBy>Glenn Hamilton</cp:lastModifiedBy>
  <dcterms:modified xsi:type="dcterms:W3CDTF">2011-02-09T18:40:41Z</dcterms:modified>
  <cp:revision>3</cp:revision>
  <dc:subject/>
  <dc:title>The Jewish Trial</dc:title>
</cp:coreProperties>
</file>