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Father is God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41b-4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children of forn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physically of mixed blood (like Samaritan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spiritually worshippers of idols (Isa 57:1-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gain says, “N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 loves Jesus and sent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3:2, 16; 5:36-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can’t love God and not love One sent by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only did they not love Jesus, they would not even listen to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“genetic” disability based on who their father truly was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Your father is the devi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44-4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of that their father was the devi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evil was a murderer and liar from the beginn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ying to Eve in the garden with no regard to the tru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ing all to die (spiritual murd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luencing Cain to bring about the first mur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ere now seeking to murder Jesus (v4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had openly lied (v3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refused to give regard to the tru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their behavior was the same as the devil’s, then the devil was their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 is God’s chil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46-4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fore they could rally to try to turn the argument back to Jesus, he preempts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could not accuse Jesus of being a son of the devil unless they could prove He had sin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one could think of a single sin He had committ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proof He was God’s 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ce He never sinned, then what He was saying was tr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what He said was true, they should belie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ce they refused to believe or listen to the truth, they were not God’s childr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is your father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do we imitat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do we obe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do we seek to please in all we do and sa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do you tell people abou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company do you seek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word do we listen to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are not yet God’s child, then you are the devil’s child and a slave to s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the Son of God offers to make you free from sin so you can be a child of God (Jn 8:3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 is Your Father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33-4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d told the Jews that He was the Light of the worl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ose who followed Him could leave the darkness of 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backed up His claim, by His own witness as well as the Father’s witn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life, teachings, and miracles all bore witness to His pleasing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Jesus spoke, many listeners weighed the evidence and believed in Jesus (Jn 8:30-3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se who believed still needed to abide in His words to know the truth and be set free from 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e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ridiculous claim for the Jews to mak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slaved by Egyp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quered by various nations during the period of the Judg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slaved by Assyria (for the northern tribe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slaved by Babylon (for Judah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trolled by the Medo-Persian Emp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quered by Greece under Alexander the Gre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trolled by Seleucids and Ptolemi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quered by Ro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led by Idumeans and Roman govern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e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 why did they make such a laughable claim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people will say anything (false and/or ridiculous) to oppose the tru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people refuse to recognize their burdens and oppression, no matter how gre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ke gamblers and alcoholics who refuse to acknowledge their addi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asier to pretend there is no problem and get angry at those who point out the probl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de (in self, heritage, country, etc) is often a barrier to acknowledging one’s n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e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o was it that said this to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st group mentioned (v31) were the Jews who belie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this demonstrates how shallow their faith w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shows why Jesus told them to abide in His words, know the truth and let the truth set them fre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course He was talking to a larger group of Jews (many of whom believed, but not al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could be the non-believing Jews “grasping at straws” to keep from believ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a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34-3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s clear the freedom Jesus was speaking of (v32) was freedom from 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ignores claim to national freedom (until later) and points out their enslavement to s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 a slave to sin only requires committing a s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lave is merely a piece of property without any rights to the ho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ere claiming rights based on being Abraham’s descend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they were slaves, they had no ri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a son had rights, and those whom the son set f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 is your father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37-3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ly, they were, without doubt, descended from Abrah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because they were trying to kill Jesus (sinning), they could not abide in Jesus’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refore, they could not be set free by the S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 son behaves like his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, as already pointed out (vv28-29), taught and acted in ways that pleased His Fa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they (by their sins) were acting like their fa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leaves it there, not identifying their fa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father is Abraham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39-41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first claim is their father is Abrah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one they physically descended fr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ells them, “N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braham did not try to kill people who told him the truth, esp. truth from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braham believed God and obeyed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spiritually the Jews could not claim to be Abraham’s sons since they did not behave like Abraha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He tells them, they are behaving like their fa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he doesn’t identify their fa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3:25:34Z</dcterms:created>
  <dc:creator>Glenn E Hamilton</dc:creator>
  <dc:description/>
  <dc:language>en-US</dc:language>
  <cp:lastModifiedBy>Glenn E Hamilton</cp:lastModifiedBy>
  <dcterms:modified xsi:type="dcterms:W3CDTF">2010-06-30T16:37:30Z</dcterms:modified>
  <cp:revision>4</cp:revision>
  <dc:subject/>
  <dc:title>Who is Your Father?</dc:title>
</cp:coreProperties>
</file>