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reliminary Examina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eanwhile, in the house of Ann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hn 18:19-2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gainst Law and tradition, Annas . . 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Jesus at night, in private, without witnesses, and tries to get Him to self-incrimin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sked “about His disciples and His doctrine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haps looking for a list of names of others to arrest, as well as self-incrimin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simply points out that the doctrine was taught openly (unlike this trial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says there are many witnesses to His doctrine (and they should be questioned, not Him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reliminary Examina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8:22-24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officer obviously understood the remarks as a criticism of Annas (not following the Law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trikes Jesus (also against tradition to beat the accused since considered innocent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points out that if His words were an offense against the Law, then the officer could stand as a witness against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 law or tradition required deferential speaking to a current or former High Pries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 law or tradition required Jesus to answer questions designed to self-incriminat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nce Jesus refused to answer, He is sent to Caiphas, the current High Priest for tria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econd and third denials by Pet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8:25-27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while by the fire in the courtyard . .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eter is again questioned about being a discipl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 he denies 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third time Peter is question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time by a relative of Malchus whose ear Peter had cut of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kes it more likely he would be remembe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ter again denies being a discip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mediately the rooster crowed (Jn 13:3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uke 22:60-62 – Jesus, being led out of the house at that exact moment, turns and looks at Peter – and Peter leaves and wee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ter’s denial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t 26:31-35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ter, just hours earlier, had thought his faith and devotion unshake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n the arrest caused all to scatt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Peter and John follow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ter had three more chances to rectify his earlier action of flee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could have admitted his discipleship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he were willing to risk arrest and tri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thrice denied His Lor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n realizing what he had done, he went out and wept, unable to continue watching the t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t 10:32-33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e you willing to confess your relationship with Jesu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 does fear cause you to deny that He is your Lord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Pre-Trial of Jesu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ohn 18:12-27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rials are meant to be a means for separating facts from emo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find guilt based upon the evide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ifferent countries / cultures have different customs and laws for their trial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the case of Jesus, two different countries / cultures / laws were in effec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Jewish: concerned with local disputes and religious question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Roman: concerned with public order and capital crim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ch had its own laws for tri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Jewish Laws for Trial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stablishment of guilt (especially capital cases) required at least two witnesse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ut 17:6, 19:1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lse witnesses received the punishment that would’ve gone to the accused had it been true (Deut 19:16-21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accused was to have an impartial trial (including diligent inquiry into the facts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ut 13:13-14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udges were to seek justice and were forbidden . . . (Ex 23:1-3, 6-9)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listen to unrighteous witnes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be influenced by the majorit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be influenced by social position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take brib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consider one’s nationa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Jewish Traditions for Trial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rom the Talmud (late 1</a:t>
            </a:r>
            <a:r>
              <a:rPr b="1" lang="en-US" sz="2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and 2</a:t>
            </a:r>
            <a:r>
              <a:rPr b="1" lang="en-US" sz="26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century  collection of interpretations of the Law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keup of the Sanhedrin (intended to make it well-rounded AND impartial)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wenty-three each of priests (religious leaders), scribes (legal experts), and elders (respected men of the community), plus two presiding officers (total 71)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alification for judges were stric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oth parents had to be Jew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ell-educated in Moses’ law and Jewish tradition, as well as other subject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ainfully employed (or retired)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rally upright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udges had to be disintereste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uldn’t be a relative or heir of the accused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uldn’t stand to benefit by the accused’s death or condemnation (goes to the prohibition against bribes)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Jewish Traditions for Trial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rom the Talmu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te on guilt or innocence took place the day after the trial (giving emotions time to cool, time for deliberation and reflection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accused was presumed innocent and could not be compelled to testify against himself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 was no prosecutor except the witnes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 accomplice to the crime could not testif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court proceedings were to occur . . 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uring the day (between morning &amp; evening sacrifices)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 public (helped keep everyone honest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supposed to be any crooked dealings in private at nigh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Jewish Traditions for Trial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rom the Talmu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lloting (guilty/not guilty) was to begin with the youngest, most inexperienced judge, and proceed upward to the High Priest, who voted la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Kept younger, less experienced judges from being intimidated or swayed in their voting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a defendant was acquitted, the trial was over and the accused was released immediate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a guilty verdict was reached in a capital case, it was automatically re-voted the next da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Judges could change their votes from ‘guilty’ to ‘not guilty’, but not from ‘not guilty’ to ‘guilty’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y other procedural regulations, but this is enough to show what ought to have occurred in the trials of Jes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reliminary Examina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8:12-14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ken first to Annas, a former high priest, and  father-in-law to the current high prie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igh priesthood was a bought office (paid yearly to the Roman governor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the lifetime appointment of the line of Aaron as found in the O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 provision in the Law or tradition for this preliminary examinat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irst denial by Pet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18:15-1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was brought into the home of Ann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hn follows as far as the courtya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ices that Peter is at the do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Gets the servant-girl at the door to let Peter i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ervant-girl knows John (which is why she let him in) so she makes the connectio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You are not also of this Man’s disciples, are you?”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new John was a discip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the negative form of the question makes it clear she did not approve of discip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eter gives the simple “I am not” that would cause no problems, and waited by the fir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14:32:41Z</dcterms:created>
  <dc:creator>Glenn Hamilton</dc:creator>
  <dc:description/>
  <dc:language>en-US</dc:language>
  <cp:lastModifiedBy>Glenn Hamilton</cp:lastModifiedBy>
  <dcterms:modified xsi:type="dcterms:W3CDTF">2011-02-02T17:06:16Z</dcterms:modified>
  <cp:revision>3</cp:revision>
  <dc:subject/>
  <dc:title>The Jewish Trial of Jesus</dc:title>
</cp:coreProperties>
</file>