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ac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4:27-2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departing word: “Peace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was leaving, but the peace He left was more than what others lef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an empty word of departure, but an actual comfor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knew where He was go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knew He would retur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knew He would send the Spir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need to be worried, angry, or afrai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ther rejoice, because He was fulfilling the Father’s plan (a plan He had willingly submitted to for the hope of our salva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ruler of this worl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4:29-3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had told them of His coming death, departure, resurrection, and triump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 it would not surprise the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d so it would increase their fait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knows His time is very short, no time to talk and explain ful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“ruler of this world” (Satan, - Jn 12:31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ing for a final confrontation (Lk 4:1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Satan ‘has nothing in” Jes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be “in” Him requires belief, love, and obedience (Jn 14:20-2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tan would lose this confrontation, because there is no unity of purpose between th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said He is “in My Father” (Jn 14:20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one day soon, His apostles would see and understand what that mea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loved the Father and was going to continue obeying the Father (Jn 14:3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ven to dying on the cros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nce you see what it meant for Christ to be “in” the Fath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n you know what you must be to be “in”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Gal 3:26-29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e you ready to be “one in Christ Jesus”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ac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4:25-3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has told His apostles that He will not be with them much long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ter asked for more information, and Jesus revealed He was going to His Fath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would prepare a place for them then retur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omas asked for more information on the way and the destin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said He is the way and no one comes to the Father except through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hilip asked to see the Fath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said if one knew Him, they saw the Fa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oth “to know and see” being equal to “to believe and obey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told them that the Father would send another paraclet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terwards the world would see Jesus no more, but His disciples would see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udas (not Iscariot) wanted to know how they could see Jesus while the world wouldn’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again points out that “seeing” is the same as “loving and obeying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d “love and obedience” is being “in” Jesus and having God “in” u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Holy Spiri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4:25-2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Holy Spirit is the other paraclete (aid/defender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mes in Jesus’ name, by His authorit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t of the same plan, nothing contr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ill teach you all things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ill . . . bring to remembrance all things that I said to you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are these two promise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e these promises applicable to all believer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e’ll begin with the second ques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romis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s we discussed in an earlier less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is talking to His apost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en He wanted to make clear a promise had applicability to other believers He changed pronouns (Jn 14:12, 21, 23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me promises were given in other places to other believers (e.g., Jn 14:13 and Mt 7:7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ess there is one of the two exceptions, then promises to the apostles are not promises to all believ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urthermore, the promise of “remembrance” would make no sense for those who were not there in the first pla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romis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ow what were the apostles promised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be taught all things and to remember all things Jesus taught th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l things” would mean “all things that needed to be taught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pirit was coming in Jesus’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was continuing the same pl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had not had time to teach the apostles everything they needed to kno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.g., teaching about the church, the form of worship after His death, Gentiles, etc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apostles had been having a hard time understanding Jesus’ teach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pirit would remind them so that they could understa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romis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y did they need the Spirit to do these things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 Cor 2:6-1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o understand the wisdom of Go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luding the plan of salv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o make sure the right words were us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o make the right comparisons (spiritual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o reveal “the mind of Christ” (v16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necessary part of being a child of God (Phil 2: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romise of remembrance was simply a part of the promise of teaching all thing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Spirit would make sure everything needed was taught and remember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romis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id the Holy Spirit complete that task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ude 3 “the faith . . . once for all delivered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Pet 1:3-4 “given to us all things that pertain to life and godliness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Cor 13:8-12 “when that which is perfect has come, then that which is in part will be done away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at which was “in part” is clearly “prophecy”, but what was the “perfect”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ames 1:22-2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word, the perfect law of liber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es, the Spirit taught all things to the apost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d they recorded them for us under His guid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4:48:44Z</dcterms:created>
  <dc:creator>Glenn E Hamilton</dc:creator>
  <dc:description/>
  <dc:language>en-US</dc:language>
  <cp:lastModifiedBy>Glenn E Hamilton</cp:lastModifiedBy>
  <dcterms:modified xsi:type="dcterms:W3CDTF">2010-11-24T17:16:17Z</dcterms:modified>
  <cp:revision>2</cp:revision>
  <dc:subject/>
  <dc:title>Slide 1</dc:title>
</cp:coreProperties>
</file>