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we go from he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30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ill incr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re disciples, more import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will decr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er disciples, lesser import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as what John’s followers were afraid 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 matter to be disp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from heaven and therefore is above 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could make no such claim, he was earthly and could only speak of earthly th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viously Jesus could speak of heavenly things since He came from abo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estimony of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32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one from above, Jesus could speak of greater things than Joh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poke of what He saw and heard (abov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t most did not receive His testimon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’s followers said, “all are coming to Him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said, not really, very few are willing to acce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few willing to accept Jesus’ testimon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accept it requires one to accept ALL of God’s word as tr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willing to pick and choose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says that is a rejection of Jesus’ testimo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“all or nothing”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3:34-3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, sent from God, speaks the words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t occasionally, like OT prophets when inspir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completely and ful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ou can’t accept only part of what He say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is loved by the Father and has been given all things (Mt 11:27, 28:1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ngs of salvation, judgment, et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ou can’t only accept part of His author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believe Jesus (accepting all He taught) then you have eternal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don’t believe (rejecting any of His word) then no eternal life and will face God’s wr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b 10:26-3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have faith in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ill you do with your faith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truly believe, then you must take all He said and tau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ject any of His teachings is to rejec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ll you obey Him 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rther Testimony of        John the Bapti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22 – 4: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had earlier been approached with the question “Who are you?” (John 1:19-2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estified he was not th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ather he was the foreru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the greater person was among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later testified that Jesus wa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b of God (John 1:29,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whom the Spirit descended (Jn 1:32-3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on of God (Jn 1:3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a result a few of John’s followers became disciples of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22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nd His disciples go into Jud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ably the time immediately following the feast in Jerusalem when Nicodemus came to see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ft Jerusalem and went into the Judean countrys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were being baptiz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4:1-2 the disciples did the actual baptiz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accordance with what Jesus said in Jn 3: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ptiz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early baptism was essenti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de this clear (Mk 16:1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made it clear (Acts 2:3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ul made it clear (Rom 6:3-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baptis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ul’s statement that it is a burial is cl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some think it is sprinkling or pour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rhantiz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“to sprinkl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kche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“to pou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baptiz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“to immerse, to submerg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why they chose a location with “much wate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ispu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ween John’s disciples and the J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Jew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Jews baptized by Jesus’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Jews who refused to be baptiz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4:1 implies they were Pharis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 of “disput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 here means a “searching, questioning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isees perhaps trying to cause strife between John’s and Jesus’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opic was “purificati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t. “washing”, a reference to the baptizing both Jesus’ disciples and John were do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ques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lear reference to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with John beyond the Jord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the one of whom John testifi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question (though not actually stated) seems to be, why does Jesus get more discipl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Jesus was younger than John, newer as a teacher than John, began alongside John, and was testified to by Joh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n’t He be considered a subset of Joh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houldn’t He be sending people to John to be baptiz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per or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27-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der of precedence is not determined by chronology but by auth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this case authority from heav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said he already made clear he was not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position was that of fore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orerunner naturally comes first chronolog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a forerunner never has the rank of the one who comes after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analog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the one the bride follo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riend of the bridegroom” (similar to our “best man”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ten involved in pre-wedding arrang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ed on the groom’s instruc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s happy when the wedding takes pla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the bridegroom, the disciples are His bride, and John was the fri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did his part in getting them toge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now his joy is complete – mission accomplish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40:49Z</dcterms:created>
  <dc:creator>Glenn E Hamilton</dc:creator>
  <dc:description/>
  <dc:language>en-US</dc:language>
  <cp:lastModifiedBy>Glenn E Hamilton</cp:lastModifiedBy>
  <dcterms:modified xsi:type="dcterms:W3CDTF">2010-02-10T16:59:07Z</dcterms:modified>
  <cp:revision>4</cp:revision>
  <dc:subject/>
  <dc:title>Further Testimony of        John the Baptizer</dc:title>
</cp:coreProperties>
</file>