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meantime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n know Who Jesus is by examining His teachings and His 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He speaks is what the Father tau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contrad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s clear the Father is “He Who sent 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He does i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n accordance with God’s teach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 claim even the Pharisees would ma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rfection of His life, and His miracles, demonstrated the Father’s approval (Jn 8:16-1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8:30-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took up the challenge Jesus laid d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oked at His teachings and His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they believed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as belief alone enough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id, they needed to abide in Hi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th alone is NEVER enough (Jas 2:14-2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d obedience to His word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:12 – belief is necessary in order to have the right to become a child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faith does not make you a child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s 2:38; Gal 3:26-2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uth will make you fr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en after we believe and after we become childre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till must “abide” (Jn 15:1-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we abide in His words, we will know the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uth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uth Jesus taught from God (Jn 8:2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uth of God’s word (Jn 17:1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at truth will set us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ee from what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 6:16-2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d from the bondage of sin and its penalty -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them they were world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y remained worldly, they could seek a Savior, but they wouldn’t find the Savior God had 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God’s Savior they would die in their s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believe in God’s Savior you can escape from the power of s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till must act upon that belief (repentance, confession, bapti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till must abide in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n know the truth, and the truth will set you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uth Shall Make You Fr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1-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this day, Jesus ha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ealed the sins of those who accused the adulterous wo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ught that He was the Light of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could lead out of the darkness of sin those who are willing to follow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sed the Jewish leaders of not knowing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Jesus will further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e their lack of knowled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about leaving sin and following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 going away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1-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before, Jesus had made similar comments (John 7:32-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, they thought He was going to Gentile la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y think He is going to kill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because He had used the word “di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missed/ignored the rest of His remar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His departure, they would seek H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seeking Jesus, but th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He had already come (Jesus), they would not fin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out a Savior, they would die in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were bo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is world (beneath)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is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ce of origin as well as minds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bo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eaven (above)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is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place of origin in heaven, and also His mindset – on spiritual th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hird possibility would be to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world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worl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7:14-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arthly origin, but a heavenly mind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long as one’s mindset remains tied to the world, there can be no hope of forgive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rder to be forgiven, one needs to believe in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lieve what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ieve that I am” there is no “He” here in Gr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o eim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“denotes continued existence without respect to time” (Barn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valent to what God said of Himself -Ex 3: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d the Jews understand what Jesus was say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5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sked for clar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am” would normally be followed by a name, position, description, or tit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many modern commentators, they assume Jesus simply dropped a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e had been telling them Who He is from the beginning (conversation or ministry?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versation: “Light of the world” (Jn 8: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nistry: The Son of Go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likely since He speaks of “He Who sent 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ou can know Who He is, by His teachin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eaching the things of “He Who sent 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those things are tr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ality of God (Ex 34:6; Dt 32: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will still be time for more teachings, many of which will judge (condemn) the J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many of the teachings will be for the world, not just the Jew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God is true and keeping His prom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 Jews didn’t understand the “He Who sent Me” was the Fath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Jesus gets more specifi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28-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lift up the Son of Man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expression with two possible meaning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you “lift Him up” in your heart, exalt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you physically “lift Him up”, crucify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3:14-1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’ll know that “I am” (no “He”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ain a statement of de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who accept and exalt Him know He is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non-believers knew His deity at the crucifixion (Mt 27:5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26:03Z</dcterms:created>
  <dc:creator>Glenn E Hamilton</dc:creator>
  <dc:description/>
  <dc:language>en-US</dc:language>
  <cp:lastModifiedBy>Glenn E Hamilton</cp:lastModifiedBy>
  <dcterms:modified xsi:type="dcterms:W3CDTF">2010-06-23T14:43:19Z</dcterms:modified>
  <cp:revision>3</cp:revision>
  <dc:subject/>
  <dc:title>The Truth Shall Make You Free</dc:title>
</cp:coreProperties>
</file>