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atred without cau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their hatred of Jesus was not a surpri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quotes either Ps 35:19 or Ps 69: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s 35 &amp; 69 written by David when his enemies thought his troubles showed he had been abandoned by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bably during Absalom’s rebell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acted against him without cau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Lord would show them they were wro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like manner, Jesus had done nothing to merit their hat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owing someone where they have sinned is an act of love, not ha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pir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5:26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pirit, as paraclete and as the Spirit of truth from the Father, would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stify of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had already said who He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had already proved this by mirac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as rejected by the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the Spirit would continue that testimo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the apostles would be part of that “bearing witness” (Heb 2:1-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We’ll have more to say about the Spirit’s work in the next lesson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how will the witness of the apostles (with the Spirit’s help) be receiv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je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6:1-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Christ was rejected, they would be rejec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ould be kicked out of the synagog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ould be killed by those who wrongly thought they obeyed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s 8:1-3, 26:9-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ells them of these things so they would not be surprised when it happe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o a further evidence of His knowledge of the futu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cause I was with you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ends saying there were things He had not told them at the beginning because He was with th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ings? A couple possibil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me as the things of v1, i.e., about the rejection and persecu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did tell them about it in Mt 10, abt 1 yr earl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not from beginning, and not to this ex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He was taking the persecution on Himself, wasn’t affecting them y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the things He is about to say about the Spir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d not before been told to th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He was with them as paraclete, but now He was leaving so they needed to k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 be a disciple, one must realize he will be hated by the worl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so-called Christians change doctrine so the world will not hate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ys they are not His disc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cause a servant is not greater than his mas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ur Master was rejected and ha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we are His servants, the same will befall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still willing to follow Him, knowing the cos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o, why not now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je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5:18 – 16: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s told His disciples about His coming crucifix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even told them that one of them would betray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told them that they will not be greater than He (Jn 13:1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w He makes clear for them one of the costs of discipleshi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orld’s hatr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5:18-1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rld hated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3:19-2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se engaged in sin who do not want their sin expos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He’s unwilling to compromise with s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7: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He called sin “evil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 world hates you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Greek tense and mood assumes the condition is already or soon will be m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orld’s hatr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y does the world hate disciples of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me reason they hated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n’t want their sin expos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Jn 3:10-1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ke Cain, whose sin was seen clearly by comparison with Abel’s sacrif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Jn 2:15-1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want their hopelessness reveal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thing the world strives for is passing away, fruitless lab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we have the same goals and attitudes as the world then the world will not hate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if the world does not hate us, then we are NOT His disciples!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secution / Reje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5:20-2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Jesus had said before (Jn 13:16), they would not be greater than 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He had told them when He sent them out before (Mt 10:16-3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ould not be treated better than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Jesus was persecuted (and He wa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His disciples will be persecuted (2Tim 3:1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secution is because they do not “know”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“know” God is to believe and obey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they “knew” God, then they would have believed and obeyed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cceptan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 the other hand, Jesus says those who would obey Him will obey the apost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ant to reject some or all the apostolic writ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they won’t listen to the apostles, they wouldn’t have obeyed Jesus ei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? Because Jesus was sending the apostles and giving them authority (Mt 28:18-2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atred without cau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5:22-2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Jesus had not come and revealed Himself as the Christ, then they would not have sinned by rejecting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[Not discussing other sins, which, of course, they would still have been guilty of]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of course, He did come and He did reveal Himse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eir rejection of Him was sinf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ed a hatred of not only Jesus, but of the Fa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ather had sent Him and had told them of His co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atred without cau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Jesus had not done miracles unlike any previously done, then they would not have sinned by rejecting Hi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Again not discussing other sins, which, of course, they would still have been guilty of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of course, He did do miracles never seen before (changing the water, walking on water, calming the storm, raising Lazarus, et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their rejection of Him after seeing the miracles was sinful and showed a hatred of both Jesus and the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iracles showed without question He was from the Father (Jn 5:3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4:14:42Z</dcterms:created>
  <dc:creator>Glenn E Hamilton</dc:creator>
  <dc:description/>
  <dc:language>en-US</dc:language>
  <cp:lastModifiedBy>Glenn E Hamilton</cp:lastModifiedBy>
  <dcterms:modified xsi:type="dcterms:W3CDTF">2010-12-08T16:19:10Z</dcterms:modified>
  <cp:revision>3</cp:revision>
  <dc:subject/>
  <dc:title>Rejection</dc:title>
</cp:coreProperties>
</file>