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7AC-74E8-4866-9D4D-53086C1C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D8A-E1E9-4572-A44A-79F1D1FF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25E-4AEC-4827-B1E8-21991F01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E0C-8632-4E25-93A6-E00890E4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F238-8145-43B8-BA88-F1453990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341A-056E-467C-8C2E-4EA4D96D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1554-22E5-49E9-AD57-3340AC7D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0D3F-118B-4178-A1B3-832FD859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8E99-CE28-4734-8DF3-184B7829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DCAD-745B-4CD1-9575-B7ED764D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0DD2-915C-4CE2-8D2F-4D5D5429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87BF-905D-4111-B5F6-26CA0B33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74C7-F272-4968-B4DA-DF42EA7A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FA05-C36D-422A-86CC-7C99EAAB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1A92-6FB6-4E30-A7B2-985F564C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8585-5935-4EDE-A928-C56A9A9E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7146-24BC-4B63-9D67-7BD37F14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05B-CE92-44FC-9F01-06FC1C64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5487-8045-4006-A7E5-1E6A2F22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AB4-7AA1-47AB-A4CD-6382D08F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29D-AB2F-40D1-AE9F-3A581FE7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9B5-FA1D-4553-96AD-7771AA82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0AB-2147-44D8-9AFD-65F08F0E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648-9ABF-4E83-8601-AB05C094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B5F3-AC93-4869-AAAD-DF3675EF80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ABA2-6A12-497F-A5C3-9E3C4889DC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Organization</a:t>
            </a:r>
            <a:br>
              <a:rPr sz="44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Data Collection Recommendations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s Ful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73840" y="533520"/>
            <a:ext cx="1969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B9E9-5C3E-47FE-93DC-3CC6B04EBCEF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Go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archable index of previous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y of analysis + reference to full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e text format for future flex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ve intermediate file (w/ later verifica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 organ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more than 20 fiel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sential universal inf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itional info in com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x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095880" y="4419720"/>
            <a:ext cx="2276640" cy="1593720"/>
          </a:xfrm>
          <a:prstGeom prst="rect">
            <a:avLst/>
          </a:prstGeom>
          <a:ln w="0">
            <a:noFill/>
          </a:ln>
        </p:spPr>
      </p:pic>
      <p:pic>
        <p:nvPicPr>
          <p:cNvPr id="98" name="x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257800" y="3581280"/>
            <a:ext cx="2200320" cy="15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29E-3F0D-4D23-985D-CCB24F8F283E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eibull Libr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st Important Part of Weibull Engineer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seful as Lessons-Learned datab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nables and justifies Weibayes for improved resul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Can Help Easily Generate Library Items after Each Anal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09680" y="3429000"/>
          <a:ext cx="612324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29000"/>
                    <a:ext cx="612324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2514600" y="4267080"/>
            <a:ext cx="3352680" cy="1617840"/>
            <a:chOff x="2514600" y="4267080"/>
            <a:chExt cx="3352680" cy="1617840"/>
          </a:xfrm>
        </p:grpSpPr>
        <p:sp>
          <p:nvSpPr>
            <p:cNvPr id="104" name=""/>
            <p:cNvSpPr/>
            <p:nvPr/>
          </p:nvSpPr>
          <p:spPr>
            <a:xfrm>
              <a:off x="2590920" y="4267080"/>
              <a:ext cx="53316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5486040"/>
              <a:ext cx="335268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Easily Generate Library Item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6880" y="4724280"/>
              <a:ext cx="381240" cy="761760"/>
            </a:xfrm>
            <a:prstGeom prst="upArrow">
              <a:avLst>
                <a:gd name="adj1" fmla="val 50000"/>
                <a:gd name="adj2" fmla="val 49953"/>
              </a:avLst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B11-88C5-4DAE-8924-D72014B411A7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80880" y="762120"/>
          <a:ext cx="7621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19320" y="1143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762120"/>
            <a:ext cx="6019920" cy="178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…Save Library Item As Text Line Upon File Sav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…(TBD) Add Library Item To Library 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…(TBD) Edit Library ---------------------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…(TBD) Find / View Former Results In Library 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1447920"/>
            <a:ext cx="838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236232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236232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4520" y="1447920"/>
            <a:ext cx="0" cy="4190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543800" y="563868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9718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et search input from user … load into it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how located inform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50292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Put present results into items for recor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If similar then insert record there, ELSE appe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4419720"/>
            <a:ext cx="495288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dd, alter, delete records in LIB-W-FF.TX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1905120"/>
            <a:ext cx="457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53280" y="1905120"/>
            <a:ext cx="0" cy="2743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543440" y="464832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666880"/>
            <a:ext cx="190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1):           A password may be needed for options D,E,F. Each password is scrambled and saved in an intialization  fil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1055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2): Phantom duplicate library file needed for safety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838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(No Password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Weibull Library Sele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66688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For typical library file LIB-W-FF.TX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233-51F2-4732-8483-5D57258AE9EF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ach Weibull Library Record (* = Automatic From Analysis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* Path\Filename of complete analysis … (update if changed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Title … at top of Weibull plo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e record created … YYYY-MM-D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By … person saving the record … including password ID designation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device … bearing, seal, housing, shaft, solder joint, connector, IC, lamp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quipment … actuator, motor, valve,  pump, conveyor, controller, display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mechanism (root cause) … fracture, thinning, leaking, open-circuit, mixed 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customer duty cycle … continuous, on-off schedule, load level, impact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nvironment … humid, hot, sub-zero, 20DegC-35DegC, vibration, shock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Model type … W, N, L, G-, G+ 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Fit type … rr, rrs, mle, RBAmd,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Confidence type … pvD90, fm-95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units … hours, cycles, months, miles, inches, degK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ypical value … Eta, Mu, MuAL, Xi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variability value … Beta, Sigma, SigF, Del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0 value … t0 (lo-med-hi value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(Qty = 4) Comment fields … customizable for each individual librar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2C5-408E-4754-BF2D-63C0456AB983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Weibull Library Comment Field Possibilitie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1: Detailed Item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a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2: Detailed Application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duct Line or Product Mod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ilitary or Non-Milita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3: Detailed Time Peri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cord Reference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ginning of Period to End of Period (Calendar Tim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4: Referen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po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est Procedu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F2D-6B8F-4705-9EE3-A157E06AE2E5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LIB-W-FF.TXT File (Typical Weibull Library File)</a:t>
            </a:r>
            <a:br>
              <a:rPr sz="28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1 Header Row and 2 Records Shown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447920"/>
            <a:ext cx="8382240" cy="37551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Path/file”, “Title”, “Date”, “By”, “Device”, “Equipment”, “Cause”, “Duty”, “Environment”, “Model”, “Fit”, “Confidence”, “Units”, “Typical (lo/med/hi)”, “Variability (lo/med/hi)”, “t0 (lo/med/hi)”, “Comment1”, “Comment2”, “Comment3”, “Comment4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motor3.w”,  “Cyclone 447 Prototype”, “2002/06/25”, “WF(CY4P)”, “Housing”, “Motor”, “Fracture”, “Continuous@180% N. O. Load”, “90% Humidity”, “Weibull”, “rr”, “pvD90”, “Hours”, “4.3/8.7/11.5”, “2.8/3.6/5.1”, “0/0/0”,”Part#=55232”,”Name=Tri-Cities Traction”, “Analysis 1997/03/01 - 2001/08/22”, “Reliability Report R-887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valve16.w”, “Series II Bypass Valve”, “2002/07/04”, “WF(CY4P)”, “Set(1)Journal Bearing:Set(2)Journal Bearing”, “Set(1)Valve:Set(2)Valve”, “Set(1)Contamination:Set(2)Contamination”, “Set(1)Pressure=32psi:Set(2)Pressure=27psi”, “Set(1)320degK:Set(2)340degK”, “Weibull”, “rr”, “pvD90”, “Cycles”, “Set(1)20015/24552/32813:Set(2)38744/43272/48923”, “Set(1)2.3/2.9/3.5:Set(2)1.8/2.2/2.6”, “Set(1)0/415/0:Set(2)0/-1352/0”, “Part#=61248”, “Name=S2”, “Analysis 1995/07/15 - 2002/02/19”, “Warranty Analysis Report W-293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486400"/>
            <a:ext cx="8382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1): The “:” sign (colon) is used for the entry separator … for example for multiple data set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2): Can aggregate individual LIB-W-FF.TXT files into Master Library..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4BB-5A7C-497F-BB55-A6CF1E153D91}" type="slidenum">
              <a:t>7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5:35:44Z</dcterms:created>
  <dc:creator>bob</dc:creator>
  <dc:description/>
  <dc:language>en-US</dc:language>
  <cp:lastModifiedBy>Wes Fulton</cp:lastModifiedBy>
  <cp:lastPrinted>2000-12-01T17:55:56Z</cp:lastPrinted>
  <dcterms:modified xsi:type="dcterms:W3CDTF">2011-03-09T04:10:29Z</dcterms:modified>
  <cp:revision>50</cp:revision>
  <dc:subject/>
  <dc:title>6     Weibayes &amp; Weibayes  Substantiation Testing...</dc:title>
</cp:coreProperties>
</file>