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11EB-2EC9-4E4C-9E18-BE8CF53CA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8 11 27  Previous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20 05 20  Removed LLC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0905-BDF1-46AF-B254-1E50436078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area under each curve = 1, definition of probability density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definition of cumulative distribution function, C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hapes are different because of beta, or slope.  These lines have the same eta, or characteris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CDF goes 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4200-BC6E-4269-B91B-1652A615BF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Monte Ca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2E9E-9E01-48BE-9AA5-A77809B428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 can convert various Warrant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classes on Life Cycle, Production Reliability (Barr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thing: Weibull Library…. te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5391-4885-484A-852C-FD7BAB2EF8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7232-05BD-4BDF-9CAA-9EA51C2CAB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AA = Army Material Systems Analysis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A9BA-2D69-4977-B04E-761050C7E4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metric: Fit to an equation: y=mx+b.  Parameters are m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is non parametric.  No parameters.  Just add and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E051-8B2B-49CF-BE6B-DE0F7FF924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omial 2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sson: count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as mean, standard deviation.  Doesn’t work well for lifetim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mix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values, Gum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rameter, a delay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What are the 6 extreme value mode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E166-9E51-48DD-9079-CC8B456149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5CC-4B91-431D-8ADD-EACBA245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3C2-9FED-4307-A8D5-6CE6B5C1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3A5-B2C7-4B44-81E3-F8E234DD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E6D-E0AE-4B1A-8EED-DB7BB2B3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FB6C-5D32-431E-9E2A-A4F304A2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330E-0A54-4305-8B29-7F46DFF7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0056-8089-4D0F-A72C-46B3F2E7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47FD-4370-493E-AA97-63ADF884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3E71-AD53-43B2-9385-9414138E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5521-5F18-4B9A-9E87-2C30301B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913A-2A56-4242-928A-8A268357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232-E34D-4992-89C2-5BE9AB4D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0F4E-E885-4ABD-81AB-9C6888B7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C41D-AABE-46F0-B9CB-2F169540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D14C-DA18-4DA4-A846-8C367FA3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2C4F-BFF4-4200-96EC-CEBBC070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5541-A336-4745-B50B-156DACBA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09674-6EFB-4670-B7B8-7377694A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7205E-2396-4D52-9A1B-923861F5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7E3D2-0D87-4872-95F0-A186C043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739BD-6092-4255-8EA4-5FE23C2C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D7224-72DE-426C-82C7-342183D6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C58-3A3F-4501-AE7E-F5846D5A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95D39-9E68-43EA-909E-8830CC2D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F7862-7FF0-4A9B-93E5-8E228926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836B5-1583-4BF9-BC60-F6D60D78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930C1-BE79-499C-A301-BD62163A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BB2FE-16E1-4E90-8A99-9F2E5DF9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9270C-7F2A-4840-89FB-072FC575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2D915-D598-4F13-BF84-33B40FE4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D702-22D6-425C-9B48-3B6F867B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4CA-14DE-40F2-8998-83696398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B668-6B35-427E-AB18-9B8F3568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879-8C3C-439E-B5C9-A72A27C8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C72-0DA1-463E-9751-CBED08E8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A92C-42D4-4718-AE4C-57156B2D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2680" y="6532200"/>
            <a:ext cx="1904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C023-9007-4DCF-8610-0BD336964D8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34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1035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36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037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038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39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040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041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042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043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044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45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46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47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048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9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050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051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052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053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054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55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56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52640" y="6509880"/>
            <a:ext cx="289548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47080" y="6497280"/>
            <a:ext cx="1371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9C13-A7B8-4681-9237-928BC3447E0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32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46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4B10-DAC2-400B-B06E-1604FD23329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2"/>
          <p:cNvSpPr/>
          <p:nvPr/>
        </p:nvSpPr>
        <p:spPr>
          <a:xfrm>
            <a:off x="3753000" y="6510240"/>
            <a:ext cx="28954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eibull Int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troduction to Dr. Bob’s Weibull Engineering Workshop by Wes Fulton and Carl Taru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0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Slide Number Placeholder 1"/>
          <p:cNvSpPr/>
          <p:nvPr/>
        </p:nvSpPr>
        <p:spPr>
          <a:xfrm>
            <a:off x="7147080" y="6497640"/>
            <a:ext cx="1371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A887-D720-4E5A-B7E0-32C001840F4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inom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371600" y="1495440"/>
          <a:ext cx="6705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95440"/>
                    <a:ext cx="6705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82EA-78C9-42DE-ADFB-C0905345A1D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sson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469764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D953-1CD4-47AF-8804-F46F885291E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onent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9080"/>
          </a:xfrm>
          <a:prstGeom prst="rect">
            <a:avLst/>
          </a:prstGeom>
          <a:ln w="0">
            <a:noFill/>
          </a:ln>
        </p:spPr>
      </p:pic>
      <p:sp>
        <p:nvSpPr>
          <p:cNvPr id="282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09EC-0236-41CA-8A3F-1862CFDF4F9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18584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8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505F-C50A-4DAF-96B1-81AF5DDBE56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og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764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40BF-CA74-4CE8-9475-2FE4FC6C743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Extreme Value Distribu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Type I Only … (II &amp; III Not Shown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201680" y="1523880"/>
            <a:ext cx="6738840" cy="46674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3665-25F6-4306-BCF4-ACE7571D062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Weibull Distribution … Extreme Value Type III Smallest … USEFUL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98" name="Straight Connector 4"/>
          <p:cNvSpPr/>
          <p:nvPr/>
        </p:nvSpPr>
        <p:spPr>
          <a:xfrm>
            <a:off x="-2590920" y="41148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traight Connector 5"/>
          <p:cNvSpPr/>
          <p:nvPr/>
        </p:nvSpPr>
        <p:spPr>
          <a:xfrm flipV="1">
            <a:off x="-2438280" y="27428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6"/>
          <p:cNvSpPr/>
          <p:nvPr/>
        </p:nvSpPr>
        <p:spPr>
          <a:xfrm>
            <a:off x="-2357280" y="3032280"/>
            <a:ext cx="1784160" cy="1011240"/>
          </a:xfrm>
          <a:custGeom>
            <a:avLst/>
            <a:gdLst/>
            <a:ahLst/>
            <a:rect l="l" t="t" r="r" b="b"/>
            <a:pathLst>
              <a:path w="1784733" h="1010920">
                <a:moveTo>
                  <a:pt x="0" y="1010920"/>
                </a:moveTo>
                <a:cubicBezTo>
                  <a:pt x="200140" y="713465"/>
                  <a:pt x="400280" y="416010"/>
                  <a:pt x="528810" y="250757"/>
                </a:cubicBezTo>
                <a:cubicBezTo>
                  <a:pt x="657340" y="85504"/>
                  <a:pt x="620617" y="-52207"/>
                  <a:pt x="771181" y="19402"/>
                </a:cubicBezTo>
                <a:cubicBezTo>
                  <a:pt x="921745" y="91011"/>
                  <a:pt x="1263268" y="533522"/>
                  <a:pt x="1432193" y="680414"/>
                </a:cubicBezTo>
                <a:cubicBezTo>
                  <a:pt x="1601118" y="827306"/>
                  <a:pt x="1722304" y="864029"/>
                  <a:pt x="1784733" y="900752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-2171880" y="4210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P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Straight Connector 8"/>
          <p:cNvSpPr/>
          <p:nvPr/>
        </p:nvSpPr>
        <p:spPr>
          <a:xfrm>
            <a:off x="-2435400" y="58896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Straight Connector 9"/>
          <p:cNvSpPr/>
          <p:nvPr/>
        </p:nvSpPr>
        <p:spPr>
          <a:xfrm flipV="1">
            <a:off x="-2282760" y="45176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Freeform 10"/>
          <p:cNvSpPr/>
          <p:nvPr/>
        </p:nvSpPr>
        <p:spPr>
          <a:xfrm>
            <a:off x="-2201760" y="4622760"/>
            <a:ext cx="1773000" cy="1195560"/>
          </a:xfrm>
          <a:custGeom>
            <a:avLst/>
            <a:gdLst/>
            <a:ahLst/>
            <a:rect l="l" t="t" r="r" b="b"/>
            <a:pathLst>
              <a:path w="1773716" h="1195977">
                <a:moveTo>
                  <a:pt x="0" y="1195977"/>
                </a:moveTo>
                <a:cubicBezTo>
                  <a:pt x="200140" y="898522"/>
                  <a:pt x="347032" y="920557"/>
                  <a:pt x="506777" y="810388"/>
                </a:cubicBezTo>
                <a:cubicBezTo>
                  <a:pt x="666522" y="700219"/>
                  <a:pt x="818921" y="637789"/>
                  <a:pt x="958468" y="534965"/>
                </a:cubicBezTo>
                <a:cubicBezTo>
                  <a:pt x="1098015" y="432141"/>
                  <a:pt x="1208183" y="281577"/>
                  <a:pt x="1344058" y="193442"/>
                </a:cubicBezTo>
                <a:cubicBezTo>
                  <a:pt x="1479933" y="105307"/>
                  <a:pt x="1711287" y="-30567"/>
                  <a:pt x="1773716" y="6156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-2016000" y="598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3113-3EFA-424E-A95B-6D54C66131C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erience Data Vs. Age Dat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xperience data is useful for general tren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operation of all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even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Use technique such as Crow/AMSAA to evalu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data is useful for more precise Weibull engineering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ge = amount of use since new for each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standard analysis each data value is either…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Occurrence (= age to failure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uspension [= length of successful operation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0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0CB5-0258-4350-8E9E-8A038354C6D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w Product Develop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13" name="Object 4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828720" cy="25146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eliminary models (parts count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, MTBF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1st principles: physics of failure (POF) and probabilistic analysis by Monte Carlo simul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evelopment testing (“Weibayes” substantiation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row/AMSAA for test, analyze and fix (TAAF) effor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celerated testing (&amp; step-stres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totypes &amp; lead-the-fleet equi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16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5A9A-E052-4800-95D1-2C234948C1C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ervice &amp; Maintenance Data Analysi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2044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liability Centered Maintenance (RC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good age-to-failure record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on failed item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Failure type is IMPORTANT to know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corrective action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lso 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on successful item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“suspensions”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Failure ages known (but suspensions?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Month of Production (M.O.P.) vs Months in Service (M.I.S.) includes suspension inf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uperSMITH® can convert from M.O.P.-M.I.S. dat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323" name="Object 4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000160" cy="175392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2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BC54-A3AC-4295-81FE-B4FC248CE1F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8060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What Students Can Do After Graduating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from the Weibull Workshop …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lect and fit a variability model for most measu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Interpret non-linear data patterns on probability scal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ecast risk using the selected model with added usage rat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mulate random samples to answer difficult ques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Choose between graphical and non-graphical solu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m a database of previous results to improve accurac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lan a test to demonstrate capability or reliabi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valuate test results (standard, accelerated, or step-stress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stablish lower and upper confidence bounds for resul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pply simple related probability models when neede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erform general trend analysis for tracking progres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14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Slide Number Placeholder 8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FE80-8D7F-47F9-A93E-9FE713A3865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inally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st Important Thing Is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The Weibull library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o plan for the future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tart and maintain a good Weibull library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ave results from every analysis…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equipment analyzed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usage of analyzed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failure under investiga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odel type, fit type, parameter valu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nd other information as appropri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6781680" y="2133720"/>
          <a:ext cx="8384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133720"/>
                    <a:ext cx="838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3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B967-106A-4298-BE07-7B5A016BFF1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xt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the Rest of the Story .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41" name="Object 4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617560" cy="2090880"/>
          </a:xfrm>
          <a:prstGeom prst="rect">
            <a:avLst/>
          </a:prstGeom>
          <a:ln w="0">
            <a:noFill/>
          </a:ln>
        </p:spPr>
      </p:pic>
      <p:sp>
        <p:nvSpPr>
          <p:cNvPr id="342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CEB2-0D2C-41B6-A087-6F8A5855370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tudent Intro’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current job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experience with Weibull (if any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goals for the clas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E29D-7882-46B2-8657-9F3FD74825B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o Begi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hat is reliability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oint estimates related to reliabil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ariability vs. Point estima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andard variability distribu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ew product development techniqu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rvice data analysis ... warranty da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Impact"/>
              </a:rPr>
              <a:t>The most important th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5" name="Object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2622600" cy="281916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2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7F1B-E05B-4DEB-9640-9D6C3FE2BA6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 Is Reliability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Reliability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)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probability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of succes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Or …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= 1 - (probability of failure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eed a good specification of what is acceptable and what is not acceptabl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ctual reliability can change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esign or with different assembl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length of service requi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uty cycle and different load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environ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qua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maintenance practi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So … reliability is a moving target ! ! 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34" name="Object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301840" cy="32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Object 5"/>
          <p:cNvGraphicFramePr/>
          <p:nvPr/>
        </p:nvGraphicFramePr>
        <p:xfrm>
          <a:off x="6559560" y="5200560"/>
          <a:ext cx="12762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9560" y="5200560"/>
                    <a:ext cx="12762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7" name="Group 6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38" name="Rounded Rectangle 7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9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Slide Number Placeholder 3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2631-92BD-4A7C-9A24-473ABBF2B23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nt Estimates Related to Reliabilit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stimate = (successes) / (trial quantity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between failure ... “MTB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umulative MTBF (easy!) = (total time) / (total failure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Instantaneous MTBF … get from Crow/AMSA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to failure – “MTT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non-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st moment of life distribution … “expected life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vailability = (total up-time) / (total time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45" name="Object 4" descr=""/>
          <p:cNvPicPr/>
          <p:nvPr/>
        </p:nvPicPr>
        <p:blipFill>
          <a:blip r:embed="rId1"/>
          <a:stretch/>
        </p:blipFill>
        <p:spPr>
          <a:xfrm>
            <a:off x="7238880" y="1066680"/>
            <a:ext cx="1155960" cy="15890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4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0751-7B4C-4A8D-B8ED-81965030DDD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Variability Vs. Point Estimat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rials (go/no-go) without failure … point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 … same! … Is this point estimate useful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inomial w/90% confidence … variability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97.7 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10 % … so! They are different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Variability estimates can often be more usefu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Which type of variability model to use?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Non-parametric: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moment,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, ... ( e.g. mean, median, range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arametric: Weibull, lognormal … (y=Par1(x) +Par2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Parametric accuracy  is much better than non-parametric … if model is correc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55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5E9E-6D97-4007-BD09-134EF204856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75CE-C49A-4277-B824-F441A9E0E1F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Standard Parametric Variability Distributions and Their Relationship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Binomial … for discrete outcomes … only two choi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Poisson …  for discrete outcomes … events occurring vs. Operating time, wire length, inspection area, etc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Exponential … first term of the Poiss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Normal… aka “Gaussian” or “bell curve.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Lognormal… log-values of data have normal distributi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xtreme value … every individual data value is the smallest (or largest) from a group of sampl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Weibull … extreme value type III smallest … can b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1-parameter, 2-parameter (standard), or 3-paramet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OTE:  Mixtures could have even more parameters (4, 5, 7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6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49DC-BC2D-4B67-B21E-A5FCE0B1E1E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2:04:09Z</dcterms:created>
  <dc:creator>Wes Fulton</dc:creator>
  <dc:description/>
  <dc:language>en-US</dc:language>
  <cp:lastModifiedBy>Carl Tarum</cp:lastModifiedBy>
  <dcterms:modified xsi:type="dcterms:W3CDTF">2020-05-20T16:31:50Z</dcterms:modified>
  <cp:revision>104</cp:revision>
  <dc:subject/>
  <dc:title>No Slide Title</dc:title>
</cp:coreProperties>
</file>