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1A05-A9B0-45BB-8BED-AD6F1317A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66E5-413D-4359-8949-5A3716E2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4123-D246-4ECE-B040-E13B4CAD6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52F7-1F37-48DD-97B9-27CF61FA9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4358A-0FD4-4775-9230-FA9143401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DA11-20FC-43E7-A267-6A68196B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23EF8-B825-4093-B598-7A0A02FA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62A5-8AD8-48E0-B644-DA682B0F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BAFC-5D20-42CE-B8C6-18DF210C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B0D2-D83B-48D3-BED4-E2FED7AA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9E851-8041-4F18-8DF6-0176AE4A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6BE8-ACBC-4506-8938-CAA0ECD4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3DB9-9793-4484-BB1D-0B90A3D4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F156-F1B8-4362-AEBF-005481B7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085B0-A75B-4EC2-8A92-C3FD44AF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E1937-6480-4B91-9381-7D62B12CC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049B-4D55-47B9-9329-69BE68947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248B-8D5F-4FDA-B80A-F3CF99DF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46CB-615A-48E2-8DBB-CF669C39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4D54-E729-4743-BC02-C9A7889B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246A-FD27-4D1C-B6E8-71DCFEF2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0DBC-F378-4BE8-8012-64423A14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E7D1-2BED-4E2E-AFF4-6052EFBE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EFB7-CC96-4D71-B3D6-57D17990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EFD0-038B-428F-81F7-B11C8CE780C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4C78-4929-4930-9EE6-E1779F893D2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eibull Library Organization</a:t>
            </a:r>
            <a:br>
              <a:rPr sz="4400"/>
            </a:br>
            <a:r>
              <a:rPr b="0" i="1" lang="en-US" sz="2000" spc="-1" strike="noStrike">
                <a:solidFill>
                  <a:srgbClr val="ffcc66"/>
                </a:solidFill>
                <a:latin typeface="Times New Roman"/>
              </a:rPr>
              <a:t>Data Collection Recommendations</a:t>
            </a:r>
            <a:endParaRPr b="0" i="1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s Fult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973840" y="533520"/>
            <a:ext cx="196992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5326-3C7F-456C-8752-5BD8DB896624}" type="slidenum">
              <a:t>1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eibull Library Goal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archable index of previous resul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mmary of analysis + reference to full da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mple text format for future flexibil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ve intermediate file (w/ later verification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ndard organiz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 more than 20 fiel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ssential universal inf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dditional info in comme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7" name="x" descr="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6095880" y="4419720"/>
            <a:ext cx="2276640" cy="1593720"/>
          </a:xfrm>
          <a:prstGeom prst="rect">
            <a:avLst/>
          </a:prstGeom>
          <a:ln w="0">
            <a:noFill/>
          </a:ln>
        </p:spPr>
      </p:pic>
      <p:pic>
        <p:nvPicPr>
          <p:cNvPr id="98" name="x" descr="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5257800" y="3581280"/>
            <a:ext cx="2200320" cy="154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9649-6235-41F9-994B-F600F69C500E}" type="slidenum">
              <a:t>2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Weibull Libra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st Important Part of Weibull Engineer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Useful as Lessons-Learned databa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nables and justifies Weibayes for improved resul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ftware Can Help Easily Generate Library Items after Each Analy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209680" y="3429000"/>
          <a:ext cx="6123240" cy="25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429000"/>
                    <a:ext cx="6123240" cy="25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" name=""/>
          <p:cNvGrpSpPr/>
          <p:nvPr/>
        </p:nvGrpSpPr>
        <p:grpSpPr>
          <a:xfrm>
            <a:off x="2514600" y="4267080"/>
            <a:ext cx="3352680" cy="1617840"/>
            <a:chOff x="2514600" y="4267080"/>
            <a:chExt cx="3352680" cy="1617840"/>
          </a:xfrm>
        </p:grpSpPr>
        <p:sp>
          <p:nvSpPr>
            <p:cNvPr id="104" name=""/>
            <p:cNvSpPr/>
            <p:nvPr/>
          </p:nvSpPr>
          <p:spPr>
            <a:xfrm>
              <a:off x="2590920" y="4267080"/>
              <a:ext cx="533160" cy="4572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14600" y="5486040"/>
              <a:ext cx="3352680" cy="39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Times New Roman"/>
                </a:rPr>
                <a:t>Easily Generate Library Items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666880" y="4724280"/>
              <a:ext cx="381240" cy="761760"/>
            </a:xfrm>
            <a:prstGeom prst="upArrow">
              <a:avLst>
                <a:gd name="adj1" fmla="val 50000"/>
                <a:gd name="adj2" fmla="val 49953"/>
              </a:avLst>
            </a:prstGeom>
            <a:solidFill>
              <a:srgbClr val="ff9933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150C-DF7A-49F3-8A8C-096805D26B8B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380880" y="762120"/>
          <a:ext cx="76212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762120"/>
                    <a:ext cx="7621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1219320" y="1143000"/>
            <a:ext cx="2286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762120"/>
            <a:ext cx="6019920" cy="178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…Save Library Item As Text Line Upon File Sav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…(TBD) Add Library Item To Library ----------------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…(TBD) Edit Library -------------------------------------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…(TBD) Find / View Former Results In Library -----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96080" y="1447920"/>
            <a:ext cx="838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96080" y="2362320"/>
            <a:ext cx="1526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848720" y="2362320"/>
            <a:ext cx="0" cy="10666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7543440" y="3429000"/>
            <a:ext cx="3049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534520" y="1447920"/>
            <a:ext cx="0" cy="41907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7543800" y="5638680"/>
            <a:ext cx="9907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2971800"/>
            <a:ext cx="4952880" cy="12027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Get search input from user … load into item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Search LIB-W-FF.TXT for related record(s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Show located informat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5029200"/>
            <a:ext cx="4952880" cy="12027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Put present results into items for recor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Search LIB-W-FF.TXT for related record(s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If similar then insert record there, ELSE appen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90920" y="4419720"/>
            <a:ext cx="4952880" cy="368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Add, alter, delete records in LIB-W-FF.TX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1905120"/>
            <a:ext cx="4572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153280" y="1905120"/>
            <a:ext cx="0" cy="27432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7543440" y="4648320"/>
            <a:ext cx="60948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2666880"/>
            <a:ext cx="1904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NOTE(1):           A password may be needed for options D,E,F. Each password is scrambled and saved in an intialization  file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51055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NOTE(2): Phantom duplicate library file needed for safety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43800" y="838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(No Password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3808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ftware Weibull Library Selec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666880"/>
            <a:ext cx="53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(For typical library file LIB-W-FF.TXT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02D5-59AE-4A76-B1E5-098D36FAA916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Times New Roman"/>
              </a:rPr>
              <a:t>Each Weibull Library Record (* = Automatic From Analysis)</a:t>
            </a:r>
            <a:endParaRPr b="0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* Path\Filename of complete analysis … (update if changed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Title … at top of Weibull plot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Date record created … YYYY-MM-DD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By … person saving the record … including password ID designation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Type of device … bearing, seal, housing, shaft, solder joint, connector, IC, lamp..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Type of equipment … actuator, motor, valve,  pump, conveyor, controller, display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Type of mechanism (root cause) … fracture, thinning, leaking, open-circuit, mixed .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Type of customer duty cycle … continuous, on-off schedule, load level, impact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Type of environment … humid, hot, sub-zero, 20DegC-35DegC, vibration, shock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Model type … W, N, L, G-, G+ 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Fit type … rr, rrs, mle, RBAmd,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Confidence type … pvD90, fm-95, ..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Data units … hours, cycles, months, miles, inches, degK, ..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Data typical value … Eta, Mu, MuAL, Xi (lo-med-hi)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Data variability value … Beta, Sigma, SigF, Del (lo-med-hi)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Data t0 value … t0 (lo-med-hi value)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(Qty = 4) Comment fields … customizable for each individual librar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272E-D1AD-41A6-8219-762C2B9E6D4A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Weibull Library Comment Field Possibilitie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mment 1: Detailed Item Descrip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rt Numb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rt Nam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mment 2: Detailed Application Descrip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roduct Line or Product Mode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ilitary or Non-Military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mment 3: Detailed Time Perio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Record Reference Numb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Beginning of Period to End of Period (Calendar Time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mment 4: Referenc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Report Numb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Test Procedur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DDD6-C83D-4EF9-ABBD-0A0F545655B2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LIB-W-FF.TXT File (Typical Weibull Library File)</a:t>
            </a:r>
            <a:br>
              <a:rPr sz="2800"/>
            </a:br>
            <a:r>
              <a:rPr b="0" i="1" lang="en-US" sz="2000" spc="-1" strike="noStrike">
                <a:solidFill>
                  <a:srgbClr val="ffcc66"/>
                </a:solidFill>
                <a:latin typeface="Times New Roman"/>
              </a:rPr>
              <a:t>1 Header Row and 2 Records Shown</a:t>
            </a:r>
            <a:endParaRPr b="0" i="1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447920"/>
            <a:ext cx="8382240" cy="375516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Path/file”, “Title”, “Date”, “By”, “Device”, “Equipment”, “Cause”, “Duty”, “Environment”, “Model”, “Fit”, “Confidence”, “Units”, “Typical (lo/med/hi)”, “Variability (lo/med/hi)”, “t0 (lo/med/hi)”, “Comment1”, “Comment2”, “Comment3”, “Comment4”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H:\data\motor3.w”,  “Cyclone 447 Prototype”, “2002/06/25”, “WF(CY4P)”, “Housing”, “Motor”, “Fracture”, “Continuous@180% N. O. Load”, “90% Humidity”, “Weibull”, “rr”, “pvD90”, “Hours”, “4.3/8.7/11.5”, “2.8/3.6/5.1”, “0/0/0”,”Part#=55232”,”Name=Tri-Cities Traction”, “Analysis 1997/03/01 - 2001/08/22”, “Reliability Report R-887”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H:\data\valve16.w”, “Series II Bypass Valve”, “2002/07/04”, “WF(CY4P)”, “Set(1)Journal Bearing:Set(2)Journal Bearing”, “Set(1)Valve:Set(2)Valve”, “Set(1)Contamination:Set(2)Contamination”, “Set(1)Pressure=32psi:Set(2)Pressure=27psi”, “Set(1)320degK:Set(2)340degK”, “Weibull”, “rr”, “pvD90”, “Cycles”, “Set(1)20015/24552/32813:Set(2)38744/43272/48923”, “Set(1)2.3/2.9/3.5:Set(2)1.8/2.2/2.6”, “Set(1)0/415/0:Set(2)0/-1352/0”, “Part#=61248”, “Name=S2”, “Analysis 1995/07/15 - 2002/02/19”, “Warranty Analysis Report W-293”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5486400"/>
            <a:ext cx="8382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NOTE(1): The “:” sign (colon) is used for the entry separator … for example for multiple data set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NOTE(2): Can aggregate individual LIB-W-FF.TXT files into Master Library..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9C00-D8B1-4A04-B717-57A0DA294A3E}" type="slidenum">
              <a:t>7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5:35:44Z</dcterms:created>
  <dc:creator>bob</dc:creator>
  <dc:description/>
  <dc:language>en-US</dc:language>
  <cp:lastModifiedBy>Wes Fulton</cp:lastModifiedBy>
  <cp:lastPrinted>2000-12-01T17:55:56Z</cp:lastPrinted>
  <dcterms:modified xsi:type="dcterms:W3CDTF">2011-03-09T04:10:29Z</dcterms:modified>
  <cp:revision>50</cp:revision>
  <dc:subject/>
  <dc:title>6     Weibayes &amp; Weibayes  Substantiation Testing...</dc:title>
</cp:coreProperties>
</file>