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F3F-60F6-48F1-A92F-42D4D9A5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CD4-42FE-43B5-933C-029D6408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933-6D4C-440B-927C-8C46E935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C70-4B41-4115-A426-4A09422C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118A-1C82-4436-A9E1-4DB6FB3F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53FC-9EE7-40D5-8A49-B26DC616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B30D-A4AF-4D23-9E55-4B21CE28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ADB7-D5A0-4224-B2B2-21776768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1521-6526-440A-84EC-2D9B9B4C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F924-D672-48C0-B3C2-BE0F468D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333B-7798-489F-BEF8-B25BEC0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1A1-2773-4D14-BA94-7A9ADAD6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CE83-6CAF-4202-8B53-35F7ED5C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2E7C-3D9D-469D-879E-8AB132CA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B07-8B62-48AE-8309-8CFCCAAB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C9C7-A7D7-4571-833E-BE47443C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F6ED-9327-4D92-9E4A-1139CA20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DC5-7763-42AB-8D2A-196BAF05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794-B178-4EBE-8AA9-D2921E21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A66-1229-4560-8042-EC8E228C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A7BD-E875-471D-B8FD-0A6F4697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D7D-B670-4832-A663-49B7E28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DF3-ED51-41AD-A054-A632F97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1CD-050D-4AB2-8737-A0B49876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0DBB-33E8-4BC0-BED7-150F23E12C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03F8-4143-483F-9016-8A9E64B02C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6AD5-FC2F-4EE6-918D-E95BDA7DC639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x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x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C6C-9BB6-4BFC-9223-8CC51F4F5868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4" name="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838-D787-418E-BD1D-7AA11AC27CAA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BD9-07CF-401F-9056-77F13C97FDF8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DFE-9201-4DE4-9457-228923F6D1E0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ADB-E0DC-46FC-81E3-69FE37BFE7A3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631-7F99-4A6B-8191-469B3AC01EBA}" type="slidenum">
              <a:t>7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dc:language>en-US</dc:language>
  <cp:lastModifiedBy>Wes Fulton</cp:lastModifiedBy>
  <cp:lastPrinted>2000-12-01T17:55:56Z</cp:lastPrinted>
  <dcterms:modified xsi:type="dcterms:W3CDTF">2011-03-09T04:10:29Z</dcterms:modified>
  <cp:revision>50</cp:revision>
  <dc:subject/>
  <dc:title>6     Weibayes &amp; Weibayes  Substantiation Testing...</dc:title>
</cp:coreProperties>
</file>