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8000-F2E3-49CA-80C8-478C549F1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8 11 27  Previous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20 05 20  Removed LLC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2AFF-74E3-4195-B49A-0FC3FC059B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rea under each curve = 1, definition of probability densit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efinition of cumulative distribution function, C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hapes are different because of beta, or slope.  These lines have the same eta, or characteris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CDF goes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7781-ABCD-42DC-AB5F-F440BE8B01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4C71-E4CA-46EC-A275-065199178D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 can convert various Warran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lasses on Life Cycle, Production Reliability (Barr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thing: Weibull Library…. te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A5DB-3CEF-40C9-9F16-E9C4B00349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C681-CCD7-45B7-841B-31E7378EDF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AA = Army Material Systems Analysi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5F85-A8CA-4539-BD64-B4D3E12100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metric: Fit to an equation: y=mx+b.  Parameters are m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is non parametric.  No parameters.  Just add and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2D8E-3C9A-41B1-9D5A-ABC4B014ED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omial 2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sson: count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as mean, standard deviation.  Doesn’t work well for lifetim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mix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values, Gum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rameter, a delay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What are the 6 extreme value mode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8A77-6A74-4F3C-ABD8-A0F88C6A71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8D7-8B99-4DAC-9745-0805EC73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718-2D60-44C9-9FA6-4337E642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B18-0C85-4B63-9F8F-9F80C9F2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2D5-586D-4543-89A9-9BF14A79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962F-5AAB-4350-A970-FED49813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665D-521B-4C22-8220-17315F3D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B91D-6E5C-4A3B-9154-E35D6ED0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D3E7-4F49-4B96-A4CA-7091B3F4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EC9E-CC2D-42C7-896E-F3BFC46D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2384-4261-4A00-A398-39765B44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0C4F-000A-489E-AE97-99B0A975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B2E-2C07-41A5-9FA1-1F9223B2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EF7A-A1DD-4ECC-9E3B-EEF26817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39F0-69FD-499A-9B14-4EABA3E8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2BA3-AE49-480C-8D87-6EE3B4FA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1944-941B-4EBB-B98B-79538C0F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39A6-EDE7-4636-87E5-1DE32D50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FB6F-E60B-4526-B3CA-2CA42A78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8CFED-2C29-4B38-8DAE-03037B81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B999A-5ABD-402F-99E7-507E6D3E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BCF93-3011-4483-81E5-CC78E43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E16C0-5E0D-41B1-8EB3-D7DEA023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54C-3142-458C-ADC2-AF95E2BB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DD11-4C25-463F-862A-85768909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B3D2-D50E-4510-B5D6-781F0FD6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6A67-FFCC-4062-9233-98E20354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48EBA-13C5-4033-86FD-34A66693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313A-E94B-4BC2-A7BF-171C58DE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3FA15-5EAC-4C9E-8F2A-70B9F65F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1F74-CBDA-41CC-9B03-059802FC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43A-D1AF-4B02-BD95-E9319D0D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1E9-3828-4029-863F-CF6059F0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A21-6FBA-4B21-9C88-B75707BB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EC9-1851-4B61-B952-9F0D9F53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DF1-E98C-4DC1-AFC6-44393B8F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FC1-E778-4F6D-A9F9-62839AD2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2680" y="6532200"/>
            <a:ext cx="1904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486E-F5DB-4BEE-BC10-19F61752D7D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34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5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6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7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8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41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42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43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44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5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6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7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8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9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50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51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52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53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54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5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6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52640" y="6509880"/>
            <a:ext cx="289548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47080" y="6497280"/>
            <a:ext cx="1371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0EA5-F338-4DE0-9CDB-B56C7C06DA5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BC48-896D-4CE4-A596-7F133075EEF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2"/>
          <p:cNvSpPr/>
          <p:nvPr/>
        </p:nvSpPr>
        <p:spPr>
          <a:xfrm>
            <a:off x="3753000" y="6510240"/>
            <a:ext cx="2895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eibull Int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troduction to Dr. Bob’s Weibull Engineering Workshop by Wes Fulton and Carl Taru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0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Slide Number Placeholder 1"/>
          <p:cNvSpPr/>
          <p:nvPr/>
        </p:nvSpPr>
        <p:spPr>
          <a:xfrm>
            <a:off x="7147080" y="649764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26BB-C99B-4B24-8BB0-A4249AC68D0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inom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371600" y="1495440"/>
          <a:ext cx="6705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95440"/>
                    <a:ext cx="6705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79E8-E8D8-48A9-8125-5809C48918F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sson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469764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E7E1-A820-4CCF-8E04-3FC3C8B3F7D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onent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908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C089-CDEE-4718-B499-8B2AAA1710C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5723-77FD-409E-BDCD-D5E11DDC1B2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og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7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9DA3-D3C1-43F3-A130-B5AE25E3ACC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Extreme Value Distribu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Type I Only … (II &amp; III Not Shown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201680" y="1523880"/>
            <a:ext cx="6738840" cy="46674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F5FC-07AC-417F-A712-520E8B15CFA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Weibull Distribution … Extreme Value Type III Smallest … USEFUL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98" name="Straight Connector 4"/>
          <p:cNvSpPr/>
          <p:nvPr/>
        </p:nvSpPr>
        <p:spPr>
          <a:xfrm>
            <a:off x="-2590920" y="41148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5"/>
          <p:cNvSpPr/>
          <p:nvPr/>
        </p:nvSpPr>
        <p:spPr>
          <a:xfrm flipV="1">
            <a:off x="-2438280" y="27428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-2357280" y="3032280"/>
            <a:ext cx="1784160" cy="1011240"/>
          </a:xfrm>
          <a:custGeom>
            <a:avLst/>
            <a:gdLst/>
            <a:ahLst/>
            <a:rect l="l" t="t" r="r" b="b"/>
            <a:pathLst>
              <a:path w="1784733" h="1010920">
                <a:moveTo>
                  <a:pt x="0" y="1010920"/>
                </a:moveTo>
                <a:cubicBezTo>
                  <a:pt x="200140" y="713465"/>
                  <a:pt x="400280" y="416010"/>
                  <a:pt x="528810" y="250757"/>
                </a:cubicBezTo>
                <a:cubicBezTo>
                  <a:pt x="657340" y="85504"/>
                  <a:pt x="620617" y="-52207"/>
                  <a:pt x="771181" y="19402"/>
                </a:cubicBezTo>
                <a:cubicBezTo>
                  <a:pt x="921745" y="91011"/>
                  <a:pt x="1263268" y="533522"/>
                  <a:pt x="1432193" y="680414"/>
                </a:cubicBezTo>
                <a:cubicBezTo>
                  <a:pt x="1601118" y="827306"/>
                  <a:pt x="1722304" y="864029"/>
                  <a:pt x="1784733" y="900752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-2171880" y="421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traight Connector 8"/>
          <p:cNvSpPr/>
          <p:nvPr/>
        </p:nvSpPr>
        <p:spPr>
          <a:xfrm>
            <a:off x="-2435400" y="58896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traight Connector 9"/>
          <p:cNvSpPr/>
          <p:nvPr/>
        </p:nvSpPr>
        <p:spPr>
          <a:xfrm flipV="1">
            <a:off x="-2282760" y="45176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10"/>
          <p:cNvSpPr/>
          <p:nvPr/>
        </p:nvSpPr>
        <p:spPr>
          <a:xfrm>
            <a:off x="-2201760" y="4622760"/>
            <a:ext cx="1773000" cy="1195560"/>
          </a:xfrm>
          <a:custGeom>
            <a:avLst/>
            <a:gdLst/>
            <a:ahLst/>
            <a:rect l="l" t="t" r="r" b="b"/>
            <a:pathLst>
              <a:path w="1773716" h="1195977">
                <a:moveTo>
                  <a:pt x="0" y="1195977"/>
                </a:moveTo>
                <a:cubicBezTo>
                  <a:pt x="200140" y="898522"/>
                  <a:pt x="347032" y="920557"/>
                  <a:pt x="506777" y="810388"/>
                </a:cubicBezTo>
                <a:cubicBezTo>
                  <a:pt x="666522" y="700219"/>
                  <a:pt x="818921" y="637789"/>
                  <a:pt x="958468" y="534965"/>
                </a:cubicBezTo>
                <a:cubicBezTo>
                  <a:pt x="1098015" y="432141"/>
                  <a:pt x="1208183" y="281577"/>
                  <a:pt x="1344058" y="193442"/>
                </a:cubicBezTo>
                <a:cubicBezTo>
                  <a:pt x="1479933" y="105307"/>
                  <a:pt x="1711287" y="-30567"/>
                  <a:pt x="1773716" y="6156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-2016000" y="598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BDF9-5EEC-410C-8258-7126F1B34E3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erience Data Vs. Age Dat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xperience data is useful for general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operation of all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even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se technique such as Crow/AMSAA to evalu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data is useful for more precise Weibull engineering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ge = amount of use since new for each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standard analysis each data value is either…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ccurrence (= age to failure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uspension [= length of successful operation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0D30-5E6F-4D37-8A6F-CA2C38CFF1A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w Product Develop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13" name="Object 4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828720" cy="25146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eliminary models (parts coun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, MTBF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1st principles: physics of failure (POF) and probabilistic analysis by Monte Carlo simul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velopment testing (“Weibayes” substantiation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ow/AMSAA for test, analyze and fix (TAAF) eff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celerated testing (&amp; step-stres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otypes &amp; lead-the-fleet equi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16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8BBD-EF0C-4760-B682-740E3CA8F2D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 &amp; Maintenance Data Analysi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liability Centered Maintenance (RC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good age-to-failure record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on failed item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Failure type is IMPORTANT to know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corrective action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so 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on successful item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“suspensions”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Failure ages known (but suspensions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Month of Production (M.O.P.) vs Months in Service (M.I.S.) includes suspension inf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erSMITH® can convert from M.O.P.-M.I.S. da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323" name="Object 4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00160" cy="175392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2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3853-605B-4214-B1F7-DAC1AA3251B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806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What Students Can Do After Graduating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from the Weibull Workshop …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lect and fit a variability model for most measu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nterpret non-linear data patterns on probability scal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ecast risk using the selected model with added usage rat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mulate random samples to answer difficult ques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Choose between graphical and non-graphical solu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m a database of previous results to improve accurac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lan a test to demonstrate capability or reliabi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valuate test results (standard, accelerated, or step-stres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stablish lower and upper confidence bounds for resul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pply simple related probability models when neede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erform general trend analysis for tracking progres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14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Slide Number Placeholder 8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8E59-F25F-4C49-864D-F17878100DE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inally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Important Thing I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The Weibull library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o plan for the future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art and maintain a good Weibull library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ave results from every analysis…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equipment analyze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usage of analyzed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failure under investiga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del type, fit type, parameter valu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d other information as appropri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781680" y="2133720"/>
          <a:ext cx="8384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133720"/>
                    <a:ext cx="83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3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BF6F-5D4D-4493-ADB3-5BB8ECC66F6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xt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the Rest of the Story 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41" name="Object 4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617560" cy="209088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D275-FA0F-4C68-8AA8-833091187F7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tudent Intro’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current job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experience with Weibull (if any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goals for the cla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86AE-BC34-4502-9333-E681A836F06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o Begi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hat is reliability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int estimates related to relia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riability vs. Point estima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andard variability distrib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w product development techniqu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rvice data analysis ... warranty 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Impact"/>
              </a:rPr>
              <a:t>The most important th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5" name="Object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62260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2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7003-AC0C-47BD-9277-539BE2B98F7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Is Reliability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Reliability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)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of succes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Or …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= 1 - (probability of failure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eed a good specification of what is acceptable and what is not acceptabl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ctual reliability can change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esign or with different assembl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length of service requi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uty cycle and different loa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environ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qua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maintenance pract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So … reliability is a moving target ! ! 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30184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5"/>
          <p:cNvGraphicFramePr/>
          <p:nvPr/>
        </p:nvGraphicFramePr>
        <p:xfrm>
          <a:off x="6559560" y="5200560"/>
          <a:ext cx="12762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9560" y="5200560"/>
                    <a:ext cx="12762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7" name="Group 6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38" name="Rounded Rectangle 7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Slide Number Placeholder 3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8675-8278-480C-87EE-469C373780E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nt Estimates Related to Reliabil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stimate = (successes) / (trial quantit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between failure ... “MTB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umulative MTBF (easy!) = (total time) / (total failure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Instantaneous MTBF … get from Crow/AMSA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to failure – “MTT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non-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st moment of life distribution … “expected life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vailability = (total up-time) / (total time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45" name="Object 4" descr=""/>
          <p:cNvPicPr/>
          <p:nvPr/>
        </p:nvPicPr>
        <p:blipFill>
          <a:blip r:embed="rId1"/>
          <a:stretch/>
        </p:blipFill>
        <p:spPr>
          <a:xfrm>
            <a:off x="7238880" y="1066680"/>
            <a:ext cx="11559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4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42D3-AEB8-45E2-A110-64F17CADE9C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ariability Vs. Point Estimat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rials (go/no-go) without failure … point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 … same! … Is this point estimate useful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inomial w/90% confidence … variability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97.7 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10 % … so! They are differen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ariability estimates can often be more usefu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hich type of variability model to use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Non-parametric: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moment,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, ... ( e.g. mean, median, range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arametric: Weibull, lognormal … (y=Par1(x) +Par2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Parametric accuracy  is much better than non-parametric … if model is correc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55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EE5E-62A9-4FB2-B355-A3A86740BBE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E9C3-5302-4831-BB4C-6A06124364F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Standard Parametric Variability Distributions and Their Relationship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Binomial … for discrete outcomes … only two choi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Poisson …  for discrete outcomes … events occurring vs. Operating time, wire length, inspection area, etc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Exponential … first term of the Poiss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Normal… aka “Gaussian” or “bell curve.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Lognormal… log-values of data have normal distributi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xtreme value … every individual data value is the smallest (or largest) from a group of sampl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Weibull … extreme value type III smallest … can b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1-parameter, 2-parameter (standard), or 3-para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OTE:  Mixtures could have even more parameters (4, 5, 7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6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29C3-3CF0-480F-B839-23A2DE5AB66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2:04:09Z</dcterms:created>
  <dc:creator>Wes Fulton</dc:creator>
  <dc:description/>
  <dc:language>en-US</dc:language>
  <cp:lastModifiedBy>Carl Tarum</cp:lastModifiedBy>
  <dcterms:modified xsi:type="dcterms:W3CDTF">2020-05-20T16:31:50Z</dcterms:modified>
  <cp:revision>104</cp:revision>
  <dc:subject/>
  <dc:title>No Slide Title</dc:title>
</cp:coreProperties>
</file>