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1F1F-3A99-4E41-8087-7E3116F6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8 11 27  Previous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20 05 20  Removed LLC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3216-9E42-44EA-92C1-6D6BC99D67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rea under each curve = 1, definition of probability dens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efinition of cumulative distribution function, C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hapes are different because of beta, or slope.  These lines have the same eta, or characteris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CDF goes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78D8-5A59-40DD-9FB0-88F8CF7C3A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B509-ECD7-4729-AC8E-D957532775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 can convert various Warran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lasses on Life Cycle, Production Reliability (Bar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thing: Weibull Library…. te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B1DE-410D-43CD-9B8A-5515285DC6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EE37-BD52-4A37-B7E0-6B9A327C95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AA = Army Material Systems Analysi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2DDF-F093-481D-A4AD-9D07161C4D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etric: Fit to an equation: y=mx+b.  Parameters are m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is non parametric.  No parameters.  Just add and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9311-7A0E-4D91-B52A-069F03EC16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omial 2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sson: count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as mean, standard deviation.  Doesn’t work well for lifetim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ix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values, Gum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rameter, a delay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What are the 6 extreme value mod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735C-01C6-424C-AAB7-2016068F0B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D3D-0B93-4620-A211-F2C87382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E29-2AE1-40DF-81A3-2F67797F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1FE-EE80-4EEC-AD53-FA016F4B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BC9-FC3E-4C37-9529-F0470FD2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74F9-A142-43D6-86D6-59A7583E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F276-CC27-4C57-9A9D-BF759356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D7C1-793D-41C3-B19C-9CC5959F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AE7D-C468-4BA9-AFB5-33F9549E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D335-7D5A-47B0-B9C8-CA0330B0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6C99-E047-4211-AF7C-53A8F9E5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9A4E-E83E-4E3C-94E0-BE4F8ECB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E92-319D-4636-94BC-92A3686D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620D-07B4-4EBA-A32D-E512DFFB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1096-D551-4DCC-8306-B9F857AE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F996-5DEA-4100-A1F0-CA57EF0F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94CC-0BA3-455C-8B70-9ABE270F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7EF0-BBF6-4475-A3A7-E6F10AE3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FCEF-C91D-45C0-900A-2346FBA1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37BD6-CF52-41EF-A19B-8771F92C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2304-BE28-4EB4-A20E-6F377FF4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4B80-0BF0-4C47-A13D-B371235B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1A3C-04C2-4D6B-91C6-749EF7B1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94C-B20C-428B-A25F-C24298E3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FFA9-5D6A-4C77-ADA6-8886529B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5C22-568B-481A-AD9E-5B5692DC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2CD0-D634-4602-AE0D-BBFEC0A8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5160-FE09-40D6-922C-C00B5D3A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D8A28-4B7E-4703-8B40-A272DB6E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973B9-CB45-478C-9A28-883528CA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B483-FF69-433D-979C-29C1C35F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ECC-750D-44D8-A849-F28D1708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EE2-0B12-451B-9FCD-8D768D4B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3AE-0162-4F97-BB19-F0909175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21C-3359-4741-B99C-2FE31815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5AB-1B66-403D-A822-F7C8F231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43C-C9E1-470C-90F0-A16907B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2680" y="6532200"/>
            <a:ext cx="1904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B9C7-DD33-407F-884B-100ECDEC767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52640" y="6509880"/>
            <a:ext cx="28954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47080" y="6497280"/>
            <a:ext cx="1371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4557-EA71-41E1-B7C8-E408ED68D4F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0148-9E7E-4469-BF22-5859E031B85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2"/>
          <p:cNvSpPr/>
          <p:nvPr/>
        </p:nvSpPr>
        <p:spPr>
          <a:xfrm>
            <a:off x="3753000" y="6510240"/>
            <a:ext cx="2895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eibull Int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roduction to Dr. Bob’s Weibull Engineering Workshop by Wes Fulton and Carl Taru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0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Slide Number Placeholder 1"/>
          <p:cNvSpPr/>
          <p:nvPr/>
        </p:nvSpPr>
        <p:spPr>
          <a:xfrm>
            <a:off x="7147080" y="649764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3A63-3F02-4AFC-B011-E4809055EF3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inom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371600" y="1495440"/>
          <a:ext cx="6705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95440"/>
                    <a:ext cx="6705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47FF-7AA6-4F0D-A5C0-B6F2E38466F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sson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469764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C1D1-E1D2-45CF-B34E-7A95FB7403A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onent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90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CA0E-D565-4181-AC14-9E8A80B7694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7BC3-12BC-4DE2-AFE1-55DDE400990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og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7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C701-6AAA-4CB3-9CD4-452EDAFBBE3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Extreme Value Distribu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ype I Only … (II &amp; III Not Shown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01680" y="1523880"/>
            <a:ext cx="6738840" cy="4667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E4F0-A8C2-42A1-9F37-7091B1DBE9E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eibull Distribution … Extreme Value Type III Smallest … USEFUL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4"/>
          <p:cNvSpPr/>
          <p:nvPr/>
        </p:nvSpPr>
        <p:spPr>
          <a:xfrm>
            <a:off x="-2590920" y="41148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5"/>
          <p:cNvSpPr/>
          <p:nvPr/>
        </p:nvSpPr>
        <p:spPr>
          <a:xfrm flipV="1">
            <a:off x="-2438280" y="27428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-2357280" y="3032280"/>
            <a:ext cx="1784160" cy="1011240"/>
          </a:xfrm>
          <a:custGeom>
            <a:avLst/>
            <a:gdLst/>
            <a:ahLst/>
            <a:rect l="l" t="t" r="r" b="b"/>
            <a:pathLst>
              <a:path w="1784733" h="1010920">
                <a:moveTo>
                  <a:pt x="0" y="1010920"/>
                </a:moveTo>
                <a:cubicBezTo>
                  <a:pt x="200140" y="713465"/>
                  <a:pt x="400280" y="416010"/>
                  <a:pt x="528810" y="250757"/>
                </a:cubicBezTo>
                <a:cubicBezTo>
                  <a:pt x="657340" y="85504"/>
                  <a:pt x="620617" y="-52207"/>
                  <a:pt x="771181" y="19402"/>
                </a:cubicBezTo>
                <a:cubicBezTo>
                  <a:pt x="921745" y="91011"/>
                  <a:pt x="1263268" y="533522"/>
                  <a:pt x="1432193" y="680414"/>
                </a:cubicBezTo>
                <a:cubicBezTo>
                  <a:pt x="1601118" y="827306"/>
                  <a:pt x="1722304" y="864029"/>
                  <a:pt x="1784733" y="900752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-2171880" y="421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-2435400" y="58896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-2282760" y="45176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10"/>
          <p:cNvSpPr/>
          <p:nvPr/>
        </p:nvSpPr>
        <p:spPr>
          <a:xfrm>
            <a:off x="-2201760" y="4622760"/>
            <a:ext cx="1773000" cy="1195560"/>
          </a:xfrm>
          <a:custGeom>
            <a:avLst/>
            <a:gdLst/>
            <a:ahLst/>
            <a:rect l="l" t="t" r="r" b="b"/>
            <a:pathLst>
              <a:path w="1773716" h="1195977">
                <a:moveTo>
                  <a:pt x="0" y="1195977"/>
                </a:moveTo>
                <a:cubicBezTo>
                  <a:pt x="200140" y="898522"/>
                  <a:pt x="347032" y="920557"/>
                  <a:pt x="506777" y="810388"/>
                </a:cubicBezTo>
                <a:cubicBezTo>
                  <a:pt x="666522" y="700219"/>
                  <a:pt x="818921" y="637789"/>
                  <a:pt x="958468" y="534965"/>
                </a:cubicBezTo>
                <a:cubicBezTo>
                  <a:pt x="1098015" y="432141"/>
                  <a:pt x="1208183" y="281577"/>
                  <a:pt x="1344058" y="193442"/>
                </a:cubicBezTo>
                <a:cubicBezTo>
                  <a:pt x="1479933" y="105307"/>
                  <a:pt x="1711287" y="-30567"/>
                  <a:pt x="1773716" y="6156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-2016000" y="598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5D11-CA82-4EFB-89F1-DB90B2D2133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erience Data Vs. Age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xperience data is useful for general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operation of all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ev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se technique such as Crow/AMSAA to evalu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data is useful for more precise Weibull engineering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ge = amount of use since new for each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standard analysis each data value is either…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ccurrence (= age to failure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uspension [= length of successful operation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ABE9-1052-4920-91CA-A2AFE714527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Product Develop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13" name="Object 4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82872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eliminary models (parts coun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, MTBF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1st principles: physics of failure (POF) and probabilistic analysis by Monte Carlo simu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velopment testing (“Weibayes” substantiation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ow/AMSAA for test, analyze and fix (TAAF) eff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celerated testing (&amp; step-stres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otypes &amp; lead-the-fleet equi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16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3248-E144-4199-9BBB-35575338933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&amp; Maintenance Data Analy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liability Centered Maintenance (RC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good age-to-failure record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n failed item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Failure type is IMPORTANT to know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corrective action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so 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on successful item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“suspensions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Failure ages known (but suspensions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Month of Production (M.O.P.) vs Months in Service (M.I.S.) includes suspension inf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erSMITH® can convert from M.O.P.-M.I.S. 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23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0160" cy="17539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2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1E72-DC26-41D5-A84C-F62305C46D8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806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What Students Can Do After Graduating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from the Weibull Workshop …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lect and fit a variability model for most measu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pret non-linear data patterns on probability scal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ecast risk using the selected model with added usage r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mulate random samples to answer difficult ques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hoose between graphical and non-graphical solu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m a database of previous results to improve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lan a test to demonstrate capability or reliabi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valuate test results (standard, accelerated, or step-stres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tablish lower and upper confidence bounds for resul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pply simple related probability models when neede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form general trend analysis for tracking progr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14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Slide Number Placeholder 8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5BCD-7745-4413-B801-019D9E1E560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ally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Important Thing I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The Weibull library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 plan for the future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art and maintain a good Weibull library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ve results from every analysis…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equipment analyz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usage of analyzed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failure under investig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del type, fit type, parameter val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d other information as appropri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781680" y="2133720"/>
          <a:ext cx="838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3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B596-5DB8-4CFE-A523-0DC23FC23A9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xt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the Rest of the Story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41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617560" cy="209088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2E7C-5D26-42E6-A18A-122981C7AAC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tudent Intro’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current job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experience with Weibull (if any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goals for the cla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E6DC-D238-42D1-B73F-087A9CEE546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o Begi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reliability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int estimates related to relia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riability vs. Point estim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andard variability distrib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product development techniq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rvice data analysis ... warranty 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Impact"/>
              </a:rPr>
              <a:t>The most important th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6226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2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C923-F43A-43EC-AE86-807BB42046B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Reliability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liability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of succe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r 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1 - (probability of failure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eed a good specification of what is acceptable and what is not acceptabl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tual reliability can change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esign or with different assemb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length of service requi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uty cycle and different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environ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qua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maintenance pract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So … reliability is a moving target ! ! 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3018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5"/>
          <p:cNvGraphicFramePr/>
          <p:nvPr/>
        </p:nvGraphicFramePr>
        <p:xfrm>
          <a:off x="6559560" y="5200560"/>
          <a:ext cx="12762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9560" y="5200560"/>
                    <a:ext cx="12762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6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38" name="Rounded Rectangle 7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Slide Number Placeholder 3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AE00-9BFD-4685-97BE-8FA7A0D73B0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nt Estimates Related to Reliabil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stimate = (successes) / (trial quantit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between failure ... “MTB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umulative MTBF (easy!) = (total time) / (total failure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nstantaneous MTBF … get from Crow/AMSA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to failure – “MTT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non-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st moment of life distribution … “expected life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vailability = (total up-time) / (total tim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45" name="Object 4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11559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4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1733-8122-4952-9312-A4B59222548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riability Vs. Point Estimat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rials (go/no-go) without failure … point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 … same! … Is this point estimate useful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inomial w/90% confidence … variability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97.7 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10 % … so! They are differen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riability estimates can often be more usefu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ich type of variability model to use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Non-parametric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moment,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... ( e.g. mean, median, range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arametric: Weibull, lognormal … (y=Par1(x) +Par2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Parametric accuracy  is much better than non-parametric … if model is correc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55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759C-9CC9-4630-8B6B-44AA5DD5A2C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8988-738D-4E9C-BFF7-7D2765384B9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tandard Parametric Variability Distributions and Their Relationship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Binomial … for discrete outcomes … only two choi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Poisson …  for discrete outcomes … events occurring vs. Operating time, wire length, inspection area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Exponential … first term of the Poiss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Normal… aka “Gaussian” or “bell curve.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Lognormal… log-values of data have normal distributi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xtreme value … every individual data value is the smallest (or largest) from a group of samp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Weibull … extreme value type III smallest … can b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1-parameter, 2-parameter (standard), or 3-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OTE:  Mixtures could have even more parameters (4, 5, 7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6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D301-3886-4B92-904B-E027B3CE1D1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2:04:09Z</dcterms:created>
  <dc:creator>Wes Fulton</dc:creator>
  <dc:description/>
  <dc:language>en-US</dc:language>
  <cp:lastModifiedBy>Carl Tarum</cp:lastModifiedBy>
  <dcterms:modified xsi:type="dcterms:W3CDTF">2020-05-20T16:31:50Z</dcterms:modified>
  <cp:revision>104</cp:revision>
  <dc:subject/>
  <dc:title>No Slide Title</dc:title>
</cp:coreProperties>
</file>