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3F9-7ACC-4058-9AC3-18EE2DEA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969-5A1D-41E6-9398-A9307640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51F-608F-4F46-AD85-0872F8B5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FB0-F601-4312-A45F-F4AC8BB0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C4B7-E356-4B3E-8AA3-AC06346E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4578-5428-4360-8183-CD553F71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B21E-8B14-4D6C-9B26-FD1958A7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6C86-4F4C-499A-AA47-A81DB26B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084A-29AD-4E3E-9FAA-243D72A2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54B2-FFF2-41B1-B18D-BCBBA864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E51-451E-40D2-821B-0AACBC8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C59-A799-408A-9F7D-90468350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7CEE-405F-4E22-A42D-289FB14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C72A-1F70-44B1-935D-0A6F913D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F6C2-A2EE-47C1-8106-DF234D3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911D-1411-470E-AC49-2679ACC7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13FC-F128-44B6-B799-29ECE57C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B74-38FF-4B1D-BF29-C2CCF03B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D3F-F1FC-4C20-93E6-799F851A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01C-E53D-4BC1-9E12-5BF3A769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182-BC3C-4E60-B78F-24D588C6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67F-C0C7-4D3D-B7EC-CC8101D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477-E12E-4F9A-858C-DA80663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AA9-4592-4763-8839-2AE98085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CAA6-389D-4408-AAE0-26EC53CFE2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A855-83EB-46D2-80E8-5F466BFC51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DA8-5252-4787-A009-213AE76D2E98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x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x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647-38EC-458D-AA0D-C5D4798AAC38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4" name="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12E-217A-426F-9A57-5D656053259F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87F-EF24-4157-9095-CE336935B6CB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AC8-D63A-44CA-A6ED-EFA927137956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A53-0CA9-44BF-989F-ECF6A8B0704B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B57-5185-485D-ADEA-C39259F8C870}" type="slidenum">
              <a:t>7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dc:language>en-US</dc:language>
  <cp:lastModifiedBy>Wes Fulton</cp:lastModifiedBy>
  <cp:lastPrinted>2000-12-01T17:55:56Z</cp:lastPrinted>
  <dcterms:modified xsi:type="dcterms:W3CDTF">2011-03-09T04:10:29Z</dcterms:modified>
  <cp:revision>50</cp:revision>
  <dc:subject/>
  <dc:title>6     Weibayes &amp; Weibayes  Substantiation Testing...</dc:title>
</cp:coreProperties>
</file>