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4B9C-8668-4331-8F12-D446E2568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8 11 27  Previous 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20 05 20  Removed LLC on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604F-8184-4ACC-ACAE-6DCA860054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area under each curve = 1, definition of probability density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definition of cumulative distribution function, C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shapes are different because of beta, or slope.  These lines have the same eta, or characteristic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CDF goes to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8A3F-EB42-4C0A-8C03-3747F3AC09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Monte Car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12D2-3CDD-4870-B30E-4439DC73D3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 can convert various Warranty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classes on Life Cycle, Production Reliability (Barri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thing: Weibull Library…. tea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114C-6C93-4E37-B935-E681FDD16C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6104-FF16-48B3-BDDE-EF3F54AEB0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SAA = Army Material Systems Analysis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6321-E80A-4B3E-A686-3EB4DA9B9A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metric: Fit to an equation: y=mx+b.  Parameters are m and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 is non parametric.  No parameters.  Just add and di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BB67-917A-4AF6-A214-263E8B8B82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omial 2 outc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sson: counti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has mean, standard deviation.  Doesn’t work well for lifetime c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mix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 values, Gum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arameter, a delay 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What are the 6 extreme value mode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35CD-10C3-4268-A916-F565CFE16D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9711-5F6A-44F5-8337-4A75F267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EF5D-D9A8-481C-914C-5A05B744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087A-5C82-451B-A095-2B05E11A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D1DE-95DE-4FA1-BFAA-D2E3966C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CC09-DA17-48F6-9927-56F394F4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6A92-D201-4A00-B218-D02510E1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7B84-BC2E-4A9F-9C5C-DE9773DF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27EE-874A-4236-9320-F619A169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3C41-1749-43F1-A1F0-ACF30025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9AE4-A169-4E62-A72B-7C1AA89B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AAEA-0EBE-455C-8F0B-EEE59369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B000-FD60-41C3-A1BD-F0025334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9C87-850E-4264-B123-69B2AD29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196B-D1DF-46FB-9C4A-AA173B8E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7AA2-15F1-4645-B765-0BB853A8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717F-BAAB-4D34-8AA5-54924D47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00D0-CA61-4979-9E66-A28332533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4DB2B-DE8F-48E3-BEF7-A417A2FE9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E44D8-9330-44A6-BC81-F90A5A4A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2B065-0982-4DCC-8E0F-FC674289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7BE19-4443-4135-B068-014E7315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DECD3-5D55-4635-944B-2C46D737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0491-3F55-42D8-8E81-143D051C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5C049-0BD7-4B5E-89A6-625AEEC8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D4090-57F1-422E-9DC0-D3E3E02E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545B7-BBC6-4360-8DBB-42F76004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3F83F-0CB8-437E-9EC1-53D343F1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11ED2-4F08-4C05-83AC-DE2043C6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C5D50-89E5-4E88-BBE2-36850C874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01753-D8C6-4F3C-BD4E-478BCE632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98B8-312E-4967-A20A-5C614AAD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6A1B-94CD-4E52-B019-C2D80442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93AA-3B5D-42F1-BEF4-5DC76DAA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0491-C517-4ABA-948C-BAC8328B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8C17-600F-498E-A75F-179B703D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5589-C1CE-4758-9685-52B0175C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724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92680" y="6532200"/>
            <a:ext cx="19047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6CE7-03E4-41E7-84F0-0D0B0913C7B5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" name="AutoShape 8"/>
            <p:cNvSpPr/>
            <p:nvPr/>
          </p:nvSpPr>
          <p:spPr>
            <a:xfrm flipH="1" rot="5400000">
              <a:off x="131040" y="315648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31040" y="40964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flipH="1" rot="5400000">
              <a:off x="128880" y="503208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AutoShape 11"/>
            <p:cNvSpPr/>
            <p:nvPr/>
          </p:nvSpPr>
          <p:spPr>
            <a:xfrm flipH="1" rot="5400000">
              <a:off x="133200" y="5993640"/>
              <a:ext cx="882360" cy="844560"/>
            </a:xfrm>
            <a:prstGeom prst="parallelogram">
              <a:avLst>
                <a:gd name="adj" fmla="val 553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 flipH="1" rot="5400000">
              <a:off x="131040" y="3380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 rot="5400000">
              <a:off x="128880" y="127080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AutoShape 14"/>
            <p:cNvSpPr/>
            <p:nvPr/>
          </p:nvSpPr>
          <p:spPr>
            <a:xfrm flipH="1" rot="5400000">
              <a:off x="128880" y="221364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1027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1028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034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8" name="AutoShape 1035"/>
            <p:cNvSpPr/>
            <p:nvPr/>
          </p:nvSpPr>
          <p:spPr>
            <a:xfrm flipH="1" rot="5400000">
              <a:off x="131040" y="315648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036"/>
            <p:cNvSpPr/>
            <p:nvPr/>
          </p:nvSpPr>
          <p:spPr>
            <a:xfrm flipH="1" rot="5400000">
              <a:off x="131040" y="40964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037"/>
            <p:cNvSpPr/>
            <p:nvPr/>
          </p:nvSpPr>
          <p:spPr>
            <a:xfrm flipH="1" rot="5400000">
              <a:off x="128880" y="503208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1038"/>
            <p:cNvSpPr/>
            <p:nvPr/>
          </p:nvSpPr>
          <p:spPr>
            <a:xfrm flipH="1" rot="5400000">
              <a:off x="133200" y="5993640"/>
              <a:ext cx="882360" cy="844560"/>
            </a:xfrm>
            <a:prstGeom prst="parallelogram">
              <a:avLst>
                <a:gd name="adj" fmla="val 553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039"/>
            <p:cNvSpPr/>
            <p:nvPr/>
          </p:nvSpPr>
          <p:spPr>
            <a:xfrm flipH="1" rot="5400000">
              <a:off x="131040" y="3380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040"/>
            <p:cNvSpPr/>
            <p:nvPr/>
          </p:nvSpPr>
          <p:spPr>
            <a:xfrm flipH="1" rot="5400000">
              <a:off x="128880" y="127080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041"/>
            <p:cNvSpPr/>
            <p:nvPr/>
          </p:nvSpPr>
          <p:spPr>
            <a:xfrm flipH="1" rot="5400000">
              <a:off x="128880" y="221364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042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043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1044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045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1046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047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1048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1049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1050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1051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1052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1053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1054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1055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056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752640" y="6509880"/>
            <a:ext cx="289548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7147080" y="6497280"/>
            <a:ext cx="1371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7BCD-0FA1-47EA-A88E-1FA5D48D40C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7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132" name="AutoShape 8"/>
            <p:cNvSpPr/>
            <p:nvPr/>
          </p:nvSpPr>
          <p:spPr>
            <a:xfrm flipH="1" rot="5400000">
              <a:off x="131040" y="315648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AutoShape 9"/>
            <p:cNvSpPr/>
            <p:nvPr/>
          </p:nvSpPr>
          <p:spPr>
            <a:xfrm flipH="1" rot="5400000">
              <a:off x="131040" y="40964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utoShape 10"/>
            <p:cNvSpPr/>
            <p:nvPr/>
          </p:nvSpPr>
          <p:spPr>
            <a:xfrm flipH="1" rot="5400000">
              <a:off x="128880" y="503208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AutoShape 11"/>
            <p:cNvSpPr/>
            <p:nvPr/>
          </p:nvSpPr>
          <p:spPr>
            <a:xfrm flipH="1" rot="5400000">
              <a:off x="133200" y="5993640"/>
              <a:ext cx="882360" cy="844560"/>
            </a:xfrm>
            <a:prstGeom prst="parallelogram">
              <a:avLst>
                <a:gd name="adj" fmla="val 553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AutoShape 12"/>
            <p:cNvSpPr/>
            <p:nvPr/>
          </p:nvSpPr>
          <p:spPr>
            <a:xfrm flipH="1" rot="5400000">
              <a:off x="131040" y="338040"/>
              <a:ext cx="892080" cy="844560"/>
            </a:xfrm>
            <a:prstGeom prst="parallelogram">
              <a:avLst>
                <a:gd name="adj" fmla="val 5593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AutoShape 13"/>
            <p:cNvSpPr/>
            <p:nvPr/>
          </p:nvSpPr>
          <p:spPr>
            <a:xfrm flipH="1" rot="5400000">
              <a:off x="128880" y="127080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AutoShape 14"/>
            <p:cNvSpPr/>
            <p:nvPr/>
          </p:nvSpPr>
          <p:spPr>
            <a:xfrm flipH="1" rot="5400000">
              <a:off x="128880" y="2213640"/>
              <a:ext cx="892080" cy="844920"/>
            </a:xfrm>
            <a:prstGeom prst="parallelogram">
              <a:avLst>
                <a:gd name="adj" fmla="val 5590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46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8"/>
          </p:nvPr>
        </p:nvSpPr>
        <p:spPr>
          <a:xfrm>
            <a:off x="365724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C9F9-545C-4482-830B-6F7AD8F4397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32"/>
          <p:cNvSpPr/>
          <p:nvPr/>
        </p:nvSpPr>
        <p:spPr>
          <a:xfrm>
            <a:off x="3753000" y="6510240"/>
            <a:ext cx="28954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Weibull Intr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Introduction to Dr. Bob’s Weibull Engineering Workshop by Wes Fulton and Carl Tarum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05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06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9" name="Slide Number Placeholder 1"/>
          <p:cNvSpPr/>
          <p:nvPr/>
        </p:nvSpPr>
        <p:spPr>
          <a:xfrm>
            <a:off x="7147080" y="6497640"/>
            <a:ext cx="1371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FC93-924E-42A9-AC36-0F3774248AC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Binomi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272" name="Object 4"/>
          <p:cNvGraphicFramePr/>
          <p:nvPr/>
        </p:nvGraphicFramePr>
        <p:xfrm>
          <a:off x="1371600" y="1495440"/>
          <a:ext cx="6705720" cy="46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95440"/>
                    <a:ext cx="670572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2D85-11C0-428C-AAD6-4CA0A3647E3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oisson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1295280" y="1523880"/>
            <a:ext cx="6782040" cy="4697640"/>
          </a:xfrm>
          <a:prstGeom prst="rect">
            <a:avLst/>
          </a:prstGeom>
          <a:ln w="0">
            <a:noFill/>
          </a:ln>
        </p:spPr>
      </p:pic>
      <p:sp>
        <p:nvSpPr>
          <p:cNvPr id="278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E383-B99D-4D1C-9068-B0CB950B706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xponenti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81680" cy="4699080"/>
          </a:xfrm>
          <a:prstGeom prst="rect">
            <a:avLst/>
          </a:prstGeom>
          <a:ln w="0">
            <a:noFill/>
          </a:ln>
        </p:spPr>
      </p:pic>
      <p:sp>
        <p:nvSpPr>
          <p:cNvPr id="282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629E-4F9F-4D57-B468-D34BEB749F8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Norm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1185840" y="1523880"/>
            <a:ext cx="6772320" cy="4691160"/>
          </a:xfrm>
          <a:prstGeom prst="rect">
            <a:avLst/>
          </a:prstGeom>
          <a:ln w="0">
            <a:noFill/>
          </a:ln>
        </p:spPr>
      </p:pic>
      <p:sp>
        <p:nvSpPr>
          <p:cNvPr id="286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1F69-3593-4070-9A6D-DFF0B01D283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Lognormal Distributio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781680" cy="4697640"/>
          </a:xfrm>
          <a:prstGeom prst="rect">
            <a:avLst/>
          </a:prstGeom>
          <a:ln w="0">
            <a:noFill/>
          </a:ln>
        </p:spPr>
      </p:pic>
      <p:sp>
        <p:nvSpPr>
          <p:cNvPr id="290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68B9-BCE9-4404-9502-4AC474EF7AC0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Extreme Value Distributio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Type I Only … (II &amp; III Not Shown)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1"/>
          <a:stretch/>
        </p:blipFill>
        <p:spPr>
          <a:xfrm>
            <a:off x="1201680" y="1523880"/>
            <a:ext cx="6738840" cy="4667400"/>
          </a:xfrm>
          <a:prstGeom prst="rect">
            <a:avLst/>
          </a:prstGeom>
          <a:ln w="0">
            <a:noFill/>
          </a:ln>
        </p:spPr>
      </p:pic>
      <p:sp>
        <p:nvSpPr>
          <p:cNvPr id="294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46C7-C163-4BD6-8A22-BD90BE5F447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Impact"/>
              </a:rPr>
              <a:t>Weibull Distribution … Extreme Value Type III Smallest … USEFUL!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297" name="Picture 3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772320" cy="4691160"/>
          </a:xfrm>
          <a:prstGeom prst="rect">
            <a:avLst/>
          </a:prstGeom>
          <a:ln w="0">
            <a:noFill/>
          </a:ln>
        </p:spPr>
      </p:pic>
      <p:sp>
        <p:nvSpPr>
          <p:cNvPr id="298" name="Straight Connector 4"/>
          <p:cNvSpPr/>
          <p:nvPr/>
        </p:nvSpPr>
        <p:spPr>
          <a:xfrm>
            <a:off x="-2590920" y="4114800"/>
            <a:ext cx="1981440" cy="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Straight Connector 5"/>
          <p:cNvSpPr/>
          <p:nvPr/>
        </p:nvSpPr>
        <p:spPr>
          <a:xfrm flipV="1">
            <a:off x="-2438280" y="2742840"/>
            <a:ext cx="0" cy="152388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Freeform 6"/>
          <p:cNvSpPr/>
          <p:nvPr/>
        </p:nvSpPr>
        <p:spPr>
          <a:xfrm>
            <a:off x="-2357280" y="3032280"/>
            <a:ext cx="1784160" cy="1011240"/>
          </a:xfrm>
          <a:custGeom>
            <a:avLst/>
            <a:gdLst/>
            <a:ahLst/>
            <a:rect l="l" t="t" r="r" b="b"/>
            <a:pathLst>
              <a:path w="1784733" h="1010920">
                <a:moveTo>
                  <a:pt x="0" y="1010920"/>
                </a:moveTo>
                <a:cubicBezTo>
                  <a:pt x="200140" y="713465"/>
                  <a:pt x="400280" y="416010"/>
                  <a:pt x="528810" y="250757"/>
                </a:cubicBezTo>
                <a:cubicBezTo>
                  <a:pt x="657340" y="85504"/>
                  <a:pt x="620617" y="-52207"/>
                  <a:pt x="771181" y="19402"/>
                </a:cubicBezTo>
                <a:cubicBezTo>
                  <a:pt x="921745" y="91011"/>
                  <a:pt x="1263268" y="533522"/>
                  <a:pt x="1432193" y="680414"/>
                </a:cubicBezTo>
                <a:cubicBezTo>
                  <a:pt x="1601118" y="827306"/>
                  <a:pt x="1722304" y="864029"/>
                  <a:pt x="1784733" y="900752"/>
                </a:cubicBezTo>
              </a:path>
            </a:pathLst>
          </a:custGeom>
          <a:noFill/>
          <a:ln w="9360">
            <a:solidFill>
              <a:srgbClr val="1616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Box 9"/>
          <p:cNvSpPr/>
          <p:nvPr/>
        </p:nvSpPr>
        <p:spPr>
          <a:xfrm>
            <a:off x="-2171880" y="42102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PD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Straight Connector 8"/>
          <p:cNvSpPr/>
          <p:nvPr/>
        </p:nvSpPr>
        <p:spPr>
          <a:xfrm>
            <a:off x="-2435400" y="5889600"/>
            <a:ext cx="1981440" cy="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Straight Connector 9"/>
          <p:cNvSpPr/>
          <p:nvPr/>
        </p:nvSpPr>
        <p:spPr>
          <a:xfrm flipV="1">
            <a:off x="-2282760" y="4517640"/>
            <a:ext cx="0" cy="1523880"/>
          </a:xfrm>
          <a:prstGeom prst="line">
            <a:avLst/>
          </a:prstGeom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Freeform 10"/>
          <p:cNvSpPr/>
          <p:nvPr/>
        </p:nvSpPr>
        <p:spPr>
          <a:xfrm>
            <a:off x="-2201760" y="4622760"/>
            <a:ext cx="1773000" cy="1195560"/>
          </a:xfrm>
          <a:custGeom>
            <a:avLst/>
            <a:gdLst/>
            <a:ahLst/>
            <a:rect l="l" t="t" r="r" b="b"/>
            <a:pathLst>
              <a:path w="1773716" h="1195977">
                <a:moveTo>
                  <a:pt x="0" y="1195977"/>
                </a:moveTo>
                <a:cubicBezTo>
                  <a:pt x="200140" y="898522"/>
                  <a:pt x="347032" y="920557"/>
                  <a:pt x="506777" y="810388"/>
                </a:cubicBezTo>
                <a:cubicBezTo>
                  <a:pt x="666522" y="700219"/>
                  <a:pt x="818921" y="637789"/>
                  <a:pt x="958468" y="534965"/>
                </a:cubicBezTo>
                <a:cubicBezTo>
                  <a:pt x="1098015" y="432141"/>
                  <a:pt x="1208183" y="281577"/>
                  <a:pt x="1344058" y="193442"/>
                </a:cubicBezTo>
                <a:cubicBezTo>
                  <a:pt x="1479933" y="105307"/>
                  <a:pt x="1711287" y="-30567"/>
                  <a:pt x="1773716" y="6156"/>
                </a:cubicBezTo>
              </a:path>
            </a:pathLst>
          </a:custGeom>
          <a:noFill/>
          <a:ln w="9360">
            <a:solidFill>
              <a:srgbClr val="16161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Box 15"/>
          <p:cNvSpPr/>
          <p:nvPr/>
        </p:nvSpPr>
        <p:spPr>
          <a:xfrm>
            <a:off x="-2016000" y="598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CD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5709-9434-4E82-B764-C3365B5BA97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Experience Data Vs. Age Dat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Experience data is useful for general trend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otal accumulated operation of all equipm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otal accumulated event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Use technique such as Crow/AMSAA to evaluat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Age data is useful for more precise Weibull engineering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ge = amount of use since new for each equipm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For standard analysis each data value is either…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Occurrence (= age to failure for reliability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uspension [= length of successful operation for reliability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0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F9E7-C9D8-41F9-9DFD-516822FBC8E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New Product Developmen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313" name="Object 4" descr=""/>
          <p:cNvPicPr/>
          <p:nvPr/>
        </p:nvPicPr>
        <p:blipFill>
          <a:blip r:embed="rId1"/>
          <a:stretch/>
        </p:blipFill>
        <p:spPr>
          <a:xfrm>
            <a:off x="7924680" y="152280"/>
            <a:ext cx="828720" cy="25146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eliminary models (parts count,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, MTBF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1st principles: physics of failure (POF) and probabilistic analysis by Monte Carlo simulati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Development testing (“Weibayes” substantiation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Crow/AMSAA for test, analyze and fix (TAAF) effor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ccelerated testing (&amp; step-stress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Prototypes &amp; lead-the-fleet equipmen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…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Weibull library = essentia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315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316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9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992D-24BE-4112-918A-DA3005C5E32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Service &amp; Maintenance Data Analysi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90360" y="2044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Reliability Centered Maintenance (RCM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Need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good age-to-failure records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on failed item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Failure type is IMPORTANT to know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for corrective action!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lso need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age on successful items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(“suspensions”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Warranty: Failure ages known (but suspensions?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Warranty: Month of Production (M.O.P.) vs Months in Service (M.I.S.) includes suspension inf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uperSMITH® can convert from M.O.P.-M.I.S. dat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… </a:t>
            </a: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Weibull library = essentia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323" name="Object 4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000160" cy="175392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325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41D4-0DB7-4E8E-8C4C-8B78BF4888D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9320" y="80604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Impact"/>
              </a:rPr>
              <a:t>What Students Can Do After Graduating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Impact"/>
              </a:rPr>
              <a:t>from the Weibull Workshop …</a:t>
            </a:r>
            <a:endParaRPr b="0" lang="en-US" sz="28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lect and fit a variability model for most measuremen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Interpret non-linear data patterns on probability scaling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recast risk using the selected model with added usage rat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mulate random samples to answer difficult question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Choose between graphical and non-graphical solution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rm a database of previous results to improve accurac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Plan a test to demonstrate capability or reliabilit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Evaluate test results (standard, accelerated, or step-stress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Establish lower and upper confidence bounds for resul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Apply simple related probability models when needed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Perform general trend analysis for tracking progres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14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7" name="Slide Number Placeholder 8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0A2D-F65B-4E61-A9C5-034B6AE31DB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Finally …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he Most Important Thing Is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Impact"/>
              </a:rPr>
              <a:t>The Weibull library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o plan for the future..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tart and maintain a good Weibull library..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ave results from every analysis…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ype of equipment analyzed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ype of usage of analyzed equipment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ype of failure under investigation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odel type, fit type, parameter valu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… 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nd other information as appropriate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6781680" y="2133720"/>
          <a:ext cx="83844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2133720"/>
                    <a:ext cx="8384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4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335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8781-A965-41C0-B864-C11099F4B6E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430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Next …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 the Rest of the Story ...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341" name="Object 4" descr=""/>
          <p:cNvPicPr/>
          <p:nvPr/>
        </p:nvPicPr>
        <p:blipFill>
          <a:blip r:embed="rId1"/>
          <a:stretch/>
        </p:blipFill>
        <p:spPr>
          <a:xfrm>
            <a:off x="5791320" y="685800"/>
            <a:ext cx="2617560" cy="2090880"/>
          </a:xfrm>
          <a:prstGeom prst="rect">
            <a:avLst/>
          </a:prstGeom>
          <a:ln w="0">
            <a:noFill/>
          </a:ln>
        </p:spPr>
      </p:pic>
      <p:sp>
        <p:nvSpPr>
          <p:cNvPr id="342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BFA4-7197-44DB-B117-A6C176B95C8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Student Intro’s</a:t>
            </a: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nam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current job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experience with Weibull (if any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goals for the clas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1" name="Slide Number Placeholder 1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7A6D-EB03-4FE2-A90D-62873202B252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To Begi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What is reliability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Point estimates related to reliability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Variability vs. Point estimat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tandard variability distribution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New product development techniqu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rvice data analysis ... warranty dat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Impact"/>
              </a:rPr>
              <a:t>The most important thing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25" name="Object 4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2622600" cy="2819160"/>
          </a:xfrm>
          <a:prstGeom prst="rect">
            <a:avLst/>
          </a:prstGeom>
          <a:ln w="0">
            <a:noFill/>
          </a:ln>
        </p:spPr>
      </p:pic>
      <p:grpSp>
        <p:nvGrpSpPr>
          <p:cNvPr id="226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27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17BF-D37C-421E-ACBF-DC436A6E47AD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What Is Reliability?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624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Reliability (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)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Impact"/>
              </a:rPr>
              <a:t>probability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of succes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Or …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 = 1 - (probability of failure)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Impact"/>
              </a:rPr>
              <a:t>Need a good specification of what is acceptable and what is not acceptabl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Actual reliability can change: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design or with different assembl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length of service requiremen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duty cycle and different loading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different environment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changes in quality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With changes in maintenance practice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Impact"/>
              </a:rPr>
              <a:t>So … reliability is a moving target ! ! !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34" name="Object 4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301840" cy="327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Object 5"/>
          <p:cNvGraphicFramePr/>
          <p:nvPr/>
        </p:nvGraphicFramePr>
        <p:xfrm>
          <a:off x="6559560" y="5200560"/>
          <a:ext cx="1276200" cy="127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9560" y="5200560"/>
                    <a:ext cx="127620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7" name="Group 6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38" name="Rounded Rectangle 7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Rectangle 8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Freeform 9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1" name="Slide Number Placeholder 3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3155-F117-40AF-9DB4-A8D23F464BD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Point Estimates Related to Reliability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 estimate = (successes) / (trial quantity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Mean time between failure ... “MTBF”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eaningful for repairable item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Cumulative MTBF (easy!) = (total time) / (total failures)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Instantaneous MTBF … get from Crow/AMSAA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Mean time to failure – “MTTF”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Meaningful for non-repairable item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1st moment of life distribution … “expected life”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Availability = (total up-time) / (total time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245" name="Object 4" descr=""/>
          <p:cNvPicPr/>
          <p:nvPr/>
        </p:nvPicPr>
        <p:blipFill>
          <a:blip r:embed="rId1"/>
          <a:stretch/>
        </p:blipFill>
        <p:spPr>
          <a:xfrm>
            <a:off x="7238880" y="1066680"/>
            <a:ext cx="1155960" cy="158904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5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47" name="Rounded Rectangle 6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Rectangle 7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5003-0EF1-42F2-A1BF-A821AC22868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Variability Vs. Point Estimat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rials (go/no-go) without failure … point estimate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00 trials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= 100%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 trial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= 100% … same! … Is this point estimate useful?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Binomial w/90% confidence … variability estimate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00 trials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&gt;= 97.7 %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1 trial …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Impact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&gt;= 10 % … so! They are different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Variability estimates can often be more useful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Which type of variability model to use?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Non-parametric: 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Impact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 moment, 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Impact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, ... ( e.g. mean, median, range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Parametric: Weibull, lognormal … (y=Par1(x) +Par2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Impact"/>
              </a:rPr>
              <a:t>Parametric accuracy  is much better than non-parametric … if model is correct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54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55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8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F0BF-0659-4C2E-9A51-FB8D3F51C55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1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Slide Number Placeholder 1"/>
          <p:cNvSpPr/>
          <p:nvPr/>
        </p:nvSpPr>
        <p:spPr>
          <a:xfrm>
            <a:off x="6593040" y="6532560"/>
            <a:ext cx="1904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21A6-C546-4F89-9488-BDD3DB2A5366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4"/>
          <p:cNvSpPr/>
          <p:nvPr/>
        </p:nvSpPr>
        <p:spPr>
          <a:xfrm>
            <a:off x="3657600" y="6496200"/>
            <a:ext cx="2895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opyright 2006 - Wes Fult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Impact"/>
              </a:rPr>
              <a:t>Standard Parametric Variability Distributions and Their Relationship</a:t>
            </a:r>
            <a:endParaRPr b="0" lang="en-US" sz="4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Binomial … for discrete outcomes … only two choic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Poisson …  for discrete outcomes … events occurring vs. Operating time, wire length, inspection area, etc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Exponential … first term of the Poisson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Normal… aka “Gaussian” or “bell curve.”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Impact"/>
              </a:rPr>
              <a:t>Lognormal… log-values of data have normal distribution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Extreme value … every individual data value is the smallest (or largest) from a group of samples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99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Weibull … extreme value type III smallest … can be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Impact"/>
              </a:rPr>
              <a:t>1-parameter, 2-parameter (standard), or 3-parameter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1b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Impact"/>
              </a:rPr>
              <a:t>NOTE:  Mixtures could have even more parameters (4, 5, 7)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8880480" y="6479640"/>
            <a:ext cx="106200" cy="225720"/>
            <a:chOff x="8880480" y="6479640"/>
            <a:chExt cx="106200" cy="225720"/>
          </a:xfrm>
        </p:grpSpPr>
        <p:sp>
          <p:nvSpPr>
            <p:cNvPr id="266" name="Rounded Rectangle 5"/>
            <p:cNvSpPr/>
            <p:nvPr/>
          </p:nvSpPr>
          <p:spPr>
            <a:xfrm rot="16200000">
              <a:off x="8867880" y="6586560"/>
              <a:ext cx="158400" cy="79200"/>
            </a:xfrm>
            <a:prstGeom prst="roundRect">
              <a:avLst>
                <a:gd name="adj" fmla="val 50000"/>
              </a:avLst>
            </a:pr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Rectangle 6"/>
            <p:cNvSpPr/>
            <p:nvPr/>
          </p:nvSpPr>
          <p:spPr>
            <a:xfrm rot="16200000">
              <a:off x="8917560" y="6536880"/>
              <a:ext cx="58680" cy="79200"/>
            </a:xfrm>
            <a:prstGeom prst="rect">
              <a:avLst/>
            </a:prstGeom>
            <a:solidFill>
              <a:srgbClr val="2181b7"/>
            </a:solidFill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Freeform 7"/>
            <p:cNvSpPr/>
            <p:nvPr/>
          </p:nvSpPr>
          <p:spPr>
            <a:xfrm rot="16200000">
              <a:off x="8837280" y="6522840"/>
              <a:ext cx="153000" cy="66600"/>
            </a:xfrm>
            <a:custGeom>
              <a:avLst/>
              <a:gdLst/>
              <a:ahLst/>
              <a:rect l="l" t="t" r="r" b="b"/>
              <a:pathLst>
                <a:path w="1188364" h="583509">
                  <a:moveTo>
                    <a:pt x="0" y="583509"/>
                  </a:moveTo>
                  <a:lnTo>
                    <a:pt x="462537" y="579951"/>
                  </a:lnTo>
                  <a:cubicBezTo>
                    <a:pt x="561567" y="575800"/>
                    <a:pt x="533103" y="572835"/>
                    <a:pt x="594182" y="558603"/>
                  </a:cubicBezTo>
                  <a:cubicBezTo>
                    <a:pt x="655261" y="544371"/>
                    <a:pt x="758442" y="525395"/>
                    <a:pt x="829008" y="494559"/>
                  </a:cubicBezTo>
                  <a:cubicBezTo>
                    <a:pt x="899574" y="463723"/>
                    <a:pt x="966583" y="426366"/>
                    <a:pt x="1017581" y="373589"/>
                  </a:cubicBezTo>
                  <a:cubicBezTo>
                    <a:pt x="1068579" y="320812"/>
                    <a:pt x="1060277" y="197469"/>
                    <a:pt x="1088741" y="135204"/>
                  </a:cubicBezTo>
                  <a:cubicBezTo>
                    <a:pt x="1117205" y="72939"/>
                    <a:pt x="1188364" y="0"/>
                    <a:pt x="1188364" y="0"/>
                  </a:cubicBezTo>
                </a:path>
              </a:pathLst>
            </a:custGeom>
            <a:noFill/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" name="Slide Number Placeholder 2"/>
          <p:cNvSpPr/>
          <p:nvPr/>
        </p:nvSpPr>
        <p:spPr>
          <a:xfrm>
            <a:off x="6778800" y="6496200"/>
            <a:ext cx="174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915B-8149-4EFE-B6AB-B8B7F0DAEB6E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02:04:09Z</dcterms:created>
  <dc:creator>Wes Fulton</dc:creator>
  <dc:description/>
  <dc:language>en-US</dc:language>
  <cp:lastModifiedBy>Carl Tarum</cp:lastModifiedBy>
  <dcterms:modified xsi:type="dcterms:W3CDTF">2020-05-20T16:31:50Z</dcterms:modified>
  <cp:revision>104</cp:revision>
  <dc:subject/>
  <dc:title>No Slide Title</dc:title>
</cp:coreProperties>
</file>