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2B5A-6FAC-4E4B-B19E-A6D948C3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3157-DF82-4E8A-B529-46008348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B7C-B247-42FB-9E5E-5D870AF3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688-4028-4424-BD6A-10219CC8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B985-F97B-47DD-B23F-81635440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D67C-AFD5-4A19-BAF2-27D32567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7A0A-8D49-43BA-A75B-578E006E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9A95-475E-42B6-A45F-4C85719A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1FDC-194C-414F-9C81-ADFF1787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B112-C007-44A1-9D23-2BFE34D4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9C7C-2313-4A0A-91E0-DA733186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4D7-A167-4CEF-9201-E89126BB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6D16-2B4E-48E3-BF41-7E9F9A1D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061B-0F93-41FB-B413-B98265C9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7876-66BC-4EEC-AB72-F65BAAEB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398B-1ECD-4AE0-93AF-DA24A16BF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835B-E959-437F-8DE1-C3D8F689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758-F91F-49CF-9B0A-7DD16B7F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CFE-5C65-428D-ADCA-65A41B6F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9B4-2F46-454E-BA20-229E8D06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A45-7768-4BB2-B3A4-032F4DAF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B99-85E0-4B8F-B5E7-D7C2E9EA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156-F026-4097-98B2-FA6AFC2C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DAF-88AE-401E-AB04-9572901C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1966-06E8-4BA9-8055-087C051B41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75B7-BE2D-45D7-82D5-A2ECF67B03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Organization</a:t>
            </a:r>
            <a:br>
              <a:rPr sz="44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Data Collection Recommendations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s Fult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973840" y="533520"/>
            <a:ext cx="1969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4380-584F-4D8A-AA5E-6F7C8839176D}" type="slidenum">
              <a:t>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eibull Library Goa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archable index of previous resul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mmary of analysis + reference to full da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mple text format for future flexibil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ave intermediate file (w/ later verificatio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dard organiz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 more than 20 fiel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ssential universal inf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itional info in com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7" name="x" descr="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095880" y="4419720"/>
            <a:ext cx="2276640" cy="1593720"/>
          </a:xfrm>
          <a:prstGeom prst="rect">
            <a:avLst/>
          </a:prstGeom>
          <a:ln w="0">
            <a:noFill/>
          </a:ln>
        </p:spPr>
      </p:pic>
      <p:pic>
        <p:nvPicPr>
          <p:cNvPr id="98" name="x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257800" y="3581280"/>
            <a:ext cx="2200320" cy="15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4C3-195C-4BEC-99C5-0691544CFB22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eibull Libr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st Important Part of Weibull Enginee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Useful as Lessons-Learned databa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Enables and justifies Weibayes for improved resul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Can Help Easily Generate Library Items after Each Anal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09680" y="3429000"/>
          <a:ext cx="612324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612324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2514600" y="4267080"/>
            <a:ext cx="3352680" cy="1617840"/>
            <a:chOff x="2514600" y="4267080"/>
            <a:chExt cx="3352680" cy="1617840"/>
          </a:xfrm>
        </p:grpSpPr>
        <p:sp>
          <p:nvSpPr>
            <p:cNvPr id="104" name=""/>
            <p:cNvSpPr/>
            <p:nvPr/>
          </p:nvSpPr>
          <p:spPr>
            <a:xfrm>
              <a:off x="2590920" y="4267080"/>
              <a:ext cx="533160" cy="4572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4600" y="5486040"/>
              <a:ext cx="3352680" cy="39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Times New Roman"/>
                </a:rPr>
                <a:t>Easily Generate Library Item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6880" y="4724280"/>
              <a:ext cx="381240" cy="761760"/>
            </a:xfrm>
            <a:prstGeom prst="upArrow">
              <a:avLst>
                <a:gd name="adj1" fmla="val 50000"/>
                <a:gd name="adj2" fmla="val 49953"/>
              </a:avLst>
            </a:prstGeom>
            <a:solidFill>
              <a:srgbClr val="ff9933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09A-20AD-4B7B-8D5C-382F35971FA3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80880" y="762120"/>
          <a:ext cx="76212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762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19320" y="1143000"/>
            <a:ext cx="2286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762120"/>
            <a:ext cx="6019920" cy="178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…Save Library Item As Text Line Upon File Sav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…(TBD) Add Library Item To Library 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…(TBD) Edit Library --------------------------------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…(TBD) Find / View Former Results In Library -----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1447920"/>
            <a:ext cx="8384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236232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2362320"/>
            <a:ext cx="0" cy="10666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543440" y="342900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34520" y="1447920"/>
            <a:ext cx="0" cy="4190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543800" y="5638680"/>
            <a:ext cx="990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9718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Get search input from user … load into item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Show located inform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5029200"/>
            <a:ext cx="495288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Put present results into items for recor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arch LIB-W-FF.TXT for related record(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If similar then insert record there, ELSE appen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4419720"/>
            <a:ext cx="495288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dd, alter, delete records in LIB-W-FF.TX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1905120"/>
            <a:ext cx="457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53280" y="1905120"/>
            <a:ext cx="0" cy="27432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543440" y="4648320"/>
            <a:ext cx="6094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666880"/>
            <a:ext cx="1904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1):           A password may be needed for options D,E,F. Each password is scrambled and saved in an intialization  fil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1055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NOTE(2): Phantom duplicate library file needed for safety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43800" y="8380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(No Password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ftware Weibull Library Selec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66688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For typical library file LIB-W-FF.TX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434-41DD-4B1F-A70D-4463BAB3FD43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Each Weibull Library Record (* = Automatic From Analysis)</a:t>
            </a:r>
            <a:endParaRPr b="0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* Path\Filename of complete analysis … (update if changed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Title … at top of Weibull plo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e record created … YYYY-MM-DD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By … person saving the record … including password ID designation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device … bearing, seal, housing, shaft, solder joint, connector, IC, lamp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quipment … actuator, motor, valve,  pump, conveyor, controller, display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mechanism (root cause) … fracture, thinning, leaking, open-circuit, mixed 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customer duty cycle … continuous, on-off schedule, load level, impact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Type of environment … humid, hot, sub-zero, 20DegC-35DegC, vibration, shock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Model type … W, N, L, G-, G+ 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Fit type … rr, rrs, mle, RBAmd,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Confidence type … pvD90, fm-95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units … hours, cycles, months, miles, inches, degK, ..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ypical value … Eta, Mu, MuAL, Xi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variability value … Beta, Sigma, SigF, Del (lo-med-hi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* Data t0 value … t0 (lo-med-hi value) 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(Qty = 4) Comment fields … customizable for each individual libra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4CF-E7C2-44D2-A3E9-E6A384915AEB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Weibull Library Comment Field Possibilitie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1: Detailed Item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rt Nam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2: Detailed Application Descrip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roduct Line or Product Mode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ustom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ilitary or Non-Militar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3: Detailed Time Peri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cord Reference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Beginning of Period to End of Period (Calendar Time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omment 4: Referenc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Report Numbe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Test Procedur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AAC-FAB3-4033-85D4-EDFE3C933AC9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LIB-W-FF.TXT File (Typical Weibull Library File)</a:t>
            </a:r>
            <a:br>
              <a:rPr sz="2800"/>
            </a:b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1 Header Row and 2 Records Shown</a:t>
            </a:r>
            <a:endParaRPr b="0" i="1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447920"/>
            <a:ext cx="8382240" cy="37551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Path/file”, “Title”, “Date”, “By”, “Device”, “Equipment”, “Cause”, “Duty”, “Environment”, “Model”, “Fit”, “Confidence”, “Units”, “Typical (lo/med/hi)”, “Variability (lo/med/hi)”, “t0 (lo/med/hi)”, “Comment1”, “Comment2”, “Comment3”, “Comment4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motor3.w”,  “Cyclone 447 Prototype”, “2002/06/25”, “WF(CY4P)”, “Housing”, “Motor”, “Fracture”, “Continuous@180% N. O. Load”, “90% Humidity”, “Weibull”, “rr”, “pvD90”, “Hours”, “4.3/8.7/11.5”, “2.8/3.6/5.1”, “0/0/0”,”Part#=55232”,”Name=Tri-Cities Traction”, “Analysis 1997/03/01 - 2001/08/22”, “Reliability Report R-887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H:\data\valve16.w”, “Series II Bypass Valve”, “2002/07/04”, “WF(CY4P)”, “Set(1)Journal Bearing:Set(2)Journal Bearing”, “Set(1)Valve:Set(2)Valve”, “Set(1)Contamination:Set(2)Contamination”, “Set(1)Pressure=32psi:Set(2)Pressure=27psi”, “Set(1)320degK:Set(2)340degK”, “Weibull”, “rr”, “pvD90”, “Cycles”, “Set(1)20015/24552/32813:Set(2)38744/43272/48923”, “Set(1)2.3/2.9/3.5:Set(2)1.8/2.2/2.6”, “Set(1)0/415/0:Set(2)0/-1352/0”, “Part#=61248”, “Name=S2”, “Analysis 1995/07/15 - 2002/02/19”, “Warranty Analysis Report W-293”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486400"/>
            <a:ext cx="8382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1): The “:” sign (colon) is used for the entry separator … for example for multiple data se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NOTE(2): Can aggregate individual LIB-W-FF.TXT files into Master Library..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C7F9-C86E-4649-8B62-FD1D7DB02810}" type="slidenum">
              <a:t>7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5:35:44Z</dcterms:created>
  <dc:creator>bob</dc:creator>
  <dc:description/>
  <dc:language>en-US</dc:language>
  <cp:lastModifiedBy>Wes Fulton</cp:lastModifiedBy>
  <cp:lastPrinted>2000-12-01T17:55:56Z</cp:lastPrinted>
  <dcterms:modified xsi:type="dcterms:W3CDTF">2011-03-09T04:10:29Z</dcterms:modified>
  <cp:revision>50</cp:revision>
  <dc:subject/>
  <dc:title>6     Weibayes &amp; Weibayes  Substantiation Testing...</dc:title>
</cp:coreProperties>
</file>