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D06-1950-4C58-95F0-FCFDC51F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F9F-C687-4957-8AA1-26DA6083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B26-70A6-4557-BFE7-1B820C3F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391-275E-4863-8872-88D4A6CA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0E06-C194-4077-B83E-402A6ACE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A835-A5F2-4A69-AA80-923A3EB9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5D11-5EE2-46D9-AA37-BCC52E57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22B1-D6F1-400D-A496-C384BCD7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6CD2-5DBC-42C8-B9DD-B849AF50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3F39-6436-4AA3-8A1B-C2FFE5AF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087A-AB72-4AF5-AEB9-C841EF70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0C3-22C6-4001-ADBF-EA603FDE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F3E2-FD3B-42C8-9E44-9E9C2660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1E47-45C3-4A33-89E8-CDC62B3A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943F-E4E0-4665-8033-1D2EFB0B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54E2-557B-4815-A8DE-9F795B01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369F-10B3-4F62-8EFB-E5EBE482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901-10D0-4104-AF99-BF12DF6A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DA1-F09C-4827-AD2A-02FDFF91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39E-E54B-4B2A-A8C3-D4A05354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EC9-D9BC-4A6C-85C7-9D5DE4FB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D33-A4D7-4E89-8F8F-23C6703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430-8198-4B44-A89A-11A8E662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421-A92B-4FB6-A2E4-E5094FF6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2C6D-A115-4DDE-9C01-F486EEB1B3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D41E-0F76-42A0-B50A-618E59934F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5F72-EEFC-4098-926F-9EF234058BE4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x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x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BDE-4410-4EC2-871A-7F9F38577178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4" name="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1B4-0CE0-4EC9-AAD3-2C1BA6634AFE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986-7252-4570-9A93-90B4AF3B0ACA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3C8-2FF9-4F1B-99E4-81CD57C23590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923-2AEF-422D-B1FE-EAA0C193CEE1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A31-BBE8-46A4-91B7-10BFD118D159}" type="slidenum">
              <a:t>7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dc:language>en-US</dc:language>
  <cp:lastModifiedBy>Wes Fulton</cp:lastModifiedBy>
  <cp:lastPrinted>2000-12-01T17:55:56Z</cp:lastPrinted>
  <dcterms:modified xsi:type="dcterms:W3CDTF">2011-03-09T04:10:29Z</dcterms:modified>
  <cp:revision>50</cp:revision>
  <dc:subject/>
  <dc:title>6     Weibayes &amp; Weibayes  Substantiation Testing...</dc:title>
</cp:coreProperties>
</file>