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D1FD-462A-425E-9352-5E623F08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692D-8AF3-4BD5-8E6E-490EA619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4ED-AEF4-4D89-B979-C3C9EB4D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B57-A752-43E5-A42B-1637F963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0D25-9601-4709-ACBB-4B070075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CD3C-0C35-4C30-9EC5-E2BA96B7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A809-4681-4C33-B66F-9F6DC61B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AD9D-9BF5-4DEE-B097-C4726710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D07A-D83A-47F2-ACD0-EC85BCC4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C3BE-525D-4CB5-A334-327E0A4B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5CF6-561B-45F2-832D-C15899BF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3F24-70A3-4CEE-8847-FEFB5C1E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AD85-0FB6-4145-A31F-EBFA26E9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DC5D-B708-4BEE-8788-7E8C3C26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3CAC-3AD5-48BB-A83E-B34908A4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AD83-3471-40A2-A09C-371F8477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C2A7-5682-498A-9C74-D293DB23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0DD-AE93-4023-9686-D0FBA6AD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C4E-6AC3-4D3B-BE0A-3736CE2C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688-0A12-470F-8022-550753A9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0F42-A9E7-4118-9F09-3CDD66BC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33F-AE7D-404A-8FEA-536CDF2A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80F1-0972-4D8D-B1C2-1935BADD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B12-78FF-4CBC-B5C7-AC0B9A60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B33E-301A-4D95-9F3E-55BEA74383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F21A-0D95-4332-A8C3-06AE94241E3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Organization</a:t>
            </a:r>
            <a:br>
              <a:rPr sz="44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Data Collection Recommendations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s Ful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73840" y="533520"/>
            <a:ext cx="1969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B8CA-0421-4EEB-8FC4-55E7F79F4F57}" type="slidenum">
              <a:t>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Go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archable index of previous 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mmary of analysis + reference to full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e text format for future flexi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ve intermediate file (w/ later verificat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dard organiz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more than 20 fiel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ssential universal inf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itional info in com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x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095880" y="4419720"/>
            <a:ext cx="2276640" cy="1593720"/>
          </a:xfrm>
          <a:prstGeom prst="rect">
            <a:avLst/>
          </a:prstGeom>
          <a:ln w="0">
            <a:noFill/>
          </a:ln>
        </p:spPr>
      </p:pic>
      <p:pic>
        <p:nvPicPr>
          <p:cNvPr id="98" name="x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257800" y="3581280"/>
            <a:ext cx="2200320" cy="15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067E-866A-43F2-AA99-337A10F7A783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eibull Libra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st Important Part of Weibull Engineer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seful as Lessons-Learned datab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nables and justifies Weibayes for improved resul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Can Help Easily Generate Library Items after Each Anal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09680" y="3429000"/>
          <a:ext cx="612324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29000"/>
                    <a:ext cx="612324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2514600" y="4267080"/>
            <a:ext cx="3352680" cy="1617840"/>
            <a:chOff x="2514600" y="4267080"/>
            <a:chExt cx="3352680" cy="1617840"/>
          </a:xfrm>
        </p:grpSpPr>
        <p:sp>
          <p:nvSpPr>
            <p:cNvPr id="104" name=""/>
            <p:cNvSpPr/>
            <p:nvPr/>
          </p:nvSpPr>
          <p:spPr>
            <a:xfrm>
              <a:off x="2590920" y="4267080"/>
              <a:ext cx="53316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4600" y="5486040"/>
              <a:ext cx="335268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Easily Generate Library Item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66880" y="4724280"/>
              <a:ext cx="381240" cy="761760"/>
            </a:xfrm>
            <a:prstGeom prst="upArrow">
              <a:avLst>
                <a:gd name="adj1" fmla="val 50000"/>
                <a:gd name="adj2" fmla="val 49953"/>
              </a:avLst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1FAC-76FD-4B41-BF28-A8CD4BDB115C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80880" y="762120"/>
          <a:ext cx="76212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76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219320" y="11430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762120"/>
            <a:ext cx="6019920" cy="178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…Save Library Item As Text Line Upon File Sav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…(TBD) Add Library Item To Library 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…(TBD) Edit Library ---------------------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…(TBD) Find / View Former Results In Library 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1447920"/>
            <a:ext cx="838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236232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236232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34520" y="1447920"/>
            <a:ext cx="0" cy="4190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543800" y="563868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9718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et search input from user … load into ite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Show located inform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50292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Put present results into items for recor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If similar then insert record there, ELSE appen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4419720"/>
            <a:ext cx="495288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Add, alter, delete records in LIB-W-FF.TX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1905120"/>
            <a:ext cx="457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53280" y="1905120"/>
            <a:ext cx="0" cy="2743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543440" y="4648320"/>
            <a:ext cx="6094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666880"/>
            <a:ext cx="190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1):           A password may be needed for options D,E,F. Each password is scrambled and saved in an intialization  fil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1055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2): Phantom duplicate library file needed for safety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838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(No Password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Weibull Library Sele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66688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For typical library file LIB-W-FF.TX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DA3-E049-49CB-9CD8-72BBFD710F10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ach Weibull Library Record (* = Automatic From Analysis)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* Path\Filename of complete analysis … (update if changed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Title … at top of Weibull plo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e record created … YYYY-MM-D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By … person saving the record … including password ID designation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device … bearing, seal, housing, shaft, solder joint, connector, IC, lamp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quipment … actuator, motor, valve,  pump, conveyor, controller, display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mechanism (root cause) … fracture, thinning, leaking, open-circuit, mixed 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customer duty cycle … continuous, on-off schedule, load level, impact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nvironment … humid, hot, sub-zero, 20DegC-35DegC, vibration, shock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Model type … W, N, L, G-, G+ 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Fit type … rr, rrs, mle, RBAmd,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Confidence type … pvD90, fm-95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units … hours, cycles, months, miles, inches, degK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ypical value … Eta, Mu, MuAL, Xi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variability value … Beta, Sigma, SigF, Del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0 value … t0 (lo-med-hi value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(Qty = 4) Comment fields … customizable for each individual librar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FEA9-7546-4541-94E3-876FAB0A9CA4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Weibull Library Comment Field Possibilitie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1: Detailed Item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am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2: Detailed Application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duct Line or Product Mod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ilitary or Non-Milita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3: Detailed Time Peri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cord Reference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eginning of Period to End of Period (Calendar Tim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4: Referen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po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Test Procedu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A9A9-EFD7-4FC5-ABF5-B3D34154557C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LIB-W-FF.TXT File (Typical Weibull Library File)</a:t>
            </a:r>
            <a:br>
              <a:rPr sz="28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1 Header Row and 2 Records Shown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447920"/>
            <a:ext cx="8382240" cy="37551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Path/file”, “Title”, “Date”, “By”, “Device”, “Equipment”, “Cause”, “Duty”, “Environment”, “Model”, “Fit”, “Confidence”, “Units”, “Typical (lo/med/hi)”, “Variability (lo/med/hi)”, “t0 (lo/med/hi)”, “Comment1”, “Comment2”, “Comment3”, “Comment4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motor3.w”,  “Cyclone 447 Prototype”, “2002/06/25”, “WF(CY4P)”, “Housing”, “Motor”, “Fracture”, “Continuous@180% N. O. Load”, “90% Humidity”, “Weibull”, “rr”, “pvD90”, “Hours”, “4.3/8.7/11.5”, “2.8/3.6/5.1”, “0/0/0”,”Part#=55232”,”Name=Tri-Cities Traction”, “Analysis 1997/03/01 - 2001/08/22”, “Reliability Report R-887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valve16.w”, “Series II Bypass Valve”, “2002/07/04”, “WF(CY4P)”, “Set(1)Journal Bearing:Set(2)Journal Bearing”, “Set(1)Valve:Set(2)Valve”, “Set(1)Contamination:Set(2)Contamination”, “Set(1)Pressure=32psi:Set(2)Pressure=27psi”, “Set(1)320degK:Set(2)340degK”, “Weibull”, “rr”, “pvD90”, “Cycles”, “Set(1)20015/24552/32813:Set(2)38744/43272/48923”, “Set(1)2.3/2.9/3.5:Set(2)1.8/2.2/2.6”, “Set(1)0/415/0:Set(2)0/-1352/0”, “Part#=61248”, “Name=S2”, “Analysis 1995/07/15 - 2002/02/19”, “Warranty Analysis Report W-293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5486400"/>
            <a:ext cx="8382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1): The “:” sign (colon) is used for the entry separator … for example for multiple data set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2): Can aggregate individual LIB-W-FF.TXT files into Master Library..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0F3-EA01-4094-92CA-E85D5CA8FC87}" type="slidenum">
              <a:t>7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5:35:44Z</dcterms:created>
  <dc:creator>bob</dc:creator>
  <dc:description/>
  <dc:language>en-US</dc:language>
  <cp:lastModifiedBy>Wes Fulton</cp:lastModifiedBy>
  <cp:lastPrinted>2000-12-01T17:55:56Z</cp:lastPrinted>
  <dcterms:modified xsi:type="dcterms:W3CDTF">2011-03-09T04:10:29Z</dcterms:modified>
  <cp:revision>50</cp:revision>
  <dc:subject/>
  <dc:title>6     Weibayes &amp; Weibayes  Substantiation Testing...</dc:title>
</cp:coreProperties>
</file>