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FD89-4D70-46EC-9D1A-27652D5E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EAE1-01F2-41A7-8EC4-13219BFC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A3DC-16E2-4A9D-88E5-3F83E9442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37F7-1E4D-477B-BDD7-F45AE4CA0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85AD-371C-4A6D-B536-998BA44C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FC2E-F716-4A02-8B01-3C9A2703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5749-843C-44E5-BD22-B7DD5EB2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A8A0-6884-47A1-ABEF-A8568363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A6AA-E57A-4788-BDBE-5655D2B3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973B-8089-4411-A2AD-740363C0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747C-0652-431B-8CD5-1A0874A9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1908-BD57-4F16-8FE0-29FDC612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94F4-1DB0-4756-9DBF-B5761C8B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AF44-3694-46F5-853D-C9CEB48B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C646-88D8-4878-BBED-82EA9123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6196-E57A-49ED-BA9A-AD8298B31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8805-9933-4266-B946-28895E67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A4F0-98C5-4CFF-AB1E-77B140D5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1950-C93C-4B0E-8208-12B77AD6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5DC8-87D5-4B6B-A58D-450BED35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21A9-2956-4546-BD3F-B6ACFDC1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F1A4-EA3C-40F1-8CBF-22A93D61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19A5-9963-4773-9631-DA4D2B6E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343A-5A58-44AD-A7EB-D6144EA2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1305-0C2E-4529-9557-EF35C2422C5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619D-3185-444A-8635-0711CA5A770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eibull Library Organization</a:t>
            </a:r>
            <a:br>
              <a:rPr sz="4400"/>
            </a:b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Data Collection Recommendations</a:t>
            </a:r>
            <a:endParaRPr b="0" i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s Fult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973840" y="533520"/>
            <a:ext cx="196992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04FC-8868-407A-90C8-9C163CB48C77}" type="slidenum">
              <a:t>1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eibull Library Goa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archable index of previous resul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mmary of analysis + reference to full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mple text format for future flexibil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ve intermediate file (w/ later verificatio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ndard organiz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 more than 20 fiel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ssential universal inf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dditional info in comm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7" name="x" descr="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6095880" y="4419720"/>
            <a:ext cx="2276640" cy="1593720"/>
          </a:xfrm>
          <a:prstGeom prst="rect">
            <a:avLst/>
          </a:prstGeom>
          <a:ln w="0">
            <a:noFill/>
          </a:ln>
        </p:spPr>
      </p:pic>
      <p:pic>
        <p:nvPicPr>
          <p:cNvPr id="98" name="x" descr="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5257800" y="3581280"/>
            <a:ext cx="2200320" cy="154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6ECB-F7C1-4C16-9A0C-4490ED8822E5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eibull Libra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st Important Part of Weibull Engineer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Useful as Lessons-Learned databa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nables and justifies Weibayes for improved resul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ftware Can Help Easily Generate Library Items after Each Analy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209680" y="3429000"/>
          <a:ext cx="6123240" cy="25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429000"/>
                    <a:ext cx="612324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" name=""/>
          <p:cNvGrpSpPr/>
          <p:nvPr/>
        </p:nvGrpSpPr>
        <p:grpSpPr>
          <a:xfrm>
            <a:off x="2514600" y="4267080"/>
            <a:ext cx="3352680" cy="1617840"/>
            <a:chOff x="2514600" y="4267080"/>
            <a:chExt cx="3352680" cy="1617840"/>
          </a:xfrm>
        </p:grpSpPr>
        <p:sp>
          <p:nvSpPr>
            <p:cNvPr id="104" name=""/>
            <p:cNvSpPr/>
            <p:nvPr/>
          </p:nvSpPr>
          <p:spPr>
            <a:xfrm>
              <a:off x="2590920" y="4267080"/>
              <a:ext cx="53316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14600" y="5486040"/>
              <a:ext cx="335268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Easily Generate Library Items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66880" y="4724280"/>
              <a:ext cx="381240" cy="761760"/>
            </a:xfrm>
            <a:prstGeom prst="upArrow">
              <a:avLst>
                <a:gd name="adj1" fmla="val 50000"/>
                <a:gd name="adj2" fmla="val 49953"/>
              </a:avLst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8125-6CC6-4657-B5B8-B1762E6AA84D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380880" y="762120"/>
          <a:ext cx="76212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62120"/>
                    <a:ext cx="762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1219320" y="114300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762120"/>
            <a:ext cx="6019920" cy="178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…Save Library Item As Text Line Upon File Sav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…(TBD) Add Library Item To Library ----------------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…(TBD) Edit Library -------------------------------------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…(TBD) Find / View Former Results In Library -----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96080" y="1447920"/>
            <a:ext cx="838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2362320"/>
            <a:ext cx="1526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48720" y="2362320"/>
            <a:ext cx="0" cy="10666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34520" y="1447920"/>
            <a:ext cx="0" cy="41907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7543800" y="5638680"/>
            <a:ext cx="9907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2971800"/>
            <a:ext cx="4952880" cy="1202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Get search input from user … load into item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Search LIB-W-FF.TXT for related record(s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Show located informa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5029200"/>
            <a:ext cx="4952880" cy="1202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Put present results into items for recor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Search LIB-W-FF.TXT for related record(s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If similar then insert record there, ELSE appen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4419720"/>
            <a:ext cx="495288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Add, alter, delete records in LIB-W-FF.TX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1905120"/>
            <a:ext cx="457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153280" y="1905120"/>
            <a:ext cx="0" cy="27432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543440" y="4648320"/>
            <a:ext cx="6094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2666880"/>
            <a:ext cx="1904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NOTE(1):           A password may be needed for options D,E,F. Each password is scrambled and saved in an intialization  fil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51055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NOTE(2): Phantom duplicate library file needed for safety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43800" y="838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(No Password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3808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ftware Weibull Library Selec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666880"/>
            <a:ext cx="53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For typical library file LIB-W-FF.TXT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7EA3-CA35-421C-920A-8E2621E5FBCD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Each Weibull Library Record (* = Automatic From Analysis)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* Path\Filename of complete analysis … (update if changed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Title … at top of Weibull plo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e record created … YYYY-MM-DD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By … person saving the record … including password ID designation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device … bearing, seal, housing, shaft, solder joint, connector, IC, lamp.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equipment … actuator, motor, valve,  pump, conveyor, controller, display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mechanism (root cause) … fracture, thinning, leaking, open-circuit, mixed 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customer duty cycle … continuous, on-off schedule, load level, impact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environment … humid, hot, sub-zero, 20DegC-35DegC, vibration, shock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Model type … W, N, L, G-, G+ 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Fit type … rr, rrs, mle, RBAmd,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Confidence type … pvD90, fm-95, .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units … hours, cycles, months, miles, inches, degK, .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typical value … Eta, Mu, MuAL, Xi (lo-med-hi)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variability value … Beta, Sigma, SigF, Del (lo-med-hi)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t0 value … t0 (lo-med-hi value)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(Qty = 4) Comment fields … customizable for each individual librar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8A6F-7102-4846-83B5-685248F08198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Weibull Library Comment Field Possibilitie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1: Detailed Item Descrip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rt Numb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rt Nam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2: Detailed Application Descrip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roduct Line or Product Mode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ilitary or Non-Militar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3: Detailed Time Perio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Record Reference Numb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Beginning of Period to End of Period (Calendar Tim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4: Referenc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Report Numb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Test Procedu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8D89-B9B8-45C6-9E3A-3E625C555E79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LIB-W-FF.TXT File (Typical Weibull Library File)</a:t>
            </a:r>
            <a:br>
              <a:rPr sz="2800"/>
            </a:b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1 Header Row and 2 Records Shown</a:t>
            </a:r>
            <a:endParaRPr b="0" i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447920"/>
            <a:ext cx="8382240" cy="37551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Path/file”, “Title”, “Date”, “By”, “Device”, “Equipment”, “Cause”, “Duty”, “Environment”, “Model”, “Fit”, “Confidence”, “Units”, “Typical (lo/med/hi)”, “Variability (lo/med/hi)”, “t0 (lo/med/hi)”, “Comment1”, “Comment2”, “Comment3”, “Comment4”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H:\data\motor3.w”,  “Cyclone 447 Prototype”, “2002/06/25”, “WF(CY4P)”, “Housing”, “Motor”, “Fracture”, “Continuous@180% N. O. Load”, “90% Humidity”, “Weibull”, “rr”, “pvD90”, “Hours”, “4.3/8.7/11.5”, “2.8/3.6/5.1”, “0/0/0”,”Part#=55232”,”Name=Tri-Cities Traction”, “Analysis 1997/03/01 - 2001/08/22”, “Reliability Report R-887”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H:\data\valve16.w”, “Series II Bypass Valve”, “2002/07/04”, “WF(CY4P)”, “Set(1)Journal Bearing:Set(2)Journal Bearing”, “Set(1)Valve:Set(2)Valve”, “Set(1)Contamination:Set(2)Contamination”, “Set(1)Pressure=32psi:Set(2)Pressure=27psi”, “Set(1)320degK:Set(2)340degK”, “Weibull”, “rr”, “pvD90”, “Cycles”, “Set(1)20015/24552/32813:Set(2)38744/43272/48923”, “Set(1)2.3/2.9/3.5:Set(2)1.8/2.2/2.6”, “Set(1)0/415/0:Set(2)0/-1352/0”, “Part#=61248”, “Name=S2”, “Analysis 1995/07/15 - 2002/02/19”, “Warranty Analysis Report W-293”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5486400"/>
            <a:ext cx="8382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NOTE(1): The “:” sign (colon) is used for the entry separator … for example for multiple data set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NOTE(2): Can aggregate individual LIB-W-FF.TXT files into Master Library..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8AA4-19EB-434B-A5A4-3602CE7553D5}" type="slidenum">
              <a:t>7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5:35:44Z</dcterms:created>
  <dc:creator>bob</dc:creator>
  <dc:description/>
  <dc:language>en-US</dc:language>
  <cp:lastModifiedBy>Wes Fulton</cp:lastModifiedBy>
  <cp:lastPrinted>2000-12-01T17:55:56Z</cp:lastPrinted>
  <dcterms:modified xsi:type="dcterms:W3CDTF">2011-03-09T04:10:29Z</dcterms:modified>
  <cp:revision>50</cp:revision>
  <dc:subject/>
  <dc:title>6     Weibayes &amp; Weibayes  Substantiation Testing...</dc:title>
</cp:coreProperties>
</file>