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E4A-F4A3-45A2-8932-D00A3CFD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9E7-78B1-42EF-8105-804DB4C6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8EEB-6E33-4138-98BE-10CA86F6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CA4-9911-4B8D-A308-53EF4A59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E59A-478C-46F1-A57C-771BD35F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032F-9B22-4A3A-8AF4-4D01998B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D56C-FE09-49A1-8F87-32CA7EBF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66A2-527F-4578-AECA-705CDD45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6F8E-100A-4A34-83B6-77FB182D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B2B6-B30C-4B6A-8372-48E81D69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94EB-872A-46EF-A352-0DCBB231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C3C-F8F0-40FB-AC7A-9A66E15B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B1FA-6147-4DD0-821C-030F7C00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784-4447-43D9-A8DB-E98CAB6E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2C9B-9B55-4FB4-9DC3-7D64C82E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E9BB-576F-4DE6-8E59-8A29680E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EFC3-1B48-478F-854C-9FB8B84E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EDFA-0619-42E1-8B8E-32C2521F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9A6-015A-4E8F-8F62-154761C4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B8D-CEA1-4DD1-8F3E-D02C0705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52C-394C-435A-A702-FEB0BC33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1CF-E11C-4F6B-BC1E-A15039CC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C705-3BE8-4516-B868-D2B6DBF4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BA9-2015-406E-B33A-6D984268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1027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1029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1030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ACC2-E1B2-4B88-9B66-082AD00157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6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6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6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9284-654F-4084-8501-FD86B45F36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1E3E-D8FC-4701-8167-59A309A2B5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4403520"/>
            <a:ext cx="7924680" cy="108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erSMITH™ 5.0DT (December 2021) and EARLI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Object 4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89F8-1818-464B-A254-EACBAB677DF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Picture 4" descr="C:\data\x.bmp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C:\data\x.bmp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606F-AF89-42A5-A622-58FE99BB3F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4" name="Object 1028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6" name="Group 1029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7" name="Oval 1030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Text Box 1031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AutoShape 1032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3CBF-770A-49AB-96E5-7959AD4D56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1" name="Object 1026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1027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Line 1029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Line 1030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Line 1031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Line 1032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Line 1033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Line 1034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1035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1036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1037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Line 1038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9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Line 1040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1041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1042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1043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1044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1046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8FD2-D7FB-4716-8C3B-1B9A6ACEDB1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1B32-F431-4FE7-83DD-C277BD3B61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4EFA-F974-47A2-A4B9-E544C6C8EC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cp:keywords/>
  <dc:language>en-US</dc:language>
  <cp:lastModifiedBy>Carl</cp:lastModifiedBy>
  <cp:lastPrinted>2000-12-01T17:55:56Z</cp:lastPrinted>
  <dcterms:modified xsi:type="dcterms:W3CDTF">2019-07-31T20:39:23Z</dcterms:modified>
  <cp:revision>51</cp:revision>
  <dc:subject/>
  <dc:title>6     Weibayes &amp; Weibayes  Substantiation Testing...</dc:title>
</cp:coreProperties>
</file>