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05A-5256-4F01-A0C8-7837E174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1C5-275B-4803-812F-97475EFA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5B7-2E53-4A34-907A-ACD03632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8AA-1D6E-4B7C-9E55-B75F83BF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1A8F-1E79-428B-B8EB-7EAFD4FC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DC01-3F6F-479D-A928-606E1F3F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2CDA-CA7E-4E8D-8768-77B95F73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FEE4-AD49-467C-8DC0-02B8B26B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32A4-EF17-49ED-B7DA-7591661F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9814-96FE-4DFB-92A4-D7194A0A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EB8F-EE66-4750-A230-3E7925AF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FE4-3C0C-4675-9901-5FBB145A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DBF5-D272-4ECE-82F0-5D735A64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FE9E-527C-44CA-8307-68BD939E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2C3C-3FCF-4141-8754-10680655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0BD1-3D08-4C89-89BE-C43B18F4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6DAE-27C5-41D8-8070-1BBE015D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DAD-E453-4B68-ACD9-C2F29616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64E-41DF-41AE-B9C1-E50C6578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A1B-515F-4E20-BD50-4FF54666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D6E-8693-43F9-8087-C0CA423A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CEA-9DDB-4A3B-B5AD-6CA7541B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520-32BF-413E-86BE-C5E8CAA2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B4A-6AF7-4995-9400-16EBFF37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38DD-F54E-48F8-B92D-BB0C1BF78C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D848-FC8A-4D4D-BE24-4EDE674783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0BFB-4EE4-4C26-8177-543C0185F5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Organization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Data Collection Recommendations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4403520"/>
            <a:ext cx="7924680" cy="108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s Ful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erSMITH™ 5.0DT (December 2021) and EARLI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Object 4" descr=""/>
          <p:cNvPicPr/>
          <p:nvPr/>
        </p:nvPicPr>
        <p:blipFill>
          <a:blip r:embed="rId1"/>
          <a:stretch/>
        </p:blipFill>
        <p:spPr>
          <a:xfrm>
            <a:off x="5973840" y="533520"/>
            <a:ext cx="1969920" cy="243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14DE-9C98-426D-BC46-AD0808A628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archable index of previous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y of analysis + reference to ful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text format for future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 intermediate file (w/ later verific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more than 20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sential universal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info in com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Picture 4" descr="C:\data\x.bmp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095880" y="4419720"/>
            <a:ext cx="2276640" cy="159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data\x.bmp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257800" y="3581280"/>
            <a:ext cx="2200320" cy="154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952A-7546-47D7-BFEA-E1D2E1007D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eibull Libr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 Important Part of Weibull Enginee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ful as Lessons-Learned data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ables and justifies Weibayes for improved resul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Can Help Easily Generate Library Items after Each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2209680" y="3429000"/>
          <a:ext cx="612324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612324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Group 1029"/>
          <p:cNvGrpSpPr/>
          <p:nvPr/>
        </p:nvGrpSpPr>
        <p:grpSpPr>
          <a:xfrm>
            <a:off x="2514600" y="4267080"/>
            <a:ext cx="3352680" cy="1617840"/>
            <a:chOff x="2514600" y="4267080"/>
            <a:chExt cx="3352680" cy="1617840"/>
          </a:xfrm>
        </p:grpSpPr>
        <p:sp>
          <p:nvSpPr>
            <p:cNvPr id="107" name="Oval 1030"/>
            <p:cNvSpPr/>
            <p:nvPr/>
          </p:nvSpPr>
          <p:spPr>
            <a:xfrm>
              <a:off x="2590920" y="4267080"/>
              <a:ext cx="5331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Text Box 1031"/>
            <p:cNvSpPr/>
            <p:nvPr/>
          </p:nvSpPr>
          <p:spPr>
            <a:xfrm>
              <a:off x="2514600" y="5486040"/>
              <a:ext cx="335268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Easily Generate Library Ite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AutoShape 1032"/>
            <p:cNvSpPr/>
            <p:nvPr/>
          </p:nvSpPr>
          <p:spPr>
            <a:xfrm>
              <a:off x="2666880" y="4724280"/>
              <a:ext cx="381240" cy="761760"/>
            </a:xfrm>
            <a:prstGeom prst="upArrow">
              <a:avLst>
                <a:gd name="adj1" fmla="val 50000"/>
                <a:gd name="adj2" fmla="val 49953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C16E-4708-4765-BA80-B0B03785D9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1" name="Object 1026"/>
          <p:cNvGraphicFramePr/>
          <p:nvPr/>
        </p:nvGraphicFramePr>
        <p:xfrm>
          <a:off x="380880" y="762120"/>
          <a:ext cx="762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1027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1523880" y="762120"/>
            <a:ext cx="6019920" cy="178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…Save Library Item As Text Line Upon File Sav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…(TBD) Add Library Item To Library 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…(TBD) Edit Library ---------------------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…(TBD) Find / View Former Results In Library 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Line 1029"/>
          <p:cNvSpPr/>
          <p:nvPr/>
        </p:nvSpPr>
        <p:spPr>
          <a:xfrm>
            <a:off x="7696080" y="1447920"/>
            <a:ext cx="838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Line 1030"/>
          <p:cNvSpPr/>
          <p:nvPr/>
        </p:nvSpPr>
        <p:spPr>
          <a:xfrm>
            <a:off x="7696080" y="23623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Line 1031"/>
          <p:cNvSpPr/>
          <p:nvPr/>
        </p:nvSpPr>
        <p:spPr>
          <a:xfrm>
            <a:off x="7848720" y="23623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Line 1032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Line 1033"/>
          <p:cNvSpPr/>
          <p:nvPr/>
        </p:nvSpPr>
        <p:spPr>
          <a:xfrm>
            <a:off x="8534520" y="1447920"/>
            <a:ext cx="0" cy="4190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Line 1034"/>
          <p:cNvSpPr/>
          <p:nvPr/>
        </p:nvSpPr>
        <p:spPr>
          <a:xfrm flipH="1">
            <a:off x="7543800" y="56386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1035"/>
          <p:cNvSpPr/>
          <p:nvPr/>
        </p:nvSpPr>
        <p:spPr>
          <a:xfrm>
            <a:off x="2590920" y="29718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et search input from user … load into i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how located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1036"/>
          <p:cNvSpPr/>
          <p:nvPr/>
        </p:nvSpPr>
        <p:spPr>
          <a:xfrm>
            <a:off x="2590920" y="50292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Put present results into items for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If similar then insert record there, ELSE appe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1037"/>
          <p:cNvSpPr/>
          <p:nvPr/>
        </p:nvSpPr>
        <p:spPr>
          <a:xfrm>
            <a:off x="2590920" y="4419720"/>
            <a:ext cx="49528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dd, alter, delete records in LIB-W-FF.T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Line 1038"/>
          <p:cNvSpPr/>
          <p:nvPr/>
        </p:nvSpPr>
        <p:spPr>
          <a:xfrm>
            <a:off x="7696080" y="190512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9"/>
          <p:cNvSpPr/>
          <p:nvPr/>
        </p:nvSpPr>
        <p:spPr>
          <a:xfrm>
            <a:off x="8153280" y="1905120"/>
            <a:ext cx="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Line 1040"/>
          <p:cNvSpPr/>
          <p:nvPr/>
        </p:nvSpPr>
        <p:spPr>
          <a:xfrm flipH="1">
            <a:off x="7543440" y="4648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1041"/>
          <p:cNvSpPr/>
          <p:nvPr/>
        </p:nvSpPr>
        <p:spPr>
          <a:xfrm>
            <a:off x="533520" y="266688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1):           A password may be needed for options D,E,F. Each password is scrambled and saved in an intialization  fil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1042"/>
          <p:cNvSpPr/>
          <p:nvPr/>
        </p:nvSpPr>
        <p:spPr>
          <a:xfrm>
            <a:off x="5335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2): Phantom duplicate library file needed for safety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1043"/>
          <p:cNvSpPr/>
          <p:nvPr/>
        </p:nvSpPr>
        <p:spPr>
          <a:xfrm>
            <a:off x="7543800" y="838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(No Password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1044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Weibull Library Se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1046"/>
          <p:cNvSpPr/>
          <p:nvPr/>
        </p:nvSpPr>
        <p:spPr>
          <a:xfrm>
            <a:off x="2362320" y="26668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For typical library file LIB-W-FF.TX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B331-7CAB-4943-82E5-5BA8C4D837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ach Weibull Library Record (* = Automatic From Analysis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* Path\Filename of complete analysis … (update if change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Title … at top of Weibull plo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e record created … YYYY-MM-D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By … person saving the record … including password ID designation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device … bearing, seal, housing, shaft, solder joint, connector, IC, lamp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quipment … actuator, motor, valve,  pump, conveyor, controller, display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mechanism (root cause) … fracture, thinning, leaking, open-circuit, mixed 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customer duty cycle … continuous, on-off schedule, load level, impact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nvironment … humid, hot, sub-zero, 20DegC-35DegC, vibration, shock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Model type … W, N, L, G-, G+ 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Fit type … rr, rrs, mle, RBAmd,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Confidence type … pvD90, fm-95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units … hours, cycles, months, miles, inches, degK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ypical value … Eta, Mu, MuAL, Xi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variability value … Beta, Sigma, SigF, Del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0 value … t0 (lo-med-hi value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(Qty = 4) Comment fields … customizable for each individual libra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D976-9E57-4474-9BAE-7183E6C89C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ibull Library Comment Field Possibiliti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1: Detailed Item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a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2: Detailed Application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duct Line or Product Mod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ilitary or Non-Milita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3: Detailed Time Peri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rd Reference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ginning of Period to End of Period (Calendar Tim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4: Referen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po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est Proced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84AE-26F4-48F6-8156-C07BDDF542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LIB-W-FF.TXT File (Typical Weibull Library File)</a:t>
            </a:r>
            <a:br>
              <a:rPr sz="28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1 Header Row and 2 Records Shown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0880" y="1447920"/>
            <a:ext cx="8382240" cy="37551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Path/file”, “Title”, “Date”, “By”, “Device”, “Equipment”, “Cause”, “Duty”, “Environment”, “Model”, “Fit”, “Confidence”, “Units”, “Typical (lo/med/hi)”, “Variability (lo/med/hi)”, “t0 (lo/med/hi)”, “Comment1”, “Comment2”, “Comment3”, “Comment4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motor3.w”,  “Cyclone 447 Prototype”, “2002/06/25”, “WF(CY4P)”, “Housing”, “Motor”, “Fracture”, “Continuous@180% N. O. Load”, “90% Humidity”, “Weibull”, “rr”, “pvD90”, “Hours”, “4.3/8.7/11.5”, “2.8/3.6/5.1”, “0/0/0”,”Part#=55232”,”Name=Tri-Cities Traction”, “Analysis 1997/03/01 - 2001/08/22”, “Reliability Report R-887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valve16.w”, “Series II Bypass Valve”, “2002/07/04”, “WF(CY4P)”, “Set(1)Journal Bearing:Set(2)Journal Bearing”, “Set(1)Valve:Set(2)Valve”, “Set(1)Contamination:Set(2)Contamination”, “Set(1)Pressure=32psi:Set(2)Pressure=27psi”, “Set(1)320degK:Set(2)340degK”, “Weibull”, “rr”, “pvD90”, “Cycles”, “Set(1)20015/24552/32813:Set(2)38744/43272/48923”, “Set(1)2.3/2.9/3.5:Set(2)1.8/2.2/2.6”, “Set(1)0/415/0:Set(2)0/-1352/0”, “Part#=61248”, “Name=S2”, “Analysis 1995/07/15 - 2002/02/19”, “Warranty Analysis Report W-293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80880" y="5486400"/>
            <a:ext cx="838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1): The “:” sign (colon) is used for the entry separator … for example for multiple data se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2): Can aggregate individual LIB-W-FF.TXT files into Master Library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5:35:44Z</dcterms:created>
  <dc:creator>bob</dc:creator>
  <dc:description/>
  <cp:keywords/>
  <dc:language>en-US</dc:language>
  <cp:lastModifiedBy>Carl</cp:lastModifiedBy>
  <cp:lastPrinted>2000-12-01T17:55:56Z</cp:lastPrinted>
  <dcterms:modified xsi:type="dcterms:W3CDTF">2019-07-31T20:39:23Z</dcterms:modified>
  <cp:revision>51</cp:revision>
  <dc:subject/>
  <dc:title>6     Weibayes &amp; Weibayes  Substantiation Testing...</dc:title>
</cp:coreProperties>
</file>