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F73-0793-4693-A6CE-1D30DA58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F57-2966-4142-9595-B3656484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EA6-E86F-43D8-AC4D-3F0B1377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71A-A862-4125-8559-D0CB05A1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2D65-E7A8-41F7-9EBD-0D140B89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92D9-0F13-4C15-8BAB-515993D6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01B-572F-42F7-882B-AC362AF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DE5B-BD76-429C-A8A8-63DA447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005-3105-4387-884F-18EC71FA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2E0-4316-4D82-A69E-911E63C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B406-012A-43D0-B209-CA58AC9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C05-A21B-4E57-B600-8E6AD6B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7B5-01DC-4C1F-86AF-2C669C0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24A-9E35-4F8C-BDA4-2AE6653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4EC-9888-42B3-9208-19544C5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7EFA-2E90-429D-82B7-9EC8B3A8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2129-8671-446C-9755-FC99A9F3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436-0D08-437F-8147-5414CD76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97E-B24F-400E-A7C2-2F4FF30C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EE-7F19-484A-8DBB-13E9FF9F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1D8-7985-420D-A022-CDDD274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63F-1FAB-48EF-BCF5-7A17387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248-8508-46EA-9814-3D9F318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4D1-7005-4A8E-81B0-7D076F5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CEB-202D-4D5E-8E29-9A7CA825B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A14-0964-47A9-9C1F-5015B6A894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1A3-F117-4277-93D1-CA2F859071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4403520"/>
            <a:ext cx="792468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SMITH™ 5.0DT (December 2021) and EARL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C9B-BA66-4272-82D5-347530A039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Picture 4" descr="C:\data\x.bmp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ata\x.bmp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539-4BA6-47C1-AAD2-F2C9A08780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Group 1029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7" name="Oval 1030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1031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AutoShape 1032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0221-86C7-4474-832F-DD7E235C3F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Object 1026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1027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Line 1029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1030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1031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Line 1032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Line 1033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Line 1034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1035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1036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1037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038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9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1040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041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042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1043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044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046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F20-E2B8-4EB3-BC9A-654AFD0E70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C69-920D-4264-8770-F35B1BF99D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3D1-C7CA-4C21-BEB9-E043901F73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cp:keywords/>
  <dc:language>en-US</dc:language>
  <cp:lastModifiedBy>Carl</cp:lastModifiedBy>
  <cp:lastPrinted>2000-12-01T17:55:56Z</cp:lastPrinted>
  <dcterms:modified xsi:type="dcterms:W3CDTF">2019-07-31T20:39:23Z</dcterms:modified>
  <cp:revision>51</cp:revision>
  <dc:subject/>
  <dc:title>6     Weibayes &amp; Weibayes  Substantiation Testing...</dc:title>
</cp:coreProperties>
</file>