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43C3-8C3A-4C9A-AD5C-3078FED60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8 11 27  Previous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20 05 20  Removed LLC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BEEE-509D-41A8-AE42-123019D12A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area under each curve = 1, definition of probability density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definition of cumulative distribution function, C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hapes are different because of beta, or slope.  These lines have the same eta, or characteris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CDF goes 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3F21-DF15-43BE-832B-BD894DD860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Monte Ca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4823-8AE0-4B82-9AE6-6DCC71CD46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 can convert various Warrant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classes on Life Cycle, Production Reliability (Barr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thing: Weibull Library…. te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0494-9CBD-4489-B02B-82749BB73D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DC9F-A8EB-4228-828C-9970D531E2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AA = Army Material Systems Analysis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E319-416B-4E11-B826-04BABE19A7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metric: Fit to an equation: y=mx+b.  Parameters are m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is non parametric.  No parameters.  Just add and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4D83-9E99-4C83-874C-8A32B0EFB9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omial 2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sson: count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as mean, standard deviation.  Doesn’t work well for lifetim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mix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values, Gum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rameter, a delay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What are the 6 extreme value mode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8793-424F-446C-9B26-7365D74780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4B4-84BF-4EEC-A5D8-E7773032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B3E-2305-43EB-A8AE-D5303136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6E3-16FB-4E79-8407-69CD7BFA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DD9-FFD9-4B51-AAA1-B8970D32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19AE-B82D-4911-94B5-C3A1D27E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2C93-C794-4F16-B199-98A3A45A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160B-89FF-477B-8E69-3701249F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DB72-3871-4E9C-9F65-D20AA112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214E-2BF4-47CF-8161-72C3341B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B09C-D1DD-4F6A-9CBB-AC0A0332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ECC7-FDA5-46CF-83C9-10A71AFD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5A70-2A65-49B6-B0D2-5541FE26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B95C-4B42-4BEE-A222-74DC6744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89D5-82DA-4935-9D76-D5CB856B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DF41-785F-47D4-B5DE-92BC3081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8C04-D312-433A-8192-EBA69086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2BC6-BD10-4F80-A79B-E6A5502B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2F633-0EE8-4D5A-A0B6-9790EE44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C6357-C656-434A-A773-A41CFB39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DF716-F0F3-4F29-956D-5B6F9010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A31F6-4564-43E6-88B1-60CA91ED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44B2-7F29-43FD-84FA-741F011C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C76-1B3C-4664-A433-0D1FAC87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8331A-EA11-4ED3-95A6-BD8109F2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DDA85-4312-4150-9557-8F59AAA6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67C0-EA49-4C2E-B578-CEEE7C88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C6DA0-D84A-4E83-B7DA-4F6A34C3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6A948-2EE7-4646-A46E-7FC1FAD1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2262F-211A-44AB-95E0-46746164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83881-129C-4303-90B1-1604EFEC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F68-3155-404B-839F-55C4ABA9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70F8-1B3D-4ADB-9884-119B188C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90C-9C07-4E88-8E40-8EF84111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BC4-65D5-40D6-9FEF-4FAE268A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CC3C-857F-409A-AC7E-169D148A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40CA-89EF-40BC-A036-D5B5C17B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2680" y="6532200"/>
            <a:ext cx="1904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2CC9-8D57-42E4-856B-E5808940BA6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34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1035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36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037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038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39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040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041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042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043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044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45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46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47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048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9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1050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1051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1052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1053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054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55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56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52640" y="6509880"/>
            <a:ext cx="289548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47080" y="6497280"/>
            <a:ext cx="1371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7C39-15E6-4C41-851E-F8B1D111FB3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32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46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8378-804B-491E-998F-DBE51FF0231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2"/>
          <p:cNvSpPr/>
          <p:nvPr/>
        </p:nvSpPr>
        <p:spPr>
          <a:xfrm>
            <a:off x="3753000" y="6510240"/>
            <a:ext cx="28954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eibull Int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troduction to Dr. Bob’s Weibull Engineering Workshop by Wes Fulton and Carl Taru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0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Slide Number Placeholder 1"/>
          <p:cNvSpPr/>
          <p:nvPr/>
        </p:nvSpPr>
        <p:spPr>
          <a:xfrm>
            <a:off x="7147080" y="6497640"/>
            <a:ext cx="1371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4EFE-3A9D-4AF1-8F62-D74FDB211E3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inom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371600" y="1495440"/>
          <a:ext cx="670572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95440"/>
                    <a:ext cx="67057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ABBB-C42C-4F6C-A48C-24729DBF939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sson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469764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DA61-26C9-4A98-A1EF-9F468478437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onent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9080"/>
          </a:xfrm>
          <a:prstGeom prst="rect">
            <a:avLst/>
          </a:prstGeom>
          <a:ln w="0">
            <a:noFill/>
          </a:ln>
        </p:spPr>
      </p:pic>
      <p:sp>
        <p:nvSpPr>
          <p:cNvPr id="282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CA25-A8CC-4E25-A143-B2486211040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18584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8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3083-7289-4975-9B57-C1016168BB7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og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764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531A-8B2A-4D28-BC8A-E96B64288A3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Extreme Value Distribu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Type I Only … (II &amp; III Not Shown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201680" y="1523880"/>
            <a:ext cx="6738840" cy="466740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076B-C20C-459B-A5DC-C3385D06296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Weibull Distribution … Extreme Value Type III Smallest … USEFUL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98" name="Straight Connector 4"/>
          <p:cNvSpPr/>
          <p:nvPr/>
        </p:nvSpPr>
        <p:spPr>
          <a:xfrm>
            <a:off x="-2590920" y="41148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traight Connector 5"/>
          <p:cNvSpPr/>
          <p:nvPr/>
        </p:nvSpPr>
        <p:spPr>
          <a:xfrm flipV="1">
            <a:off x="-2438280" y="27428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6"/>
          <p:cNvSpPr/>
          <p:nvPr/>
        </p:nvSpPr>
        <p:spPr>
          <a:xfrm>
            <a:off x="-2357280" y="3032280"/>
            <a:ext cx="1784160" cy="1011240"/>
          </a:xfrm>
          <a:custGeom>
            <a:avLst/>
            <a:gdLst/>
            <a:ahLst/>
            <a:rect l="l" t="t" r="r" b="b"/>
            <a:pathLst>
              <a:path w="1784733" h="1010920">
                <a:moveTo>
                  <a:pt x="0" y="1010920"/>
                </a:moveTo>
                <a:cubicBezTo>
                  <a:pt x="200140" y="713465"/>
                  <a:pt x="400280" y="416010"/>
                  <a:pt x="528810" y="250757"/>
                </a:cubicBezTo>
                <a:cubicBezTo>
                  <a:pt x="657340" y="85504"/>
                  <a:pt x="620617" y="-52207"/>
                  <a:pt x="771181" y="19402"/>
                </a:cubicBezTo>
                <a:cubicBezTo>
                  <a:pt x="921745" y="91011"/>
                  <a:pt x="1263268" y="533522"/>
                  <a:pt x="1432193" y="680414"/>
                </a:cubicBezTo>
                <a:cubicBezTo>
                  <a:pt x="1601118" y="827306"/>
                  <a:pt x="1722304" y="864029"/>
                  <a:pt x="1784733" y="900752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-2171880" y="4210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P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Straight Connector 8"/>
          <p:cNvSpPr/>
          <p:nvPr/>
        </p:nvSpPr>
        <p:spPr>
          <a:xfrm>
            <a:off x="-2435400" y="58896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Straight Connector 9"/>
          <p:cNvSpPr/>
          <p:nvPr/>
        </p:nvSpPr>
        <p:spPr>
          <a:xfrm flipV="1">
            <a:off x="-2282760" y="45176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Freeform 10"/>
          <p:cNvSpPr/>
          <p:nvPr/>
        </p:nvSpPr>
        <p:spPr>
          <a:xfrm>
            <a:off x="-2201760" y="4622760"/>
            <a:ext cx="1773000" cy="1195560"/>
          </a:xfrm>
          <a:custGeom>
            <a:avLst/>
            <a:gdLst/>
            <a:ahLst/>
            <a:rect l="l" t="t" r="r" b="b"/>
            <a:pathLst>
              <a:path w="1773716" h="1195977">
                <a:moveTo>
                  <a:pt x="0" y="1195977"/>
                </a:moveTo>
                <a:cubicBezTo>
                  <a:pt x="200140" y="898522"/>
                  <a:pt x="347032" y="920557"/>
                  <a:pt x="506777" y="810388"/>
                </a:cubicBezTo>
                <a:cubicBezTo>
                  <a:pt x="666522" y="700219"/>
                  <a:pt x="818921" y="637789"/>
                  <a:pt x="958468" y="534965"/>
                </a:cubicBezTo>
                <a:cubicBezTo>
                  <a:pt x="1098015" y="432141"/>
                  <a:pt x="1208183" y="281577"/>
                  <a:pt x="1344058" y="193442"/>
                </a:cubicBezTo>
                <a:cubicBezTo>
                  <a:pt x="1479933" y="105307"/>
                  <a:pt x="1711287" y="-30567"/>
                  <a:pt x="1773716" y="6156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-2016000" y="598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F517-128F-4207-B725-D30B8B19250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erience Data Vs. Age Dat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xperience data is useful for general tren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operation of all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even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Use technique such as Crow/AMSAA to evalu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data is useful for more precise Weibull engineering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ge = amount of use since new for each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standard analysis each data value is either…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Occurrence (= age to failure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uspension [= length of successful operation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0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73AA-EF0D-49D4-9183-B1D436FA358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w Product Develop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13" name="Object 4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828720" cy="25146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eliminary models (parts count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, MTBF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1st principles: physics of failure (POF) and probabilistic analysis by Monte Carlo simul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evelopment testing (“Weibayes” substantiation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row/AMSAA for test, analyze and fix (TAAF) effor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celerated testing (&amp; step-stres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totypes &amp; lead-the-fleet equi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16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0E04-D9C8-4397-9552-7C2FC9D3162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ervice &amp; Maintenance Data Analysi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2044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liability Centered Maintenance (RC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good age-to-failure record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on failed item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Failure type is IMPORTANT to know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corrective action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lso 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on successful item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(“suspensions”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Failure ages known (but suspensions?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Month of Production (M.O.P.) vs Months in Service (M.I.S.) includes suspension inf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uperSMITH® can convert from M.O.P.-M.I.S. dat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323" name="Object 4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000160" cy="175392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2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8448-6BA0-426E-A87C-476D96B7F12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8060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What Students Can Do After Graduating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from the Weibull Workshop …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lect and fit a variability model for most measu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Interpret non-linear data patterns on probability scal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ecast risk using the selected model with added usage rat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mulate random samples to answer difficult ques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Choose between graphical and non-graphical solu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m a database of previous results to improve accurac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lan a test to demonstrate capability or reliabi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valuate test results (standard, accelerated, or step-stress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stablish lower and upper confidence bounds for resul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pply simple related probability models when neede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erform general trend analysis for tracking progres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14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Slide Number Placeholder 8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FFCD-65C5-4F44-A667-9179861E28C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inally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Most Important Thing Is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The Weibull library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o plan for the future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tart and maintain a good Weibull library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ave results from every analysis…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equipment analyzed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usage of analyzed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failure under investiga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odel type, fit type, parameter valu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nd other information as appropri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6781680" y="2133720"/>
          <a:ext cx="8384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133720"/>
                    <a:ext cx="838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3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C2FD-C437-49E4-8582-D23E5865F5E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xt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the Rest of the Story .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41" name="Object 4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617560" cy="2090880"/>
          </a:xfrm>
          <a:prstGeom prst="rect">
            <a:avLst/>
          </a:prstGeom>
          <a:ln w="0">
            <a:noFill/>
          </a:ln>
        </p:spPr>
      </p:pic>
      <p:sp>
        <p:nvSpPr>
          <p:cNvPr id="342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10D3-28C3-46AD-9888-D50F3437157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tudent Intro’s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current job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experience with Weibull (if any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goals for the clas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6B9A-8ACD-4154-B106-6D0889810A3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o Begi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hat is reliability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oint estimates related to reliabilit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ariability vs. Point estima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andard variability distribu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ew product development techniqu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rvice data analysis ... warranty dat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Impact"/>
              </a:rPr>
              <a:t>The most important th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5" name="Object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2622600" cy="281916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2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3E52-770E-49C5-AA75-5D14F29B20F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 Is Reliability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Reliability 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)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probability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of succes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Or …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= 1 - (probability of failure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eed a good specification of what is acceptable and what is not acceptabl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ctual reliability can change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esign or with different assembl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length of service requi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uty cycle and different load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environ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qua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maintenance practi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So … reliability is a moving target ! ! 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34" name="Object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301840" cy="32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Object 5"/>
          <p:cNvGraphicFramePr/>
          <p:nvPr/>
        </p:nvGraphicFramePr>
        <p:xfrm>
          <a:off x="6559560" y="5200560"/>
          <a:ext cx="12762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9560" y="5200560"/>
                    <a:ext cx="12762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7" name="Group 6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38" name="Rounded Rectangle 7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9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Slide Number Placeholder 3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D64E-B435-4A59-B404-6F741F8965D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nt Estimates Related to Reliabilit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estimate = (successes) / (trial quantity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between failure ... “MTB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umulative MTBF (easy!) = (total time) / (total failure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Instantaneous MTBF … get from Crow/AMSA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to failure – “MTT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non-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st moment of life distribution … “expected life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vailability = (total up-time) / (total time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45" name="Object 4" descr=""/>
          <p:cNvPicPr/>
          <p:nvPr/>
        </p:nvPicPr>
        <p:blipFill>
          <a:blip r:embed="rId1"/>
          <a:stretch/>
        </p:blipFill>
        <p:spPr>
          <a:xfrm>
            <a:off x="7238880" y="1066680"/>
            <a:ext cx="1155960" cy="15890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4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CFEE-241A-43EB-8CB7-A29CC425653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Variability Vs. Point Estimat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rials (go/no-go) without failure … point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 … same! … Is this point estimate useful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inomial w/90% confidence … variability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97.7 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10 % … so! They are different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Variability estimates can often be more usefu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Which type of variability model to use?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Non-parametric: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moment,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, ... ( e.g. mean, median, range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arametric: Weibull, lognormal … (y=Par1(x) +Par2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Parametric accuracy  is much better than non-parametric … if model is correc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55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2245-CF77-4F3B-8F44-70AC9F29A15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A1CA-BCE2-4814-9D94-F9A1E9C1C5A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Standard Parametric Variability Distributions and Their Relationship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Binomial … for discrete outcomes … only two choic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Poisson …  for discrete outcomes … events occurring vs. Operating time, wire length, inspection area, etc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Exponential … first term of the Poiss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Normal… aka “Gaussian” or “bell curve.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Lognormal… log-values of data have normal distributi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xtreme value … every individual data value is the smallest (or largest) from a group of sampl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Weibull … extreme value type III smallest … can b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1-parameter, 2-parameter (standard), or 3-paramet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OTE:  Mixtures could have even more parameters (4, 5, 7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6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D2DF-40A4-4303-832D-7C91A74C69A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2:04:09Z</dcterms:created>
  <dc:creator>Wes Fulton</dc:creator>
  <dc:description/>
  <dc:language>en-US</dc:language>
  <cp:lastModifiedBy>Carl Tarum</cp:lastModifiedBy>
  <dcterms:modified xsi:type="dcterms:W3CDTF">2020-05-20T16:31:50Z</dcterms:modified>
  <cp:revision>104</cp:revision>
  <dc:subject/>
  <dc:title>No Slide Title</dc:title>
</cp:coreProperties>
</file>